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AC74-E910-43FE-896E-C94B28F0BB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0216-3861-4390-B78E-B1E29943C3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63F-AABE-457A-90E8-2B9128A9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C10-43AD-4D73-9DF6-13A5124C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8E8-A53C-4594-95C8-A0DEFD02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78B-0F53-47D0-808C-874CF8D7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281-604B-48DE-81DF-83E4BA4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C17-F270-4789-8859-41CF7394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DEC-C68C-46C0-9367-8BF5F30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A68-688F-4B78-A55B-C2751058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9DD-1053-4FDC-8D28-7C82574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34E-E4B7-49CB-8102-2308BCF0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AE8-5890-4FD7-B5AE-E5BC7FBE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AFF-0BD9-40D1-B674-A6D9AD8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FD39-FD53-4C8A-92FC-69996F2A5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hyperlink" Target="http://wwwcf.elc.iwate-u.ac.jp/jcf/" TargetMode="External"/><Relationship Id="rId2" Type="http://schemas.openxmlformats.org/officeDocument/2006/relationships/hyperlink" Target="http://wwwcf.elc.iwate-u.ac.jp/jcf/" TargetMode="External"/><Relationship Id="rId3" Type="http://schemas.openxmlformats.org/officeDocument/2006/relationships/hyperlink" Target="http://www.lenr-canr.org/" TargetMode="External"/><Relationship Id="rId4" Type="http://schemas.openxmlformats.org/officeDocument/2006/relationships/hyperlink" Target="http://www.lenr-canr.org/" TargetMode="External"/><Relationship Id="rId5" Type="http://schemas.openxmlformats.org/officeDocument/2006/relationships/hyperlink" Target="http://www.iscmns.org/" TargetMode="External"/><Relationship Id="rId6" Type="http://schemas.openxmlformats.org/officeDocument/2006/relationships/hyperlink" Target="http://www.iscmns.org/" TargetMode="External"/><Relationship Id="rId7" Type="http://schemas.openxmlformats.org/officeDocument/2006/relationships/hyperlink" Target="http://www.iscmns.org/" TargetMode="External"/><Relationship Id="rId8" Type="http://schemas.openxmlformats.org/officeDocument/2006/relationships/hyperlink" Target="http://wwwcf.elc.iwate-u.ac.jp/jcf/" TargetMode="External"/><Relationship Id="rId9" Type="http://schemas.openxmlformats.org/officeDocument/2006/relationships/hyperlink" Target="http://wwwcf.elc.iwate-u.ac.jp/jcf/" TargetMode="External"/><Relationship Id="rId10" Type="http://schemas.openxmlformats.org/officeDocument/2006/relationships/hyperlink" Target="http://wwwcf.elc.iwate-u.ac.jp/jcf/" TargetMode="External"/><Relationship Id="rId11" Type="http://schemas.openxmlformats.org/officeDocument/2006/relationships/hyperlink" Target="http://wwwcf.elc.iwate-u.ac.jp/jcf/" TargetMode="External"/><Relationship Id="rId12" Type="http://schemas.openxmlformats.org/officeDocument/2006/relationships/hyperlink" Target="http://www.iscmns.org/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889308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ensed Matter Nuclear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3141720"/>
            <a:ext cx="7993080" cy="302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kito Takah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saka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 be presented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ational Meeting on Frontier of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ala Lumpur, 25-29 Jul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d Siena Workshop,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8C7-2F37-49CE-99D9-E29842202A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809880"/>
            <a:ext cx="3809880" cy="83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505320"/>
            <a:ext cx="3809880" cy="30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3276720"/>
            <a:ext cx="3809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200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2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2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00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32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2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3200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1295280"/>
            <a:ext cx="6324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  (Deposition by applying an weak 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to 1mM Cs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2362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Pd Film : 400 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3733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 and Pd Alternative Lay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000 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80720" y="175248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343400" y="27432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343400" y="365724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343400" y="42667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029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 · 25  · 0.1 (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029200" y="4952880"/>
            <a:ext cx="2666880" cy="1359000"/>
            <a:chOff x="5029200" y="4952880"/>
            <a:chExt cx="2666880" cy="1359000"/>
          </a:xfrm>
        </p:grpSpPr>
        <p:sp>
          <p:nvSpPr>
            <p:cNvPr id="105" name=""/>
            <p:cNvSpPr/>
            <p:nvPr/>
          </p:nvSpPr>
          <p:spPr>
            <a:xfrm>
              <a:off x="5029200" y="4952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lk Pd : 0.1 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548640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purity  99.99 %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486400" y="2895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Ar ion beam sputt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990720"/>
            <a:ext cx="853452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D0E-E32E-402F-8C68-9B416F020F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ematic View of the Experimental Appar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94920" y="1981080"/>
            <a:ext cx="6758640" cy="4258800"/>
            <a:chOff x="1294920" y="1981080"/>
            <a:chExt cx="6758640" cy="4258800"/>
          </a:xfrm>
        </p:grpSpPr>
        <p:grpSp>
          <p:nvGrpSpPr>
            <p:cNvPr id="111" name=""/>
            <p:cNvGrpSpPr/>
            <p:nvPr/>
          </p:nvGrpSpPr>
          <p:grpSpPr>
            <a:xfrm>
              <a:off x="3911760" y="2236680"/>
              <a:ext cx="1218960" cy="1293840"/>
              <a:chOff x="3911760" y="2236680"/>
              <a:chExt cx="1218960" cy="1293840"/>
            </a:xfrm>
          </p:grpSpPr>
          <p:sp>
            <p:nvSpPr>
              <p:cNvPr id="112" name=""/>
              <p:cNvSpPr/>
              <p:nvPr/>
            </p:nvSpPr>
            <p:spPr>
              <a:xfrm>
                <a:off x="3914640" y="2236680"/>
                <a:ext cx="1216080" cy="1217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11760" y="2844720"/>
                <a:ext cx="1218960" cy="685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670200" y="4923000"/>
              <a:ext cx="1162080" cy="3553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0520" y="3300480"/>
              <a:ext cx="1420920" cy="1428840"/>
            </a:xfrm>
            <a:prstGeom prst="ellipse">
              <a:avLst/>
            </a:prstGeom>
            <a:solidFill>
              <a:srgbClr val="cce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778120" y="3906720"/>
              <a:ext cx="1494000" cy="1547640"/>
              <a:chOff x="2778120" y="3906720"/>
              <a:chExt cx="1494000" cy="15476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552840" y="3906720"/>
                <a:ext cx="719280" cy="433080"/>
                <a:chOff x="3552840" y="3906720"/>
                <a:chExt cx="719280" cy="4330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552840" y="3906720"/>
                  <a:ext cx="719280" cy="4330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552840" y="3987360"/>
                  <a:ext cx="719280" cy="26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430440" y="4017600"/>
                <a:ext cx="787680" cy="209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76640" y="4052520"/>
                <a:ext cx="244440" cy="141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06800" y="4165200"/>
                <a:ext cx="158760" cy="29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30480" y="3981240"/>
                <a:ext cx="290520" cy="291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78120" y="4620960"/>
                <a:ext cx="766800" cy="833400"/>
              </a:xfrm>
              <a:custGeom>
                <a:avLst/>
                <a:gdLst>
                  <a:gd name="textAreaLeft" fmla="*/ 27720 w 766800"/>
                  <a:gd name="textAreaRight" fmla="*/ 739080 w 766800"/>
                  <a:gd name="textAreaTop" fmla="*/ 27720 h 833400"/>
                  <a:gd name="textAreaBottom" fmla="*/ 805680 h 833400"/>
                </a:gdLst>
                <a:ahLst/>
                <a:rect l="textAreaLeft" t="textAreaTop" r="textAreaRight" b="textAreaBottom"/>
                <a:pathLst>
                  <a:path w="21600" h="23475">
                    <a:moveTo>
                      <a:pt x="2699" y="0"/>
                    </a:moveTo>
                    <a:arcTo wR="2699" hR="2699" stAng="16200000" swAng="-5400000"/>
                    <a:lnTo>
                      <a:pt x="0" y="20776"/>
                    </a:lnTo>
                    <a:arcTo wR="2699" hR="2699" stAng="10800000" swAng="-5400000"/>
                    <a:lnTo>
                      <a:pt x="18901" y="23475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838600" y="4446000"/>
                <a:ext cx="26496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7640" y="4454280"/>
                <a:ext cx="236520" cy="17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421160" y="2798640"/>
              <a:ext cx="230040" cy="73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2787480"/>
              <a:ext cx="12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60920" y="2817720"/>
              <a:ext cx="388800" cy="57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16520" y="2811600"/>
              <a:ext cx="393840" cy="598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630240" y="3109680"/>
              <a:ext cx="800640" cy="798480"/>
              <a:chOff x="3630240" y="3109680"/>
              <a:chExt cx="800640" cy="798480"/>
            </a:xfrm>
          </p:grpSpPr>
          <p:sp>
            <p:nvSpPr>
              <p:cNvPr id="132" name=""/>
              <p:cNvSpPr/>
              <p:nvPr/>
            </p:nvSpPr>
            <p:spPr>
              <a:xfrm flipH="1" rot="18900000">
                <a:off x="3852360" y="3087720"/>
                <a:ext cx="239760" cy="728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8100000">
                <a:off x="4174920" y="3688560"/>
                <a:ext cx="233280" cy="160200"/>
              </a:xfrm>
              <a:custGeom>
                <a:avLst/>
                <a:gdLst>
                  <a:gd name="textAreaLeft" fmla="*/ 51120 w 233280"/>
                  <a:gd name="textAreaRight" fmla="*/ 182160 w 233280"/>
                  <a:gd name="textAreaTop" fmla="*/ 35280 h 160200"/>
                  <a:gd name="textAreaBottom" fmla="*/ 124920 h 16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flipV="1" rot="10800000">
              <a:off x="4420080" y="3529440"/>
              <a:ext cx="236520" cy="219240"/>
            </a:xfrm>
            <a:custGeom>
              <a:avLst/>
              <a:gdLst>
                <a:gd name="textAreaLeft" fmla="*/ 51840 w 236520"/>
                <a:gd name="textAreaRight" fmla="*/ 184680 w 236520"/>
                <a:gd name="textAreaTop" fmla="*/ 48240 h 219240"/>
                <a:gd name="textAreaBottom" fmla="*/ 171000 h 2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3880" y="2460600"/>
              <a:ext cx="1526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-ray G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94440" y="4216320"/>
              <a:ext cx="46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95720" y="4672080"/>
              <a:ext cx="0" cy="12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4520" y="4222800"/>
              <a:ext cx="0" cy="10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5880" y="1981080"/>
              <a:ext cx="258768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hotoelectron Energy Analy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307040" y="5468760"/>
              <a:ext cx="70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64120" y="5302080"/>
              <a:ext cx="361800" cy="36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900000">
              <a:off x="4710240" y="4017600"/>
              <a:ext cx="527040" cy="888840"/>
            </a:xfrm>
            <a:custGeom>
              <a:avLst/>
              <a:gdLst>
                <a:gd name="textAreaLeft" fmla="*/ 19080 w 527040"/>
                <a:gd name="textAreaRight" fmla="*/ 507960 w 527040"/>
                <a:gd name="textAreaTop" fmla="*/ 19080 h 888840"/>
                <a:gd name="textAreaBottom" fmla="*/ 869760 h 888840"/>
              </a:gdLst>
              <a:ahLst/>
              <a:rect l="textAreaLeft" t="textAreaTop" r="textAreaRight" b="textAreaBottom"/>
              <a:pathLst>
                <a:path w="21600" h="36418">
                  <a:moveTo>
                    <a:pt x="2699" y="0"/>
                  </a:moveTo>
                  <a:arcTo wR="2699" hR="2699" stAng="16200000" swAng="-5400000"/>
                  <a:lnTo>
                    <a:pt x="0" y="33719"/>
                  </a:lnTo>
                  <a:arcTo wR="2699" hR="2699" stAng="10800000" swAng="-5400000"/>
                  <a:lnTo>
                    <a:pt x="18901" y="36418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900000">
              <a:off x="4525920" y="4092120"/>
              <a:ext cx="274680" cy="79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533920" y="5129280"/>
              <a:ext cx="265320" cy="682560"/>
              <a:chOff x="5533920" y="5129280"/>
              <a:chExt cx="265320" cy="682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533920" y="5129280"/>
                <a:ext cx="265320" cy="225360"/>
              </a:xfrm>
              <a:prstGeom prst="ellips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33920" y="5246640"/>
                <a:ext cx="265320" cy="5652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33920" y="5235480"/>
                <a:ext cx="262080" cy="511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481560" y="2171880"/>
              <a:ext cx="1890720" cy="17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48160" y="3840120"/>
              <a:ext cx="276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14840" y="4079880"/>
              <a:ext cx="31608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546880" y="4476600"/>
              <a:ext cx="261720" cy="414360"/>
              <a:chOff x="5546880" y="4476600"/>
              <a:chExt cx="261720" cy="414360"/>
            </a:xfrm>
          </p:grpSpPr>
          <p:sp>
            <p:nvSpPr>
              <p:cNvPr id="152" name=""/>
              <p:cNvSpPr/>
              <p:nvPr/>
            </p:nvSpPr>
            <p:spPr>
              <a:xfrm>
                <a:off x="5546880" y="4476600"/>
                <a:ext cx="261720" cy="4143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5590440" y="4668480"/>
                <a:ext cx="111960" cy="135000"/>
                <a:chOff x="5590440" y="4668480"/>
                <a:chExt cx="111960" cy="135000"/>
              </a:xfrm>
            </p:grpSpPr>
            <p:sp>
              <p:nvSpPr>
                <p:cNvPr id="154" name=""/>
                <p:cNvSpPr/>
                <p:nvPr/>
              </p:nvSpPr>
              <p:spPr>
                <a:xfrm flipH="1" rot="10800000">
                  <a:off x="5590080" y="4668480"/>
                  <a:ext cx="111240" cy="763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591160" y="4732200"/>
                  <a:ext cx="111240" cy="7128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5645160" y="4735080"/>
                <a:ext cx="13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69000" y="4655880"/>
                <a:ext cx="0" cy="17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H="1" flipV="1">
              <a:off x="3311640" y="3509640"/>
              <a:ext cx="1231920" cy="63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05240" y="389880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5468760" y="3798360"/>
              <a:ext cx="110880" cy="136800"/>
              <a:chOff x="5468760" y="3798360"/>
              <a:chExt cx="110880" cy="136800"/>
            </a:xfrm>
          </p:grpSpPr>
          <p:sp>
            <p:nvSpPr>
              <p:cNvPr id="161" name=""/>
              <p:cNvSpPr/>
              <p:nvPr/>
            </p:nvSpPr>
            <p:spPr>
              <a:xfrm flipH="1" rot="10800000">
                <a:off x="5468760" y="3798360"/>
                <a:ext cx="110880" cy="7596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68760" y="3863520"/>
                <a:ext cx="110880" cy="7164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076080" y="3648240"/>
              <a:ext cx="1658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vac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35240" y="5324400"/>
              <a:ext cx="107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4920" y="3267000"/>
              <a:ext cx="178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d C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st Pie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6160" y="4867200"/>
              <a:ext cx="120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-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50280" y="5448240"/>
              <a:ext cx="1753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 Det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58000" y="206676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02120" y="2901960"/>
              <a:ext cx="59040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025960" y="2425680"/>
              <a:ext cx="362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33160" y="5781600"/>
              <a:ext cx="1658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vac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67920" y="3048120"/>
              <a:ext cx="171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amber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72040" y="4114800"/>
              <a:ext cx="169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amber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157720" y="3352680"/>
              <a:ext cx="6098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310000" y="4343400"/>
              <a:ext cx="6858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811-7CEB-4635-A0EF-4F8EDFEDFF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766800"/>
            <a:ext cx="8686800" cy="547524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6084720" y="2852640"/>
            <a:ext cx="2664000" cy="3457800"/>
            <a:chOff x="6084720" y="2852640"/>
            <a:chExt cx="2664000" cy="3457800"/>
          </a:xfrm>
        </p:grpSpPr>
        <p:sp>
          <p:nvSpPr>
            <p:cNvPr id="178" name=""/>
            <p:cNvSpPr/>
            <p:nvPr/>
          </p:nvSpPr>
          <p:spPr>
            <a:xfrm>
              <a:off x="6084720" y="3860640"/>
              <a:ext cx="914400" cy="43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zu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2852640"/>
              <a:ext cx="2016000" cy="43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ahoma"/>
                </a:rPr>
                <a:t>De Ninno, Cela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84720" y="4869000"/>
              <a:ext cx="1079640" cy="431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u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16720" y="5950080"/>
              <a:ext cx="100656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ela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957-18FF-4C94-A0A5-B3D9ABDB16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755640" y="609480"/>
            <a:ext cx="7702560" cy="5915160"/>
            <a:chOff x="755640" y="609480"/>
            <a:chExt cx="7702560" cy="5915160"/>
          </a:xfrm>
        </p:grpSpPr>
        <p:sp>
          <p:nvSpPr>
            <p:cNvPr id="183" name=""/>
            <p:cNvSpPr/>
            <p:nvPr/>
          </p:nvSpPr>
          <p:spPr>
            <a:xfrm>
              <a:off x="914400" y="609480"/>
              <a:ext cx="7315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Is Reproducibility Improved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14400" y="1844640"/>
              <a:ext cx="7543800" cy="4680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c442c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c442c1"/>
                  </a:solidFill>
                  <a:latin typeface="Arial"/>
                </a:rPr>
                <a:t>Excess Heat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100% by D/Pd ratio GE. 1.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1910c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1910c6"/>
                  </a:solidFill>
                  <a:latin typeface="Arial"/>
                </a:rPr>
                <a:t>Nuclear Products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By nano-scale modification of Pd surface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nano-particle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stimulation with Laser, Ultra-Sonic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Plasma-Discharge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5640" y="1557360"/>
              <a:ext cx="7416720" cy="0"/>
            </a:xfrm>
            <a:prstGeom prst="line">
              <a:avLst/>
            </a:prstGeom>
            <a:ln w="57240">
              <a:solidFill>
                <a:srgbClr val="c44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833-647B-4168-9265-4838222378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f7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Problems in Theorization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en-US" sz="3600" spc="-1" strike="noStrike">
                <a:solidFill>
                  <a:srgbClr val="1910c6"/>
                </a:solidFill>
                <a:latin typeface="Arial"/>
              </a:rPr>
              <a:t>construct a Consistent The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ch can explain anomalous results (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heat with </a:t>
            </a:r>
            <a:r>
              <a:rPr b="0" lang="en-US" sz="3600" spc="-1" strike="noStrike" baseline="30000">
                <a:solidFill>
                  <a:srgbClr val="ff3399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He, scarce neutrons, selective transmut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systematic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Theory must be compatible to already established physic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F94-1C16-482E-9230-99CA22A6C7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41520" y="36360"/>
            <a:ext cx="7860960" cy="5585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492360" y="5157720"/>
            <a:ext cx="1224000" cy="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A73-E5BB-428F-8461-4879101F1E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6400" y="0"/>
            <a:ext cx="8069400" cy="580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0D3-9F04-402F-81A8-50972DC59C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468360" y="540720"/>
            <a:ext cx="8480520" cy="6236640"/>
            <a:chOff x="468360" y="540720"/>
            <a:chExt cx="8480520" cy="6236640"/>
          </a:xfrm>
        </p:grpSpPr>
        <p:sp>
          <p:nvSpPr>
            <p:cNvPr id="192" name=""/>
            <p:cNvSpPr/>
            <p:nvPr/>
          </p:nvSpPr>
          <p:spPr>
            <a:xfrm>
              <a:off x="826920" y="540720"/>
              <a:ext cx="7274160" cy="301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Ｐゴシック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303"/>
                  </a:solidFill>
                  <a:latin typeface="ＭＳ Ｐゴシック"/>
                  <a:ea typeface="Times New Roman"/>
                </a:rPr>
                <a:t>D + D → He-4 + lattice energy(23.8MeV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ＭＳ Ｐゴシック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ＭＳ Ｐゴシック"/>
                  <a:ea typeface="Times New Roman"/>
                </a:rPr>
                <a:t>by the QED energy transfer from nuclear excited state (He-4*: 23.8MeV) to lattice phonons.</a:t>
              </a:r>
              <a:r>
                <a:rPr b="0" lang="en-US" sz="3200" spc="-1" strike="noStrike">
                  <a:solidFill>
                    <a:srgbClr val="000000"/>
                  </a:solidFill>
                  <a:latin typeface="ＭＳ Ｐゴシック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360" y="3148200"/>
              <a:ext cx="8480520" cy="362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0000"/>
                  </a:solidFill>
                  <a:latin typeface="ＭＳ Ｐゴシック"/>
                  <a:ea typeface="Times New Roman"/>
                </a:rPr>
                <a:t>IS NOT POSSIBLE by nuclear physics theory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Arata-Fujita-Zhang used 5nm diam. Pd nano-cryst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which contained about 8,000 Pd-atoms per a nano-Pd-parti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ja-JP" sz="2400" spc="-1" strike="noStrike">
                  <a:solidFill>
                    <a:srgbClr val="9900cc"/>
                  </a:solidFill>
                  <a:latin typeface="Times New Roman"/>
                  <a:ea typeface="Times New Roman"/>
                </a:rPr>
                <a:t>If 23.8MeV nuclear excited energy of He-4* were transferre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00cc"/>
                  </a:solidFill>
                  <a:latin typeface="Times New Roman"/>
                  <a:ea typeface="Times New Roman"/>
                </a:rPr>
                <a:t>to share in lattice phonons of a nano-particle, each Pd-atom in a nano-particle of Pd should have had about 3 keV phon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00cc"/>
                  </a:solidFill>
                  <a:latin typeface="Times New Roman"/>
                  <a:ea typeface="Times New Roman"/>
                </a:rPr>
                <a:t>(lattice vibration) energy, which was 100 times greater th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9900cc"/>
                  </a:solidFill>
                  <a:latin typeface="Times New Roman"/>
                  <a:ea typeface="Times New Roman"/>
                </a:rPr>
                <a:t>Pd-atom-displacement energy(20-40 eV) from lattice</a:t>
              </a:r>
              <a:r>
                <a:rPr b="1" lang="ja-JP" sz="1400" spc="-1" strike="noStrike">
                  <a:solidFill>
                    <a:srgbClr val="9900cc"/>
                  </a:solidFill>
                  <a:latin typeface="Times New Roman"/>
                  <a:ea typeface="Times New Roman"/>
                </a:rPr>
                <a:t>.</a:t>
              </a:r>
              <a:r>
                <a:rPr b="0" lang="ja-JP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749-1A53-4AE9-A743-15826D47F5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86800" cy="768240"/>
          </a:xfrm>
          <a:prstGeom prst="rect">
            <a:avLst/>
          </a:prstGeom>
          <a:solidFill>
            <a:srgbClr val="f7f7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+ 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*(23.8MeV) → Break-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df83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224000"/>
            <a:ext cx="4038480" cy="517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Branching Ratio : S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(0)/S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(0)/S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(0) = 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  <a:ea typeface="Arial"/>
              </a:rPr>
              <a:t>Γ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/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  <a:ea typeface="Arial"/>
              </a:rPr>
              <a:t> Γ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  <a:ea typeface="Arial"/>
              </a:rPr>
              <a:t>p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/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  <a:ea typeface="Arial"/>
              </a:rPr>
              <a:t> Γ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  <a:ea typeface="Arial"/>
              </a:rPr>
              <a:t>g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= 0.5/0.5/0.0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2 M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04 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τ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 = h/</a:t>
            </a:r>
            <a:r>
              <a:rPr b="0" lang="el-GR" sz="28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Γ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 = 1E-22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0836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a0836"/>
                </a:solidFill>
                <a:latin typeface="ＭＳ Ｐゴシック"/>
                <a:ea typeface="Arial"/>
              </a:rPr>
              <a:t>No forces to change BRs have ever been propos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6280" y="2259000"/>
            <a:ext cx="1575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302436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6280" y="2798640"/>
            <a:ext cx="2116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85920" y="5273640"/>
            <a:ext cx="2249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6640" y="5051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2360" y="199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2720" y="2486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5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2720" y="28004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8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1680" y="2530440"/>
            <a:ext cx="9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+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47000" y="284328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2349360"/>
            <a:ext cx="0" cy="288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16280" y="2303640"/>
            <a:ext cx="585720" cy="720720"/>
          </a:xfrm>
          <a:prstGeom prst="line">
            <a:avLst/>
          </a:prstGeom>
          <a:ln w="38160">
            <a:solidFill>
              <a:srgbClr val="fa08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214720"/>
            <a:ext cx="630360" cy="539640"/>
          </a:xfrm>
          <a:prstGeom prst="line">
            <a:avLst/>
          </a:prstGeom>
          <a:ln w="38160">
            <a:solidFill>
              <a:srgbClr val="fa083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96280" y="392580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ma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9920" y="509436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e (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67000" y="2124000"/>
            <a:ext cx="1439640" cy="22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560" y="1989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a0836"/>
                </a:solidFill>
                <a:latin typeface="Arial"/>
                <a:ea typeface="Arial"/>
              </a:rPr>
              <a:t>Γ</a:t>
            </a:r>
            <a:r>
              <a:rPr b="0" lang="ja-JP" sz="1400" spc="-1" strike="noStrike">
                <a:solidFill>
                  <a:srgbClr val="fa0836"/>
                </a:solidFill>
                <a:latin typeface="Arial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B92-DF40-431C-AB08-73A13914F3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0" y="6400800"/>
            <a:ext cx="380880" cy="1295280"/>
          </a:xfrm>
          <a:prstGeom prst="diamond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1280" y="254160"/>
            <a:ext cx="8296200" cy="6492240"/>
            <a:chOff x="611280" y="254160"/>
            <a:chExt cx="8296200" cy="6492240"/>
          </a:xfrm>
        </p:grpSpPr>
        <p:sp>
          <p:nvSpPr>
            <p:cNvPr id="216" name=""/>
            <p:cNvSpPr/>
            <p:nvPr/>
          </p:nvSpPr>
          <p:spPr>
            <a:xfrm>
              <a:off x="716040" y="298440"/>
              <a:ext cx="7711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70840" y="254160"/>
              <a:ext cx="7992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910c6"/>
                  </a:solidFill>
                  <a:latin typeface="Tahoma"/>
                </a:rPr>
                <a:t>Classical View of Tetrahedral Sym. Condens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5200" y="914400"/>
              <a:ext cx="1592280" cy="57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1520" y="958680"/>
              <a:ext cx="1447560" cy="57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of Two D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Molecu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(upper and l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Squeezing on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from O-Sites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T-si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3-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Frozen State 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4d+s and 4e-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303"/>
                  </a:solidFill>
                  <a:latin typeface="Tahoma"/>
                </a:rPr>
                <a:t>Quadruplet e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303"/>
                  </a:solidFill>
                  <a:latin typeface="Tahoma"/>
                </a:rPr>
                <a:t>(4,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Formation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Electrons ar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T-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640" y="673200"/>
              <a:ext cx="7967520" cy="6336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1640" y="941400"/>
              <a:ext cx="6284880" cy="5684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004760" y="1257480"/>
              <a:ext cx="5618160" cy="5260680"/>
              <a:chOff x="1004760" y="1257480"/>
              <a:chExt cx="5618160" cy="5260680"/>
            </a:xfrm>
          </p:grpSpPr>
          <p:sp>
            <p:nvSpPr>
              <p:cNvPr id="223" name=""/>
              <p:cNvSpPr/>
              <p:nvPr/>
            </p:nvSpPr>
            <p:spPr>
              <a:xfrm>
                <a:off x="2751120" y="388764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33640" y="4038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45960" y="412416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40200" y="564192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22720" y="57927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36480" y="585000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22720" y="60609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04760" y="225900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87280" y="240984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89880" y="247644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72320" y="1757520"/>
                <a:ext cx="750600" cy="7538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54840" y="1908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66800" y="199404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31840" y="5141880"/>
                <a:ext cx="625680" cy="62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5280" y="52704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60800" y="525132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5280" y="56055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40200" y="2886120"/>
                <a:ext cx="627120" cy="628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05440" y="301464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70600" y="300528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05440" y="3349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76400" y="1257480"/>
                <a:ext cx="625680" cy="626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40200" y="1386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32360" y="135720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40200" y="1720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54680" y="4640400"/>
                <a:ext cx="625320" cy="628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19920" y="47689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75720" y="474012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19920" y="51037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49760" y="3762360"/>
                <a:ext cx="250920" cy="25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1746360" y="2868480"/>
                <a:ext cx="2003400" cy="1020960"/>
                <a:chOff x="1746360" y="2868480"/>
                <a:chExt cx="2003400" cy="10209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746360" y="2868480"/>
                  <a:ext cx="1854000" cy="957240"/>
                </a:xfrm>
                <a:custGeom>
                  <a:avLst/>
                  <a:gdLst/>
                  <a:ahLst/>
                  <a:rect l="l" t="t" r="r" b="b"/>
                  <a:pathLst>
                    <a:path w="1168" h="603">
                      <a:moveTo>
                        <a:pt x="10" y="0"/>
                      </a:moveTo>
                      <a:lnTo>
                        <a:pt x="0" y="23"/>
                      </a:lnTo>
                      <a:lnTo>
                        <a:pt x="1158" y="603"/>
                      </a:lnTo>
                      <a:lnTo>
                        <a:pt x="1168" y="58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549600" y="3722760"/>
                  <a:ext cx="200160" cy="166680"/>
                </a:xfrm>
                <a:custGeom>
                  <a:avLst/>
                  <a:gdLst/>
                  <a:ahLst/>
                  <a:rect l="l" t="t" r="r" b="b"/>
                  <a:pathLst>
                    <a:path w="126" h="105">
                      <a:moveTo>
                        <a:pt x="0" y="105"/>
                      </a:moveTo>
                      <a:lnTo>
                        <a:pt x="126" y="104"/>
                      </a:lnTo>
                      <a:lnTo>
                        <a:pt x="49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370320" y="3984480"/>
                <a:ext cx="379440" cy="174600"/>
                <a:chOff x="3370320" y="3984480"/>
                <a:chExt cx="379440" cy="1746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370320" y="4051440"/>
                  <a:ext cx="218880" cy="107640"/>
                </a:xfrm>
                <a:custGeom>
                  <a:avLst/>
                  <a:gdLst/>
                  <a:ahLst/>
                  <a:rect l="l" t="t" r="r" b="b"/>
                  <a:pathLst>
                    <a:path w="138" h="68">
                      <a:moveTo>
                        <a:pt x="0" y="43"/>
                      </a:moveTo>
                      <a:lnTo>
                        <a:pt x="7" y="68"/>
                      </a:lnTo>
                      <a:lnTo>
                        <a:pt x="138" y="26"/>
                      </a:lnTo>
                      <a:lnTo>
                        <a:pt x="131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552840" y="3984480"/>
                  <a:ext cx="196920" cy="174600"/>
                </a:xfrm>
                <a:custGeom>
                  <a:avLst/>
                  <a:gdLst/>
                  <a:ahLst/>
                  <a:rect l="l" t="t" r="r" b="b"/>
                  <a:pathLst>
                    <a:path w="124" h="110">
                      <a:moveTo>
                        <a:pt x="35" y="110"/>
                      </a:moveTo>
                      <a:lnTo>
                        <a:pt x="124" y="18"/>
                      </a:lnTo>
                      <a:lnTo>
                        <a:pt x="0" y="0"/>
                      </a:lnTo>
                      <a:lnTo>
                        <a:pt x="35" y="11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998880" y="2368440"/>
                <a:ext cx="2009880" cy="1519200"/>
                <a:chOff x="3998880" y="2368440"/>
                <a:chExt cx="2009880" cy="15192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130640" y="2368440"/>
                  <a:ext cx="1878120" cy="1430280"/>
                </a:xfrm>
                <a:custGeom>
                  <a:avLst/>
                  <a:gdLst/>
                  <a:ahLst/>
                  <a:rect l="l" t="t" r="r" b="b"/>
                  <a:pathLst>
                    <a:path w="1183" h="901">
                      <a:moveTo>
                        <a:pt x="1183" y="21"/>
                      </a:moveTo>
                      <a:lnTo>
                        <a:pt x="1168" y="0"/>
                      </a:lnTo>
                      <a:lnTo>
                        <a:pt x="0" y="881"/>
                      </a:lnTo>
                      <a:lnTo>
                        <a:pt x="14" y="901"/>
                      </a:lnTo>
                      <a:lnTo>
                        <a:pt x="1183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998880" y="3703680"/>
                  <a:ext cx="198360" cy="183960"/>
                </a:xfrm>
                <a:custGeom>
                  <a:avLst/>
                  <a:gdLst/>
                  <a:ahLst/>
                  <a:rect l="l" t="t" r="r" b="b"/>
                  <a:pathLst>
                    <a:path w="125" h="116">
                      <a:moveTo>
                        <a:pt x="58" y="0"/>
                      </a:moveTo>
                      <a:lnTo>
                        <a:pt x="0" y="116"/>
                      </a:lnTo>
                      <a:lnTo>
                        <a:pt x="125" y="94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830760" y="4013280"/>
                <a:ext cx="439560" cy="1635120"/>
                <a:chOff x="3830760" y="4013280"/>
                <a:chExt cx="439560" cy="1635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898800" y="4186080"/>
                  <a:ext cx="371520" cy="1462320"/>
                </a:xfrm>
                <a:custGeom>
                  <a:avLst/>
                  <a:gdLst/>
                  <a:ahLst/>
                  <a:rect l="l" t="t" r="r" b="b"/>
                  <a:pathLst>
                    <a:path w="234" h="921">
                      <a:moveTo>
                        <a:pt x="210" y="921"/>
                      </a:moveTo>
                      <a:lnTo>
                        <a:pt x="234" y="914"/>
                      </a:lnTo>
                      <a:lnTo>
                        <a:pt x="24" y="0"/>
                      </a:lnTo>
                      <a:lnTo>
                        <a:pt x="0" y="6"/>
                      </a:lnTo>
                      <a:lnTo>
                        <a:pt x="210" y="9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30760" y="4013280"/>
                  <a:ext cx="176040" cy="201600"/>
                </a:xfrm>
                <a:custGeom>
                  <a:avLst/>
                  <a:gdLst/>
                  <a:ahLst/>
                  <a:rect l="l" t="t" r="r" b="b"/>
                  <a:pathLst>
                    <a:path w="111" h="127">
                      <a:moveTo>
                        <a:pt x="111" y="100"/>
                      </a:moveTo>
                      <a:lnTo>
                        <a:pt x="28" y="0"/>
                      </a:lnTo>
                      <a:lnTo>
                        <a:pt x="0" y="127"/>
                      </a:lnTo>
                      <a:lnTo>
                        <a:pt x="111" y="1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612800" y="4013280"/>
                <a:ext cx="2262240" cy="1404720"/>
                <a:chOff x="1612800" y="4013280"/>
                <a:chExt cx="2262240" cy="1404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612800" y="4105440"/>
                  <a:ext cx="2084400" cy="1312560"/>
                </a:xfrm>
                <a:custGeom>
                  <a:avLst/>
                  <a:gdLst/>
                  <a:ahLst/>
                  <a:rect l="l" t="t" r="r" b="b"/>
                  <a:pathLst>
                    <a:path w="1313" h="827">
                      <a:moveTo>
                        <a:pt x="0" y="794"/>
                      </a:moveTo>
                      <a:lnTo>
                        <a:pt x="19" y="827"/>
                      </a:lnTo>
                      <a:lnTo>
                        <a:pt x="1313" y="33"/>
                      </a:lnTo>
                      <a:lnTo>
                        <a:pt x="1294" y="0"/>
                      </a:lnTo>
                      <a:lnTo>
                        <a:pt x="0" y="79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619440" y="4013280"/>
                  <a:ext cx="255600" cy="225360"/>
                </a:xfrm>
                <a:custGeom>
                  <a:avLst/>
                  <a:gdLst/>
                  <a:ahLst/>
                  <a:rect l="l" t="t" r="r" b="b"/>
                  <a:pathLst>
                    <a:path w="161" h="142">
                      <a:moveTo>
                        <a:pt x="74" y="142"/>
                      </a:moveTo>
                      <a:lnTo>
                        <a:pt x="161" y="0"/>
                      </a:lnTo>
                      <a:lnTo>
                        <a:pt x="0" y="12"/>
                      </a:lnTo>
                      <a:lnTo>
                        <a:pt x="74" y="14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998880" y="3497400"/>
                <a:ext cx="206280" cy="264960"/>
                <a:chOff x="3998880" y="3497400"/>
                <a:chExt cx="206280" cy="2649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076640" y="349740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46" y="19"/>
                      </a:moveTo>
                      <a:lnTo>
                        <a:pt x="15" y="0"/>
                      </a:lnTo>
                      <a:lnTo>
                        <a:pt x="0" y="26"/>
                      </a:lnTo>
                      <a:lnTo>
                        <a:pt x="31" y="46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98880" y="3497400"/>
                  <a:ext cx="206280" cy="264960"/>
                </a:xfrm>
                <a:custGeom>
                  <a:avLst/>
                  <a:gdLst/>
                  <a:ahLst/>
                  <a:rect l="l" t="t" r="r" b="b"/>
                  <a:pathLst>
                    <a:path w="130" h="167">
                      <a:moveTo>
                        <a:pt x="2" y="0"/>
                      </a:moveTo>
                      <a:lnTo>
                        <a:pt x="0" y="167"/>
                      </a:lnTo>
                      <a:lnTo>
                        <a:pt x="130" y="6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998880" y="4002120"/>
                <a:ext cx="1886040" cy="917640"/>
                <a:chOff x="3998880" y="4002120"/>
                <a:chExt cx="1886040" cy="917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194000" y="4083120"/>
                  <a:ext cx="1690920" cy="836640"/>
                </a:xfrm>
                <a:custGeom>
                  <a:avLst/>
                  <a:gdLst/>
                  <a:ahLst/>
                  <a:rect l="l" t="t" r="r" b="b"/>
                  <a:pathLst>
                    <a:path w="1065" h="527">
                      <a:moveTo>
                        <a:pt x="1049" y="527"/>
                      </a:moveTo>
                      <a:lnTo>
                        <a:pt x="1065" y="491"/>
                      </a:lnTo>
                      <a:lnTo>
                        <a:pt x="15" y="0"/>
                      </a:lnTo>
                      <a:lnTo>
                        <a:pt x="0" y="36"/>
                      </a:lnTo>
                      <a:lnTo>
                        <a:pt x="1049" y="52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998880" y="4002120"/>
                  <a:ext cx="257040" cy="217440"/>
                </a:xfrm>
                <a:custGeom>
                  <a:avLst/>
                  <a:gdLst/>
                  <a:ahLst/>
                  <a:rect l="l" t="t" r="r" b="b"/>
                  <a:pathLst>
                    <a:path w="162" h="137">
                      <a:moveTo>
                        <a:pt x="162" y="0"/>
                      </a:moveTo>
                      <a:lnTo>
                        <a:pt x="0" y="7"/>
                      </a:lnTo>
                      <a:lnTo>
                        <a:pt x="103" y="137"/>
                      </a:lnTo>
                      <a:lnTo>
                        <a:pt x="16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222720" y="1874880"/>
                <a:ext cx="577800" cy="1887480"/>
                <a:chOff x="3222720" y="1874880"/>
                <a:chExt cx="577800" cy="18874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222720" y="1874880"/>
                  <a:ext cx="495360" cy="1670040"/>
                </a:xfrm>
                <a:custGeom>
                  <a:avLst/>
                  <a:gdLst/>
                  <a:ahLst/>
                  <a:rect l="l" t="t" r="r" b="b"/>
                  <a:pathLst>
                    <a:path w="312" h="1052">
                      <a:moveTo>
                        <a:pt x="36" y="0"/>
                      </a:moveTo>
                      <a:lnTo>
                        <a:pt x="0" y="11"/>
                      </a:lnTo>
                      <a:lnTo>
                        <a:pt x="276" y="1052"/>
                      </a:lnTo>
                      <a:lnTo>
                        <a:pt x="312" y="104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578400" y="3502080"/>
                  <a:ext cx="222120" cy="260280"/>
                </a:xfrm>
                <a:custGeom>
                  <a:avLst/>
                  <a:gdLst/>
                  <a:ahLst/>
                  <a:rect l="l" t="t" r="r" b="b"/>
                  <a:pathLst>
                    <a:path w="140" h="164">
                      <a:moveTo>
                        <a:pt x="0" y="39"/>
                      </a:moveTo>
                      <a:lnTo>
                        <a:pt x="108" y="164"/>
                      </a:lnTo>
                      <a:lnTo>
                        <a:pt x="14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 flipV="1">
                <a:off x="1754280" y="2133360"/>
                <a:ext cx="4118040" cy="376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28640" y="3011400"/>
                <a:ext cx="2495520" cy="27561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4622400" y="2509920"/>
                <a:ext cx="1500120" cy="3132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1623960" y="2881440"/>
                <a:ext cx="1257480" cy="1137960"/>
                <a:chOff x="1623960" y="2881440"/>
                <a:chExt cx="1257480" cy="11379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623960" y="2881440"/>
                  <a:ext cx="39600" cy="3780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676520" y="2928960"/>
                  <a:ext cx="4104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728720" y="297648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82720" y="302580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836720" y="307188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23" y="18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889280" y="3121200"/>
                  <a:ext cx="4104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4" y="18"/>
                      </a:lnTo>
                      <a:lnTo>
                        <a:pt x="23" y="1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941480" y="316692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1" y="23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995480" y="32162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048040" y="326376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6" y="22"/>
                      </a:lnTo>
                      <a:lnTo>
                        <a:pt x="26" y="21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00240" y="3311640"/>
                  <a:ext cx="39600" cy="3960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54240" y="335916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06800" y="340848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259000" y="345600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7" y="21"/>
                      </a:lnTo>
                      <a:lnTo>
                        <a:pt x="27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313000" y="350352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367000" y="355284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419200" y="359892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471760" y="364824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25760" y="369576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577960" y="374328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630520" y="3790800"/>
                  <a:ext cx="42840" cy="38160"/>
                </a:xfrm>
                <a:custGeom>
                  <a:avLst/>
                  <a:gdLst/>
                  <a:ahLst/>
                  <a:rect l="l" t="t" r="r" b="b"/>
                  <a:pathLst>
                    <a:path w="27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7" y="22"/>
                      </a:lnTo>
                      <a:lnTo>
                        <a:pt x="27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684520" y="384012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738520" y="388620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4" y="20"/>
                      </a:lnTo>
                      <a:lnTo>
                        <a:pt x="23" y="19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790720" y="393552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43280" y="3981600"/>
                  <a:ext cx="38160" cy="378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4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3370320" y="4635360"/>
                <a:ext cx="760320" cy="1013040"/>
                <a:chOff x="3370320" y="4635360"/>
                <a:chExt cx="760320" cy="10130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370320" y="463536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413160" y="4692600"/>
                  <a:ext cx="36360" cy="4284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2" y="26"/>
                      </a:lnTo>
                      <a:lnTo>
                        <a:pt x="23" y="25"/>
                      </a:lnTo>
                      <a:lnTo>
                        <a:pt x="23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457440" y="474984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5" y="2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498840" y="480708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7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8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543480" y="486576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5" y="26"/>
                      </a:lnTo>
                      <a:lnTo>
                        <a:pt x="16" y="27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2" y="25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586320" y="492444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29160" y="4981680"/>
                  <a:ext cx="3312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72000" y="5038560"/>
                  <a:ext cx="34920" cy="4320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714840" y="5095800"/>
                  <a:ext cx="34920" cy="4464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8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759120" y="515304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3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5" y="27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1" y="2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01960" y="52135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844800" y="527040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887640" y="532764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7" y="25"/>
                      </a:lnTo>
                      <a:lnTo>
                        <a:pt x="18" y="26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2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930480" y="538488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975120" y="544212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5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5" y="27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1" y="2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017960" y="5499000"/>
                  <a:ext cx="34920" cy="4464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6" y="27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1" y="2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060800" y="5557680"/>
                  <a:ext cx="33480" cy="4320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103640" y="56167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19"/>
                      </a:lnTo>
                      <a:lnTo>
                        <a:pt x="15" y="17"/>
                      </a:lnTo>
                      <a:lnTo>
                        <a:pt x="17" y="16"/>
                      </a:lnTo>
                      <a:lnTo>
                        <a:pt x="17" y="16"/>
                      </a:lnTo>
                      <a:lnTo>
                        <a:pt x="17" y="15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 flipH="1">
                <a:off x="1641240" y="1882800"/>
                <a:ext cx="1360440" cy="3259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1770120" y="5141520"/>
                <a:ext cx="4102200" cy="374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00280" y="1882800"/>
                <a:ext cx="2497320" cy="288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75000" y="1882800"/>
                <a:ext cx="623880" cy="1003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98920" y="3511440"/>
                <a:ext cx="1498680" cy="1379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641600" y="3387240"/>
                <a:ext cx="2495520" cy="1879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4618080" y="2254320"/>
                <a:ext cx="1258920" cy="887400"/>
                <a:chOff x="4618080" y="2254320"/>
                <a:chExt cx="1258920" cy="8874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834160" y="225432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75480" y="229536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18240" y="2335320"/>
                  <a:ext cx="41040" cy="3312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6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659560" y="237816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5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19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00880" y="241776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541840" y="245916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483160" y="2498760"/>
                  <a:ext cx="44640" cy="349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27" y="7"/>
                      </a:move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6" y="21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424480" y="254160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7" y="5"/>
                      </a:move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7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369040" y="25812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310360" y="26226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51320" y="26622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6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192640" y="270504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5"/>
                      </a:move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133960" y="274464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6" y="7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6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76720" y="278604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18040" y="282744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959360" y="286848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6" y="5"/>
                      </a:move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6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00680" y="2908440"/>
                  <a:ext cx="44280" cy="349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27" y="7"/>
                      </a:moveTo>
                      <a:lnTo>
                        <a:pt x="28" y="6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43440" y="294948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786200" y="29908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0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727520" y="303228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5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668840" y="30718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18080" y="3112920"/>
                  <a:ext cx="34920" cy="2880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2" y="12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6" y="18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370320" y="3510000"/>
                <a:ext cx="752400" cy="509400"/>
                <a:chOff x="3370320" y="3510000"/>
                <a:chExt cx="752400" cy="5094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3370320" y="398628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" y="15"/>
                      </a:move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429000" y="394488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489480" y="390672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548160" y="386712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4"/>
                      </a:move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606840" y="382752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5"/>
                      </a:move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666960" y="3787920"/>
                  <a:ext cx="4320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724200" y="3749760"/>
                  <a:ext cx="4464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" y="14"/>
                      </a:move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2" y="19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5" y="19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782880" y="370836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843360" y="366876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1" y="16"/>
                      </a:move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902040" y="363060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1" y="14"/>
                      </a:move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960720" y="35910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" y="14"/>
                      </a:move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21200" y="3551400"/>
                  <a:ext cx="42840" cy="3168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079880" y="351000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6"/>
                      </a:move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038400" y="1382760"/>
                <a:ext cx="104760" cy="374760"/>
                <a:chOff x="3038400" y="1382760"/>
                <a:chExt cx="104760" cy="374760"/>
              </a:xfrm>
            </p:grpSpPr>
            <p:sp>
              <p:nvSpPr>
                <p:cNvPr id="368" name=""/>
                <p:cNvSpPr/>
                <p:nvPr/>
              </p:nvSpPr>
              <p:spPr>
                <a:xfrm flipV="1">
                  <a:off x="3089160" y="1486080"/>
                  <a:ext cx="144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038400" y="13827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66" y="68"/>
                      </a:moveTo>
                      <a:lnTo>
                        <a:pt x="32" y="0"/>
                      </a:lnTo>
                      <a:lnTo>
                        <a:pt x="0" y="68"/>
                      </a:lnTo>
                      <a:lnTo>
                        <a:pt x="6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991120" y="4765680"/>
                <a:ext cx="104760" cy="376200"/>
                <a:chOff x="5991120" y="4765680"/>
                <a:chExt cx="104760" cy="376200"/>
              </a:xfrm>
            </p:grpSpPr>
            <p:sp>
              <p:nvSpPr>
                <p:cNvPr id="371" name=""/>
                <p:cNvSpPr/>
                <p:nvPr/>
              </p:nvSpPr>
              <p:spPr>
                <a:xfrm flipV="1">
                  <a:off x="6043320" y="4870440"/>
                  <a:ext cx="108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991120" y="476568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66" y="68"/>
                      </a:moveTo>
                      <a:lnTo>
                        <a:pt x="33" y="0"/>
                      </a:lnTo>
                      <a:lnTo>
                        <a:pt x="0" y="68"/>
                      </a:lnTo>
                      <a:lnTo>
                        <a:pt x="6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075200" y="2992320"/>
                <a:ext cx="104760" cy="376200"/>
                <a:chOff x="4075200" y="2992320"/>
                <a:chExt cx="104760" cy="3762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127400" y="299232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075200" y="326052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0" y="0"/>
                      </a:moveTo>
                      <a:lnTo>
                        <a:pt x="33" y="68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266840" y="5267160"/>
                <a:ext cx="104760" cy="374760"/>
                <a:chOff x="1266840" y="5267160"/>
                <a:chExt cx="104760" cy="3747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319400" y="5267160"/>
                  <a:ext cx="1440" cy="2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266840" y="553392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0" y="0"/>
                      </a:moveTo>
                      <a:lnTo>
                        <a:pt x="33" y="68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1635120" y="1744560"/>
                <a:ext cx="1290600" cy="654120"/>
              </a:xfrm>
              <a:custGeom>
                <a:avLst/>
                <a:gdLst/>
                <a:ahLst/>
                <a:rect l="l" t="t" r="r" b="b"/>
                <a:pathLst>
                  <a:path w="813" h="412">
                    <a:moveTo>
                      <a:pt x="0" y="394"/>
                    </a:moveTo>
                    <a:lnTo>
                      <a:pt x="8" y="412"/>
                    </a:lnTo>
                    <a:lnTo>
                      <a:pt x="813" y="17"/>
                    </a:lnTo>
                    <a:lnTo>
                      <a:pt x="804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556080" y="1619280"/>
                <a:ext cx="2301840" cy="404640"/>
              </a:xfrm>
              <a:custGeom>
                <a:avLst/>
                <a:gdLst/>
                <a:ahLst/>
                <a:rect l="l" t="t" r="r" b="b"/>
                <a:pathLst>
                  <a:path w="1450" h="255">
                    <a:moveTo>
                      <a:pt x="3" y="0"/>
                    </a:moveTo>
                    <a:lnTo>
                      <a:pt x="0" y="18"/>
                    </a:lnTo>
                    <a:lnTo>
                      <a:pt x="1447" y="255"/>
                    </a:lnTo>
                    <a:lnTo>
                      <a:pt x="1450" y="2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768320" y="2746440"/>
                <a:ext cx="2176560" cy="406440"/>
              </a:xfrm>
              <a:custGeom>
                <a:avLst/>
                <a:gdLst/>
                <a:ahLst/>
                <a:rect l="l" t="t" r="r" b="b"/>
                <a:pathLst>
                  <a:path w="1371" h="256">
                    <a:moveTo>
                      <a:pt x="4" y="0"/>
                    </a:moveTo>
                    <a:lnTo>
                      <a:pt x="0" y="19"/>
                    </a:lnTo>
                    <a:lnTo>
                      <a:pt x="1367" y="256"/>
                    </a:lnTo>
                    <a:lnTo>
                      <a:pt x="1371" y="23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72000" y="2370240"/>
                <a:ext cx="1289160" cy="655560"/>
              </a:xfrm>
              <a:custGeom>
                <a:avLst/>
                <a:gdLst/>
                <a:ahLst/>
                <a:rect l="l" t="t" r="r" b="b"/>
                <a:pathLst>
                  <a:path w="812" h="413">
                    <a:moveTo>
                      <a:pt x="0" y="395"/>
                    </a:moveTo>
                    <a:lnTo>
                      <a:pt x="8" y="413"/>
                    </a:lnTo>
                    <a:lnTo>
                      <a:pt x="812" y="18"/>
                    </a:lnTo>
                    <a:lnTo>
                      <a:pt x="804" y="0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68320" y="5504040"/>
                <a:ext cx="2176560" cy="404640"/>
              </a:xfrm>
              <a:custGeom>
                <a:avLst/>
                <a:gdLst/>
                <a:ahLst/>
                <a:rect l="l" t="t" r="r" b="b"/>
                <a:pathLst>
                  <a:path w="1371" h="255">
                    <a:moveTo>
                      <a:pt x="4" y="0"/>
                    </a:moveTo>
                    <a:lnTo>
                      <a:pt x="0" y="18"/>
                    </a:lnTo>
                    <a:lnTo>
                      <a:pt x="1367" y="255"/>
                    </a:lnTo>
                    <a:lnTo>
                      <a:pt x="1371" y="23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00520" y="5129280"/>
                <a:ext cx="1162080" cy="777960"/>
              </a:xfrm>
              <a:custGeom>
                <a:avLst/>
                <a:gdLst/>
                <a:ahLst/>
                <a:rect l="l" t="t" r="r" b="b"/>
                <a:pathLst>
                  <a:path w="732" h="490">
                    <a:moveTo>
                      <a:pt x="0" y="474"/>
                    </a:moveTo>
                    <a:lnTo>
                      <a:pt x="9" y="490"/>
                    </a:lnTo>
                    <a:lnTo>
                      <a:pt x="732" y="16"/>
                    </a:lnTo>
                    <a:lnTo>
                      <a:pt x="723" y="0"/>
                    </a:lnTo>
                    <a:lnTo>
                      <a:pt x="0" y="47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3429000" y="4375080"/>
                <a:ext cx="2397240" cy="523800"/>
                <a:chOff x="3429000" y="4375080"/>
                <a:chExt cx="2397240" cy="5238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429000" y="437508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4" y="34"/>
                      </a:lnTo>
                      <a:lnTo>
                        <a:pt x="77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635280" y="441792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41920" y="4460760"/>
                  <a:ext cx="12204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4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048200" y="450216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255920" y="454644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3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460760" y="458784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668840" y="463068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876920" y="4673520"/>
                  <a:ext cx="12204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3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081760" y="4716360"/>
                  <a:ext cx="12348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289480" y="476100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95760" y="480204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702400" y="484488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635120" y="4502160"/>
                <a:ext cx="1165320" cy="777960"/>
                <a:chOff x="1635120" y="4502160"/>
                <a:chExt cx="1165320" cy="7779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635120" y="5186520"/>
                  <a:ext cx="115920" cy="93600"/>
                </a:xfrm>
                <a:custGeom>
                  <a:avLst/>
                  <a:gdLst/>
                  <a:ahLst/>
                  <a:rect l="l" t="t" r="r" b="b"/>
                  <a:pathLst>
                    <a:path w="73" h="59">
                      <a:moveTo>
                        <a:pt x="0" y="43"/>
                      </a:moveTo>
                      <a:lnTo>
                        <a:pt x="10" y="59"/>
                      </a:lnTo>
                      <a:lnTo>
                        <a:pt x="73" y="17"/>
                      </a:lnTo>
                      <a:lnTo>
                        <a:pt x="63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812960" y="5070600"/>
                  <a:ext cx="117360" cy="9180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1"/>
                      </a:moveTo>
                      <a:lnTo>
                        <a:pt x="9" y="58"/>
                      </a:lnTo>
                      <a:lnTo>
                        <a:pt x="74" y="16"/>
                      </a:lnTo>
                      <a:lnTo>
                        <a:pt x="64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92240" y="4952880"/>
                  <a:ext cx="115920" cy="92160"/>
                </a:xfrm>
                <a:custGeom>
                  <a:avLst/>
                  <a:gdLst/>
                  <a:ahLst/>
                  <a:rect l="l" t="t" r="r" b="b"/>
                  <a:pathLst>
                    <a:path w="73" h="58">
                      <a:moveTo>
                        <a:pt x="0" y="42"/>
                      </a:moveTo>
                      <a:lnTo>
                        <a:pt x="9" y="58"/>
                      </a:lnTo>
                      <a:lnTo>
                        <a:pt x="73" y="17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168640" y="4836960"/>
                  <a:ext cx="11736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1"/>
                      </a:moveTo>
                      <a:lnTo>
                        <a:pt x="10" y="58"/>
                      </a:lnTo>
                      <a:lnTo>
                        <a:pt x="74" y="16"/>
                      </a:lnTo>
                      <a:lnTo>
                        <a:pt x="65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347920" y="4719600"/>
                  <a:ext cx="11736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2"/>
                      </a:moveTo>
                      <a:lnTo>
                        <a:pt x="10" y="58"/>
                      </a:lnTo>
                      <a:lnTo>
                        <a:pt x="74" y="17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527200" y="4603680"/>
                  <a:ext cx="11772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2"/>
                      </a:moveTo>
                      <a:lnTo>
                        <a:pt x="9" y="58"/>
                      </a:lnTo>
                      <a:lnTo>
                        <a:pt x="74" y="16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705040" y="4502160"/>
                  <a:ext cx="95400" cy="77760"/>
                </a:xfrm>
                <a:custGeom>
                  <a:avLst/>
                  <a:gdLst/>
                  <a:ahLst/>
                  <a:rect l="l" t="t" r="r" b="b"/>
                  <a:pathLst>
                    <a:path w="60" h="49">
                      <a:moveTo>
                        <a:pt x="0" y="32"/>
                      </a:moveTo>
                      <a:lnTo>
                        <a:pt x="9" y="49"/>
                      </a:lnTo>
                      <a:lnTo>
                        <a:pt x="60" y="17"/>
                      </a:lnTo>
                      <a:lnTo>
                        <a:pt x="50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1373040" y="301140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08480" y="351144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22960" y="250992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159000" y="1882800"/>
                <a:ext cx="30240" cy="2004840"/>
                <a:chOff x="3159000" y="1882800"/>
                <a:chExt cx="30240" cy="20048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159000" y="188280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159000" y="210168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159000" y="232236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159000" y="254160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159000" y="276084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159000" y="297972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159000" y="319896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159000" y="341784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159000" y="363708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159000" y="3857760"/>
                  <a:ext cx="30240" cy="29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0" name=""/>
            <p:cNvSpPr/>
            <p:nvPr/>
          </p:nvSpPr>
          <p:spPr>
            <a:xfrm>
              <a:off x="611280" y="765000"/>
              <a:ext cx="6121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thogonal Coupling of Two D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Molecule makes Miracle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E51-9DF3-4A9A-A753-985B2B3125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5720" y="0"/>
            <a:ext cx="79725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853-8B45-4ABB-A439-8FAB141CE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843120" y="177840"/>
            <a:ext cx="7315200" cy="94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lace where TSC is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1268280"/>
            <a:ext cx="8064360" cy="496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910c6"/>
                </a:solidFill>
                <a:latin typeface="Arial"/>
              </a:rPr>
              <a:t>1)In Natural Gas-Phas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of 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ery small probability for two D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molecules to make orthogonally couple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Possible at very low tempera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3200" spc="-1" strike="noStrike">
                <a:solidFill>
                  <a:srgbClr val="1910c6"/>
                </a:solidFill>
                <a:latin typeface="Arial"/>
                <a:ea typeface="Arial"/>
              </a:rPr>
              <a:t>Bose-Einstein Condens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442c1"/>
                </a:solidFill>
                <a:latin typeface="Arial"/>
                <a:ea typeface="Arial"/>
              </a:rPr>
              <a:t>2)In </a:t>
            </a:r>
            <a:r>
              <a:rPr b="1" lang="ja-JP" sz="3200" spc="-1" strike="noStrike">
                <a:solidFill>
                  <a:srgbClr val="c442c1"/>
                </a:solidFill>
                <a:latin typeface="Arial"/>
                <a:ea typeface="Arial"/>
              </a:rPr>
              <a:t>Surface-Lattic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condition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: O(T)-Sites, Defect/Void, Fractal-surface(adatom +dimer + corner-h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ja-JP" sz="3200" spc="-1" strike="noStrike">
                <a:solidFill>
                  <a:srgbClr val="c442c1"/>
                </a:solidFill>
                <a:latin typeface="Arial"/>
                <a:ea typeface="Arial"/>
              </a:rPr>
              <a:t>Dynamic Bose Condensation of TS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350028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4BB-69E3-4686-8DD7-07B9EFBC8A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625320" y="3240"/>
            <a:ext cx="8290080" cy="6854760"/>
            <a:chOff x="625320" y="3240"/>
            <a:chExt cx="8290080" cy="6854760"/>
          </a:xfrm>
        </p:grpSpPr>
        <p:sp>
          <p:nvSpPr>
            <p:cNvPr id="425" name=""/>
            <p:cNvSpPr/>
            <p:nvPr/>
          </p:nvSpPr>
          <p:spPr>
            <a:xfrm>
              <a:off x="625320" y="3240"/>
              <a:ext cx="7712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1040" y="441360"/>
              <a:ext cx="683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910c6"/>
                  </a:solidFill>
                  <a:latin typeface="Tahoma"/>
                </a:rPr>
                <a:t>Tetrahedral Condensation of D-Clus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120" y="1093680"/>
              <a:ext cx="3895560" cy="576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81440" y="1139760"/>
              <a:ext cx="3897360" cy="49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56280" y="1201680"/>
              <a:ext cx="197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Transient Bos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52320" y="1517760"/>
              <a:ext cx="3646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Condensation of Deuter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89040" y="2021040"/>
              <a:ext cx="2693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From O-site to T-si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49800" y="2525760"/>
              <a:ext cx="3765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Associating Transie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99840" y="2841480"/>
              <a:ext cx="341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100" spc="-1" strike="noStrike">
                  <a:solidFill>
                    <a:srgbClr val="1910c6"/>
                  </a:solidFill>
                  <a:latin typeface="Tahoma"/>
                </a:rPr>
                <a:t>Squeezing (</a:t>
              </a:r>
              <a:r>
                <a:rPr b="1" lang="ja-JP" sz="2100" spc="-1" strike="noStrike">
                  <a:solidFill>
                    <a:srgbClr val="ff3399"/>
                  </a:solidFill>
                  <a:latin typeface="Tahoma"/>
                </a:rPr>
                <a:t>Bosonozation</a:t>
              </a:r>
              <a:r>
                <a:rPr b="1" lang="ja-JP" sz="2100" spc="-1" strike="noStrike">
                  <a:solidFill>
                    <a:srgbClr val="1910c6"/>
                  </a:solidFill>
                  <a:latin typeface="Tahoma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85800" y="3156120"/>
              <a:ext cx="267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of 4d-shell Electr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71760" y="3660840"/>
              <a:ext cx="321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Generation of Short-Lif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80760" y="3975120"/>
              <a:ext cx="2795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99"/>
                  </a:solidFill>
                  <a:latin typeface="Tahoma"/>
                </a:rPr>
                <a:t>Quasi-Particle e* lik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63840" y="4290840"/>
              <a:ext cx="1562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99"/>
                  </a:solidFill>
                  <a:latin typeface="Tahoma"/>
                </a:rPr>
                <a:t>Cooper-pai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70320" y="4795920"/>
              <a:ext cx="3062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1910c6"/>
                  </a:solidFill>
                  <a:latin typeface="Tahoma"/>
                </a:rPr>
                <a:t>D-Cluster as Mixture o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9800" y="5110200"/>
              <a:ext cx="361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100" spc="-1" strike="noStrike">
                  <a:solidFill>
                    <a:srgbClr val="ff3399"/>
                  </a:solidFill>
                  <a:latin typeface="Tahoma"/>
                </a:rPr>
                <a:t>DDe, DDee, DDe*,DDe*e*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5320" y="844560"/>
              <a:ext cx="8272440" cy="66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88920" y="6045120"/>
              <a:ext cx="258300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58000" y="608004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00400" y="6095880"/>
              <a:ext cx="19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Tahoma"/>
                </a:rPr>
                <a:t>Some FC Pd omit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24120" y="4889520"/>
              <a:ext cx="1224000" cy="3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61640" y="4948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2.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92400" y="4948200"/>
              <a:ext cx="81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angst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28800" y="5403960"/>
              <a:ext cx="838080" cy="21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10000"/>
                  </a:solidFill>
                  <a:latin typeface="Tahoma"/>
                </a:rPr>
                <a:t>  </a:t>
              </a:r>
              <a:r>
                <a:rPr b="0" lang="ja-JP" sz="1400" spc="-1" strike="noStrike">
                  <a:solidFill>
                    <a:srgbClr val="010000"/>
                  </a:solidFill>
                  <a:latin typeface="Tahoma"/>
                </a:rPr>
                <a:t>O-site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73440" y="5391000"/>
              <a:ext cx="762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54880" y="540540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T-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24160" y="5405400"/>
              <a:ext cx="261720" cy="309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1240" y="5443560"/>
              <a:ext cx="17604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70200" y="1173240"/>
              <a:ext cx="610920" cy="617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84680" y="1173240"/>
              <a:ext cx="611280" cy="617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21560" y="13590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9680" y="1481040"/>
              <a:ext cx="1305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2960" y="2249640"/>
              <a:ext cx="610920" cy="617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21040" y="246708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347480" y="1633680"/>
              <a:ext cx="60948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87720" y="2249640"/>
              <a:ext cx="611280" cy="617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14880" y="246384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522600" y="1787400"/>
              <a:ext cx="34920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2440" y="2557440"/>
              <a:ext cx="156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74840" y="4248000"/>
              <a:ext cx="611280" cy="61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02360" y="444492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36920" y="2863800"/>
              <a:ext cx="1440" cy="13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12960" y="4248000"/>
              <a:ext cx="610920" cy="61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21040" y="44640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22440" y="4556160"/>
              <a:ext cx="165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74680" y="2863800"/>
              <a:ext cx="1800" cy="13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71800" y="3325680"/>
              <a:ext cx="609840" cy="615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89600" y="353052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1787400"/>
              <a:ext cx="1440" cy="15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697200" y="3940200"/>
              <a:ext cx="34776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70200" y="3325680"/>
              <a:ext cx="610920" cy="615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78280" y="354348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1446120" y="3782880"/>
              <a:ext cx="515880" cy="603360"/>
              <a:chOff x="1446120" y="3782880"/>
              <a:chExt cx="515880" cy="603360"/>
            </a:xfrm>
          </p:grpSpPr>
          <p:sp>
            <p:nvSpPr>
              <p:cNvPr id="477" name=""/>
              <p:cNvSpPr/>
              <p:nvPr/>
            </p:nvSpPr>
            <p:spPr>
              <a:xfrm>
                <a:off x="1925640" y="378288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5"/>
                    </a:moveTo>
                    <a:lnTo>
                      <a:pt x="23" y="3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76320" y="3838680"/>
                <a:ext cx="36720" cy="4104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5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30240" y="3895560"/>
                <a:ext cx="36720" cy="414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2" y="4"/>
                    </a:move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781280" y="3949560"/>
                <a:ext cx="36360" cy="446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3" y="6"/>
                    </a:moveTo>
                    <a:lnTo>
                      <a:pt x="23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735200" y="400680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2" y="5"/>
                    </a:moveTo>
                    <a:lnTo>
                      <a:pt x="23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85880" y="4062240"/>
                <a:ext cx="36720" cy="446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3" y="6"/>
                    </a:moveTo>
                    <a:lnTo>
                      <a:pt x="23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3" y="28"/>
                    </a:lnTo>
                    <a:lnTo>
                      <a:pt x="4" y="28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38360" y="411948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4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5" y="26"/>
                    </a:lnTo>
                    <a:lnTo>
                      <a:pt x="6" y="25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590840" y="417528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5"/>
                    </a:moveTo>
                    <a:lnTo>
                      <a:pt x="23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5" y="26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542960" y="42321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3" y="4"/>
                    </a:moveTo>
                    <a:lnTo>
                      <a:pt x="24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5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95440" y="4286160"/>
                <a:ext cx="36360" cy="4464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3" y="6"/>
                    </a:move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3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4" y="27"/>
                    </a:lnTo>
                    <a:lnTo>
                      <a:pt x="5" y="2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46120" y="4343400"/>
                <a:ext cx="3996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4" y="6"/>
                    </a:moveTo>
                    <a:lnTo>
                      <a:pt x="25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7" y="25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475000" y="3627360"/>
              <a:ext cx="1384200" cy="11160"/>
              <a:chOff x="2475000" y="3627360"/>
              <a:chExt cx="1384200" cy="11160"/>
            </a:xfrm>
          </p:grpSpPr>
          <p:sp>
            <p:nvSpPr>
              <p:cNvPr id="489" name=""/>
              <p:cNvSpPr/>
              <p:nvPr/>
            </p:nvSpPr>
            <p:spPr>
              <a:xfrm>
                <a:off x="2475000" y="362736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44840" y="3627360"/>
                <a:ext cx="4896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1468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68452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75580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2564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9548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96532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3696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0680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7664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24792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31776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38760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5744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2908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9892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66876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38600" y="36273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09880" y="3627360"/>
                <a:ext cx="49320" cy="1116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0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125800" y="1782720"/>
              <a:ext cx="10800" cy="1548000"/>
              <a:chOff x="2125800" y="1782720"/>
              <a:chExt cx="10800" cy="1548000"/>
            </a:xfrm>
          </p:grpSpPr>
          <p:sp>
            <p:nvSpPr>
              <p:cNvPr id="510" name=""/>
              <p:cNvSpPr/>
              <p:nvPr/>
            </p:nvSpPr>
            <p:spPr>
              <a:xfrm>
                <a:off x="2125800" y="178272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5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125800" y="185904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125800" y="1935000"/>
                <a:ext cx="10800" cy="5580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125800" y="201312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25800" y="208908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125800" y="216540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25800" y="224172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25800" y="2317680"/>
                <a:ext cx="10800" cy="5580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125800" y="239400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125800" y="247176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25800" y="254808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125800" y="262404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125800" y="270036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125800" y="277668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125800" y="285444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125800" y="293040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125800" y="300672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25800" y="3083040"/>
                <a:ext cx="1080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25800" y="3159000"/>
                <a:ext cx="10800" cy="5580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125800" y="3235320"/>
                <a:ext cx="10800" cy="554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25800" y="3313080"/>
                <a:ext cx="1080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3"/>
                    </a:move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1522440" y="1787400"/>
              <a:ext cx="262080" cy="309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31920" y="2403360"/>
              <a:ext cx="262080" cy="308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16120" y="3017880"/>
              <a:ext cx="263520" cy="309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87560" y="3325680"/>
              <a:ext cx="261720" cy="309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52840" y="2709720"/>
              <a:ext cx="17604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05080" y="2095560"/>
              <a:ext cx="17604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2720" y="2709720"/>
              <a:ext cx="176400" cy="157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02040" y="2095560"/>
              <a:ext cx="17460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82720" y="3479760"/>
              <a:ext cx="17640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52840" y="3479760"/>
              <a:ext cx="17604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02040" y="2863800"/>
              <a:ext cx="17460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05080" y="2863800"/>
              <a:ext cx="17604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02040" y="1325520"/>
              <a:ext cx="26172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59280" y="2403360"/>
              <a:ext cx="26172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62320" y="3479760"/>
              <a:ext cx="26352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84680" y="3940200"/>
              <a:ext cx="26172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17600" y="4402080"/>
              <a:ext cx="26352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09560" y="3940200"/>
              <a:ext cx="262080" cy="30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1338120" y="2863800"/>
              <a:ext cx="444600" cy="474840"/>
              <a:chOff x="1338120" y="2863800"/>
              <a:chExt cx="444600" cy="474840"/>
            </a:xfrm>
          </p:grpSpPr>
          <p:sp>
            <p:nvSpPr>
              <p:cNvPr id="550" name=""/>
              <p:cNvSpPr/>
              <p:nvPr/>
            </p:nvSpPr>
            <p:spPr>
              <a:xfrm>
                <a:off x="1338120" y="2967120"/>
                <a:ext cx="347760" cy="371520"/>
              </a:xfrm>
              <a:custGeom>
                <a:avLst/>
                <a:gdLst/>
                <a:ahLst/>
                <a:rect l="l" t="t" r="r" b="b"/>
                <a:pathLst>
                  <a:path w="219" h="234">
                    <a:moveTo>
                      <a:pt x="0" y="219"/>
                    </a:moveTo>
                    <a:lnTo>
                      <a:pt x="13" y="234"/>
                    </a:lnTo>
                    <a:lnTo>
                      <a:pt x="219" y="15"/>
                    </a:lnTo>
                    <a:lnTo>
                      <a:pt x="207" y="0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19280" y="2863800"/>
                <a:ext cx="163440" cy="179280"/>
              </a:xfrm>
              <a:custGeom>
                <a:avLst/>
                <a:gdLst/>
                <a:ahLst/>
                <a:rect l="l" t="t" r="r" b="b"/>
                <a:pathLst>
                  <a:path w="103" h="113">
                    <a:moveTo>
                      <a:pt x="69" y="113"/>
                    </a:moveTo>
                    <a:lnTo>
                      <a:pt x="103" y="0"/>
                    </a:lnTo>
                    <a:lnTo>
                      <a:pt x="0" y="36"/>
                    </a:lnTo>
                    <a:lnTo>
                      <a:pt x="69" y="1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1682640" y="2092320"/>
              <a:ext cx="216000" cy="617400"/>
              <a:chOff x="1682640" y="2092320"/>
              <a:chExt cx="216000" cy="617400"/>
            </a:xfrm>
          </p:grpSpPr>
          <p:sp>
            <p:nvSpPr>
              <p:cNvPr id="553" name=""/>
              <p:cNvSpPr/>
              <p:nvPr/>
            </p:nvSpPr>
            <p:spPr>
              <a:xfrm>
                <a:off x="1682640" y="2092320"/>
                <a:ext cx="157320" cy="466560"/>
              </a:xfrm>
              <a:custGeom>
                <a:avLst/>
                <a:gdLst/>
                <a:ahLst/>
                <a:rect l="l" t="t" r="r" b="b"/>
                <a:pathLst>
                  <a:path w="99" h="294">
                    <a:moveTo>
                      <a:pt x="18" y="0"/>
                    </a:moveTo>
                    <a:lnTo>
                      <a:pt x="0" y="6"/>
                    </a:lnTo>
                    <a:lnTo>
                      <a:pt x="81" y="294"/>
                    </a:lnTo>
                    <a:lnTo>
                      <a:pt x="99" y="28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749600" y="2525760"/>
                <a:ext cx="149040" cy="183960"/>
              </a:xfrm>
              <a:custGeom>
                <a:avLst/>
                <a:gdLst/>
                <a:ahLst/>
                <a:rect l="l" t="t" r="r" b="b"/>
                <a:pathLst>
                  <a:path w="94" h="116">
                    <a:moveTo>
                      <a:pt x="0" y="31"/>
                    </a:moveTo>
                    <a:lnTo>
                      <a:pt x="76" y="116"/>
                    </a:lnTo>
                    <a:lnTo>
                      <a:pt x="94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1957320" y="2538360"/>
              <a:ext cx="184320" cy="171360"/>
              <a:chOff x="1957320" y="2538360"/>
              <a:chExt cx="184320" cy="171360"/>
            </a:xfrm>
          </p:grpSpPr>
          <p:sp>
            <p:nvSpPr>
              <p:cNvPr id="556" name=""/>
              <p:cNvSpPr/>
              <p:nvPr/>
            </p:nvSpPr>
            <p:spPr>
              <a:xfrm>
                <a:off x="2065320" y="254484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16"/>
                    </a:moveTo>
                    <a:lnTo>
                      <a:pt x="36" y="0"/>
                    </a:lnTo>
                    <a:lnTo>
                      <a:pt x="0" y="32"/>
                    </a:lnTo>
                    <a:lnTo>
                      <a:pt x="12" y="48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957320" y="2538360"/>
                <a:ext cx="168480" cy="171360"/>
              </a:xfrm>
              <a:custGeom>
                <a:avLst/>
                <a:gdLst/>
                <a:ahLst/>
                <a:rect l="l" t="t" r="r" b="b"/>
                <a:pathLst>
                  <a:path w="106" h="108">
                    <a:moveTo>
                      <a:pt x="44" y="0"/>
                    </a:moveTo>
                    <a:lnTo>
                      <a:pt x="0" y="108"/>
                    </a:lnTo>
                    <a:lnTo>
                      <a:pt x="106" y="8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957320" y="2851200"/>
              <a:ext cx="665280" cy="334800"/>
              <a:chOff x="1957320" y="2851200"/>
              <a:chExt cx="665280" cy="334800"/>
            </a:xfrm>
          </p:grpSpPr>
          <p:sp>
            <p:nvSpPr>
              <p:cNvPr id="559" name=""/>
              <p:cNvSpPr/>
              <p:nvPr/>
            </p:nvSpPr>
            <p:spPr>
              <a:xfrm>
                <a:off x="2090880" y="2916360"/>
                <a:ext cx="531720" cy="269640"/>
              </a:xfrm>
              <a:custGeom>
                <a:avLst/>
                <a:gdLst/>
                <a:ahLst/>
                <a:rect l="l" t="t" r="r" b="b"/>
                <a:pathLst>
                  <a:path w="335" h="170">
                    <a:moveTo>
                      <a:pt x="328" y="170"/>
                    </a:moveTo>
                    <a:lnTo>
                      <a:pt x="335" y="152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328" y="17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57320" y="2851200"/>
                <a:ext cx="171360" cy="155520"/>
              </a:xfrm>
              <a:custGeom>
                <a:avLst/>
                <a:gdLst/>
                <a:ahLst/>
                <a:rect l="l" t="t" r="r" b="b"/>
                <a:pathLst>
                  <a:path w="108" h="98">
                    <a:moveTo>
                      <a:pt x="108" y="0"/>
                    </a:moveTo>
                    <a:lnTo>
                      <a:pt x="0" y="8"/>
                    </a:lnTo>
                    <a:lnTo>
                      <a:pt x="71" y="98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063960" y="4960800"/>
              <a:ext cx="447480" cy="114480"/>
              <a:chOff x="3063960" y="4960800"/>
              <a:chExt cx="447480" cy="114480"/>
            </a:xfrm>
          </p:grpSpPr>
          <p:sp>
            <p:nvSpPr>
              <p:cNvPr id="562" name=""/>
              <p:cNvSpPr/>
              <p:nvPr/>
            </p:nvSpPr>
            <p:spPr>
              <a:xfrm>
                <a:off x="3063960" y="5016600"/>
                <a:ext cx="347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408480" y="4960800"/>
                <a:ext cx="102960" cy="114480"/>
              </a:xfrm>
              <a:custGeom>
                <a:avLst/>
                <a:gdLst/>
                <a:ahLst/>
                <a:rect l="l" t="t" r="r" b="b"/>
                <a:pathLst>
                  <a:path w="65" h="72">
                    <a:moveTo>
                      <a:pt x="0" y="72"/>
                    </a:moveTo>
                    <a:lnTo>
                      <a:pt x="65" y="35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273320" y="4959360"/>
              <a:ext cx="298440" cy="114120"/>
              <a:chOff x="1273320" y="4959360"/>
              <a:chExt cx="298440" cy="114120"/>
            </a:xfrm>
          </p:grpSpPr>
          <p:sp>
            <p:nvSpPr>
              <p:cNvPr id="565" name=""/>
              <p:cNvSpPr/>
              <p:nvPr/>
            </p:nvSpPr>
            <p:spPr>
              <a:xfrm flipH="1">
                <a:off x="1373040" y="5016600"/>
                <a:ext cx="19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73320" y="4959360"/>
                <a:ext cx="102960" cy="114120"/>
              </a:xfrm>
              <a:custGeom>
                <a:avLst/>
                <a:gdLst/>
                <a:ahLst/>
                <a:rect l="l" t="t" r="r" b="b"/>
                <a:pathLst>
                  <a:path w="65" h="72">
                    <a:moveTo>
                      <a:pt x="65" y="0"/>
                    </a:moveTo>
                    <a:lnTo>
                      <a:pt x="0" y="36"/>
                    </a:lnTo>
                    <a:lnTo>
                      <a:pt x="65" y="7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467080" y="1787400"/>
              <a:ext cx="610920" cy="61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94240" y="20034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67080" y="3787920"/>
              <a:ext cx="610920" cy="615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94240" y="398952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81080" y="1343160"/>
              <a:ext cx="3812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Century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609-EFA0-4104-AB7A-8924ABF456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 rot="10800000">
            <a:off x="914400" y="205704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98400" y="471600"/>
            <a:ext cx="7317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60280"/>
            <a:ext cx="7581960" cy="30528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1910c6"/>
                </a:solidFill>
                <a:latin typeface="Tahoma"/>
              </a:rPr>
              <a:t>Tetrahedral Condensation of Deuterons in Pd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71640" y="765000"/>
            <a:ext cx="7543800" cy="5399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4360" y="620640"/>
            <a:ext cx="7632720" cy="57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685960" y="3873600"/>
            <a:ext cx="1558800" cy="928080"/>
            <a:chOff x="2685960" y="3873600"/>
            <a:chExt cx="1558800" cy="928080"/>
          </a:xfrm>
        </p:grpSpPr>
        <p:sp>
          <p:nvSpPr>
            <p:cNvPr id="579" name=""/>
            <p:cNvSpPr/>
            <p:nvPr/>
          </p:nvSpPr>
          <p:spPr>
            <a:xfrm>
              <a:off x="2685960" y="3955680"/>
              <a:ext cx="1388880" cy="846000"/>
            </a:xfrm>
            <a:custGeom>
              <a:avLst/>
              <a:gdLst/>
              <a:ahLst/>
              <a:rect l="l" t="t" r="r" b="b"/>
              <a:pathLst>
                <a:path w="875" h="533">
                  <a:moveTo>
                    <a:pt x="0" y="503"/>
                  </a:moveTo>
                  <a:lnTo>
                    <a:pt x="18" y="533"/>
                  </a:lnTo>
                  <a:lnTo>
                    <a:pt x="875" y="30"/>
                  </a:lnTo>
                  <a:lnTo>
                    <a:pt x="857" y="0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01760" y="3873600"/>
              <a:ext cx="243000" cy="204480"/>
            </a:xfrm>
            <a:custGeom>
              <a:avLst/>
              <a:gdLst/>
              <a:ahLst/>
              <a:rect l="l" t="t" r="r" b="b"/>
              <a:pathLst>
                <a:path w="153" h="129">
                  <a:moveTo>
                    <a:pt x="70" y="129"/>
                  </a:moveTo>
                  <a:lnTo>
                    <a:pt x="153" y="0"/>
                  </a:lnTo>
                  <a:lnTo>
                    <a:pt x="0" y="10"/>
                  </a:lnTo>
                  <a:lnTo>
                    <a:pt x="70" y="1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7353360" y="2286000"/>
            <a:ext cx="431280" cy="159840"/>
            <a:chOff x="7353360" y="2286000"/>
            <a:chExt cx="431280" cy="159840"/>
          </a:xfrm>
        </p:grpSpPr>
        <p:sp>
          <p:nvSpPr>
            <p:cNvPr id="582" name=""/>
            <p:cNvSpPr/>
            <p:nvPr/>
          </p:nvSpPr>
          <p:spPr>
            <a:xfrm flipH="1" flipV="1">
              <a:off x="7443360" y="2333160"/>
              <a:ext cx="341280" cy="11268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53360" y="2286000"/>
              <a:ext cx="109080" cy="9360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69" y="0"/>
                  </a:moveTo>
                  <a:lnTo>
                    <a:pt x="0" y="10"/>
                  </a:lnTo>
                  <a:lnTo>
                    <a:pt x="49" y="5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235160" y="1130400"/>
            <a:ext cx="7085520" cy="5062320"/>
            <a:chOff x="1235160" y="1130400"/>
            <a:chExt cx="7085520" cy="5062320"/>
          </a:xfrm>
        </p:grpSpPr>
        <p:sp>
          <p:nvSpPr>
            <p:cNvPr id="585" name=""/>
            <p:cNvSpPr/>
            <p:nvPr/>
          </p:nvSpPr>
          <p:spPr>
            <a:xfrm>
              <a:off x="7827840" y="2319480"/>
              <a:ext cx="49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O-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1235160" y="1130400"/>
              <a:ext cx="6281640" cy="5062320"/>
              <a:chOff x="1235160" y="1130400"/>
              <a:chExt cx="6281640" cy="5062320"/>
            </a:xfrm>
          </p:grpSpPr>
          <p:sp>
            <p:nvSpPr>
              <p:cNvPr id="587" name=""/>
              <p:cNvSpPr/>
              <p:nvPr/>
            </p:nvSpPr>
            <p:spPr>
              <a:xfrm>
                <a:off x="4591080" y="5052960"/>
                <a:ext cx="517320" cy="4939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8360" y="5207040"/>
                <a:ext cx="11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92040" y="51022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209680" y="2678040"/>
                <a:ext cx="515880" cy="49536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07320" y="2814480"/>
                <a:ext cx="11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98040" y="269244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65600" y="2575080"/>
                <a:ext cx="517680" cy="4950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50640" y="2759040"/>
                <a:ext cx="11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869800" y="266400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297160" y="4711680"/>
                <a:ext cx="430200" cy="412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61680" y="4759200"/>
                <a:ext cx="105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29360" y="4648320"/>
                <a:ext cx="83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000"/>
                    </a:solidFill>
                    <a:latin typeface="Century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91080" y="3297240"/>
                <a:ext cx="431640" cy="412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765320" y="3468600"/>
                <a:ext cx="105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37320" y="3362400"/>
                <a:ext cx="83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000"/>
                    </a:solidFill>
                    <a:latin typeface="Century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726000" y="2162160"/>
                <a:ext cx="430200" cy="412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857760" y="22575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908520" y="2238480"/>
                <a:ext cx="152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986280" y="2133720"/>
                <a:ext cx="83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000"/>
                    </a:solidFill>
                    <a:latin typeface="Century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65600" y="4330800"/>
                <a:ext cx="430200" cy="412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729040" y="4425840"/>
                <a:ext cx="105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13280" y="4343400"/>
                <a:ext cx="211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000"/>
                    </a:solidFill>
                    <a:latin typeface="Century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267080" y="3711600"/>
                <a:ext cx="173160" cy="1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2743200" y="3075120"/>
                <a:ext cx="1523520" cy="744480"/>
                <a:chOff x="2743200" y="3075120"/>
                <a:chExt cx="1523520" cy="7444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2743200" y="3075120"/>
                  <a:ext cx="1380960" cy="684000"/>
                </a:xfrm>
                <a:custGeom>
                  <a:avLst/>
                  <a:gdLst/>
                  <a:ahLst/>
                  <a:rect l="l" t="t" r="r" b="b"/>
                  <a:pathLst>
                    <a:path w="870" h="431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860" y="431"/>
                      </a:lnTo>
                      <a:lnTo>
                        <a:pt x="870" y="4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076280" y="3665520"/>
                  <a:ext cx="190440" cy="154080"/>
                </a:xfrm>
                <a:custGeom>
                  <a:avLst/>
                  <a:gdLst/>
                  <a:ahLst/>
                  <a:rect l="l" t="t" r="r" b="b"/>
                  <a:pathLst>
                    <a:path w="120" h="97">
                      <a:moveTo>
                        <a:pt x="0" y="97"/>
                      </a:moveTo>
                      <a:lnTo>
                        <a:pt x="120" y="94"/>
                      </a:lnTo>
                      <a:lnTo>
                        <a:pt x="46" y="0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037040" y="3917880"/>
                <a:ext cx="229680" cy="220680"/>
                <a:chOff x="4037040" y="3917880"/>
                <a:chExt cx="229680" cy="22068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037040" y="4019400"/>
                  <a:ext cx="122040" cy="119160"/>
                </a:xfrm>
                <a:custGeom>
                  <a:avLst/>
                  <a:gdLst/>
                  <a:ahLst/>
                  <a:rect l="l" t="t" r="r" b="b"/>
                  <a:pathLst>
                    <a:path w="77" h="75">
                      <a:moveTo>
                        <a:pt x="0" y="58"/>
                      </a:moveTo>
                      <a:lnTo>
                        <a:pt x="16" y="75"/>
                      </a:lnTo>
                      <a:lnTo>
                        <a:pt x="77" y="17"/>
                      </a:lnTo>
                      <a:lnTo>
                        <a:pt x="6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086000" y="3917880"/>
                  <a:ext cx="180720" cy="179280"/>
                </a:xfrm>
                <a:custGeom>
                  <a:avLst/>
                  <a:gdLst/>
                  <a:ahLst/>
                  <a:rect l="l" t="t" r="r" b="b"/>
                  <a:pathLst>
                    <a:path w="114" h="113">
                      <a:moveTo>
                        <a:pt x="74" y="113"/>
                      </a:moveTo>
                      <a:lnTo>
                        <a:pt x="114" y="0"/>
                      </a:lnTo>
                      <a:lnTo>
                        <a:pt x="0" y="35"/>
                      </a:lnTo>
                      <a:lnTo>
                        <a:pt x="74" y="11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4483080" y="2889360"/>
                <a:ext cx="1170000" cy="822240"/>
                <a:chOff x="4483080" y="2889360"/>
                <a:chExt cx="1170000" cy="8222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4610160" y="2889360"/>
                  <a:ext cx="1042920" cy="744480"/>
                </a:xfrm>
                <a:custGeom>
                  <a:avLst/>
                  <a:gdLst/>
                  <a:ahLst/>
                  <a:rect l="l" t="t" r="r" b="b"/>
                  <a:pathLst>
                    <a:path w="657" h="469">
                      <a:moveTo>
                        <a:pt x="657" y="19"/>
                      </a:moveTo>
                      <a:lnTo>
                        <a:pt x="644" y="0"/>
                      </a:lnTo>
                      <a:lnTo>
                        <a:pt x="0" y="450"/>
                      </a:lnTo>
                      <a:lnTo>
                        <a:pt x="13" y="469"/>
                      </a:lnTo>
                      <a:lnTo>
                        <a:pt x="657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483080" y="3544920"/>
                  <a:ext cx="187560" cy="166680"/>
                </a:xfrm>
                <a:custGeom>
                  <a:avLst/>
                  <a:gdLst/>
                  <a:ahLst/>
                  <a:rect l="l" t="t" r="r" b="b"/>
                  <a:pathLst>
                    <a:path w="118" h="105">
                      <a:moveTo>
                        <a:pt x="57" y="0"/>
                      </a:moveTo>
                      <a:lnTo>
                        <a:pt x="0" y="105"/>
                      </a:lnTo>
                      <a:lnTo>
                        <a:pt x="118" y="88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4351320" y="3917880"/>
                <a:ext cx="406440" cy="1074960"/>
                <a:chOff x="4351320" y="3917880"/>
                <a:chExt cx="406440" cy="107496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413240" y="4068720"/>
                  <a:ext cx="344520" cy="924120"/>
                </a:xfrm>
                <a:custGeom>
                  <a:avLst/>
                  <a:gdLst/>
                  <a:ahLst/>
                  <a:rect l="l" t="t" r="r" b="b"/>
                  <a:pathLst>
                    <a:path w="217" h="582">
                      <a:moveTo>
                        <a:pt x="195" y="582"/>
                      </a:moveTo>
                      <a:lnTo>
                        <a:pt x="217" y="574"/>
                      </a:lnTo>
                      <a:lnTo>
                        <a:pt x="22" y="0"/>
                      </a:lnTo>
                      <a:lnTo>
                        <a:pt x="0" y="8"/>
                      </a:lnTo>
                      <a:lnTo>
                        <a:pt x="195" y="58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351320" y="3917880"/>
                  <a:ext cx="160560" cy="187560"/>
                </a:xfrm>
                <a:custGeom>
                  <a:avLst/>
                  <a:gdLst/>
                  <a:ahLst/>
                  <a:rect l="l" t="t" r="r" b="b"/>
                  <a:pathLst>
                    <a:path w="101" h="118">
                      <a:moveTo>
                        <a:pt x="101" y="83"/>
                      </a:moveTo>
                      <a:lnTo>
                        <a:pt x="15" y="0"/>
                      </a:lnTo>
                      <a:lnTo>
                        <a:pt x="0" y="118"/>
                      </a:lnTo>
                      <a:lnTo>
                        <a:pt x="101" y="8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4483080" y="3511440"/>
                <a:ext cx="243000" cy="200160"/>
                <a:chOff x="4483080" y="3511440"/>
                <a:chExt cx="243000" cy="2001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4656240" y="3584520"/>
                  <a:ext cx="39600" cy="49320"/>
                </a:xfrm>
                <a:custGeom>
                  <a:avLst/>
                  <a:gdLst/>
                  <a:ahLst/>
                  <a:rect l="l" t="t" r="r" b="b"/>
                  <a:pathLst>
                    <a:path w="25" h="31">
                      <a:moveTo>
                        <a:pt x="25" y="28"/>
                      </a:move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21" y="31"/>
                      </a:lnTo>
                      <a:lnTo>
                        <a:pt x="25" y="2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483080" y="3511440"/>
                  <a:ext cx="243000" cy="200160"/>
                </a:xfrm>
                <a:custGeom>
                  <a:avLst/>
                  <a:gdLst/>
                  <a:ahLst/>
                  <a:rect l="l" t="t" r="r" b="b"/>
                  <a:pathLst>
                    <a:path w="153" h="126">
                      <a:moveTo>
                        <a:pt x="88" y="0"/>
                      </a:moveTo>
                      <a:lnTo>
                        <a:pt x="0" y="126"/>
                      </a:lnTo>
                      <a:lnTo>
                        <a:pt x="153" y="121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4483080" y="3913200"/>
                <a:ext cx="1095480" cy="546120"/>
                <a:chOff x="4483080" y="3913200"/>
                <a:chExt cx="1095480" cy="546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4664160" y="3986280"/>
                  <a:ext cx="914400" cy="473040"/>
                </a:xfrm>
                <a:custGeom>
                  <a:avLst/>
                  <a:gdLst/>
                  <a:ahLst/>
                  <a:rect l="l" t="t" r="r" b="b"/>
                  <a:pathLst>
                    <a:path w="576" h="298">
                      <a:moveTo>
                        <a:pt x="560" y="298"/>
                      </a:moveTo>
                      <a:lnTo>
                        <a:pt x="576" y="266"/>
                      </a:lnTo>
                      <a:lnTo>
                        <a:pt x="16" y="0"/>
                      </a:lnTo>
                      <a:lnTo>
                        <a:pt x="0" y="32"/>
                      </a:lnTo>
                      <a:lnTo>
                        <a:pt x="560" y="29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483080" y="3913200"/>
                  <a:ext cx="243000" cy="195120"/>
                </a:xfrm>
                <a:custGeom>
                  <a:avLst/>
                  <a:gdLst/>
                  <a:ahLst/>
                  <a:rect l="l" t="t" r="r" b="b"/>
                  <a:pathLst>
                    <a:path w="153" h="123">
                      <a:moveTo>
                        <a:pt x="153" y="0"/>
                      </a:moveTo>
                      <a:lnTo>
                        <a:pt x="0" y="3"/>
                      </a:lnTo>
                      <a:lnTo>
                        <a:pt x="94" y="123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4022640" y="2567160"/>
                <a:ext cx="395280" cy="1144440"/>
                <a:chOff x="4022640" y="2567160"/>
                <a:chExt cx="395280" cy="11444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022640" y="2567160"/>
                  <a:ext cx="318960" cy="946080"/>
                </a:xfrm>
                <a:custGeom>
                  <a:avLst/>
                  <a:gdLst/>
                  <a:ahLst/>
                  <a:rect l="l" t="t" r="r" b="b"/>
                  <a:pathLst>
                    <a:path w="201" h="596">
                      <a:moveTo>
                        <a:pt x="34" y="0"/>
                      </a:moveTo>
                      <a:lnTo>
                        <a:pt x="0" y="10"/>
                      </a:lnTo>
                      <a:lnTo>
                        <a:pt x="167" y="596"/>
                      </a:lnTo>
                      <a:lnTo>
                        <a:pt x="201" y="58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209840" y="3473280"/>
                  <a:ext cx="208080" cy="238320"/>
                </a:xfrm>
                <a:custGeom>
                  <a:avLst/>
                  <a:gdLst/>
                  <a:ahLst/>
                  <a:rect l="l" t="t" r="r" b="b"/>
                  <a:pathLst>
                    <a:path w="131" h="150">
                      <a:moveTo>
                        <a:pt x="0" y="37"/>
                      </a:moveTo>
                      <a:lnTo>
                        <a:pt x="104" y="150"/>
                      </a:lnTo>
                      <a:lnTo>
                        <a:pt x="131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3813120" y="2246400"/>
                <a:ext cx="100080" cy="247680"/>
                <a:chOff x="3813120" y="2246400"/>
                <a:chExt cx="100080" cy="247680"/>
              </a:xfrm>
            </p:grpSpPr>
            <p:sp>
              <p:nvSpPr>
                <p:cNvPr id="632" name=""/>
                <p:cNvSpPr/>
                <p:nvPr/>
              </p:nvSpPr>
              <p:spPr>
                <a:xfrm flipV="1">
                  <a:off x="3862080" y="2341440"/>
                  <a:ext cx="180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813120" y="224640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63" y="62"/>
                      </a:moveTo>
                      <a:lnTo>
                        <a:pt x="31" y="0"/>
                      </a:lnTo>
                      <a:lnTo>
                        <a:pt x="0" y="62"/>
                      </a:lnTo>
                      <a:lnTo>
                        <a:pt x="63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5637240" y="4419720"/>
                <a:ext cx="100080" cy="245520"/>
                <a:chOff x="5637240" y="4419720"/>
                <a:chExt cx="100080" cy="245520"/>
              </a:xfrm>
            </p:grpSpPr>
            <p:sp>
              <p:nvSpPr>
                <p:cNvPr id="635" name=""/>
                <p:cNvSpPr/>
                <p:nvPr/>
              </p:nvSpPr>
              <p:spPr>
                <a:xfrm flipV="1">
                  <a:off x="5686560" y="4514760"/>
                  <a:ext cx="1440" cy="15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637240" y="441972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63" y="62"/>
                      </a:moveTo>
                      <a:lnTo>
                        <a:pt x="31" y="0"/>
                      </a:lnTo>
                      <a:lnTo>
                        <a:pt x="0" y="62"/>
                      </a:lnTo>
                      <a:lnTo>
                        <a:pt x="63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646520" y="3333600"/>
                <a:ext cx="100080" cy="247680"/>
                <a:chOff x="4646520" y="3333600"/>
                <a:chExt cx="100080" cy="24768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4697280" y="3333600"/>
                  <a:ext cx="18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646520" y="3482640"/>
                  <a:ext cx="100080" cy="9864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0" y="0"/>
                      </a:moveTo>
                      <a:lnTo>
                        <a:pt x="32" y="62"/>
                      </a:lnTo>
                      <a:lnTo>
                        <a:pt x="6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2384280" y="4794120"/>
                <a:ext cx="99720" cy="247680"/>
                <a:chOff x="2384280" y="4794120"/>
                <a:chExt cx="99720" cy="247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2435040" y="4794120"/>
                  <a:ext cx="144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384280" y="4943520"/>
                  <a:ext cx="99720" cy="9828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0" y="0"/>
                      </a:moveTo>
                      <a:lnTo>
                        <a:pt x="32" y="62"/>
                      </a:lnTo>
                      <a:lnTo>
                        <a:pt x="6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"/>
              <p:cNvSpPr/>
              <p:nvPr/>
            </p:nvSpPr>
            <p:spPr>
              <a:xfrm>
                <a:off x="2744640" y="2355840"/>
                <a:ext cx="998640" cy="541440"/>
              </a:xfrm>
              <a:custGeom>
                <a:avLst/>
                <a:gdLst/>
                <a:ahLst/>
                <a:rect l="l" t="t" r="r" b="b"/>
                <a:pathLst>
                  <a:path w="629" h="341">
                    <a:moveTo>
                      <a:pt x="0" y="325"/>
                    </a:moveTo>
                    <a:lnTo>
                      <a:pt x="8" y="341"/>
                    </a:lnTo>
                    <a:lnTo>
                      <a:pt x="629" y="16"/>
                    </a:lnTo>
                    <a:lnTo>
                      <a:pt x="621" y="0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56200" y="2355840"/>
                <a:ext cx="1412640" cy="336600"/>
              </a:xfrm>
              <a:custGeom>
                <a:avLst/>
                <a:gdLst/>
                <a:ahLst/>
                <a:rect l="l" t="t" r="r" b="b"/>
                <a:pathLst>
                  <a:path w="890" h="212">
                    <a:moveTo>
                      <a:pt x="4" y="0"/>
                    </a:moveTo>
                    <a:lnTo>
                      <a:pt x="0" y="17"/>
                    </a:lnTo>
                    <a:lnTo>
                      <a:pt x="886" y="212"/>
                    </a:lnTo>
                    <a:lnTo>
                      <a:pt x="890" y="19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747880" y="2975040"/>
                <a:ext cx="1846440" cy="439560"/>
              </a:xfrm>
              <a:custGeom>
                <a:avLst/>
                <a:gdLst/>
                <a:ahLst/>
                <a:rect l="l" t="t" r="r" b="b"/>
                <a:pathLst>
                  <a:path w="1163" h="277">
                    <a:moveTo>
                      <a:pt x="4" y="0"/>
                    </a:moveTo>
                    <a:lnTo>
                      <a:pt x="0" y="17"/>
                    </a:lnTo>
                    <a:lnTo>
                      <a:pt x="1159" y="277"/>
                    </a:lnTo>
                    <a:lnTo>
                      <a:pt x="1163" y="26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733480" y="4946760"/>
                <a:ext cx="1860840" cy="326880"/>
              </a:xfrm>
              <a:custGeom>
                <a:avLst/>
                <a:gdLst/>
                <a:ahLst/>
                <a:rect l="l" t="t" r="r" b="b"/>
                <a:pathLst>
                  <a:path w="1172" h="206">
                    <a:moveTo>
                      <a:pt x="3" y="0"/>
                    </a:moveTo>
                    <a:lnTo>
                      <a:pt x="0" y="17"/>
                    </a:lnTo>
                    <a:lnTo>
                      <a:pt x="1169" y="206"/>
                    </a:lnTo>
                    <a:lnTo>
                      <a:pt x="1172" y="18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018040" y="4732200"/>
                <a:ext cx="663480" cy="412920"/>
              </a:xfrm>
              <a:custGeom>
                <a:avLst/>
                <a:gdLst/>
                <a:ahLst/>
                <a:rect l="l" t="t" r="r" b="b"/>
                <a:pathLst>
                  <a:path w="418" h="260">
                    <a:moveTo>
                      <a:pt x="0" y="245"/>
                    </a:moveTo>
                    <a:lnTo>
                      <a:pt x="9" y="260"/>
                    </a:lnTo>
                    <a:lnTo>
                      <a:pt x="418" y="15"/>
                    </a:lnTo>
                    <a:lnTo>
                      <a:pt x="409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3875040" y="4205160"/>
                <a:ext cx="1673280" cy="357480"/>
                <a:chOff x="3875040" y="4205160"/>
                <a:chExt cx="1673280" cy="35748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3875040" y="4205160"/>
                  <a:ext cx="115920" cy="47880"/>
                </a:xfrm>
                <a:custGeom>
                  <a:avLst/>
                  <a:gdLst/>
                  <a:ahLst/>
                  <a:rect l="l" t="t" r="r" b="b"/>
                  <a:pathLst>
                    <a:path w="73" h="30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0" y="30"/>
                      </a:lnTo>
                      <a:lnTo>
                        <a:pt x="73" y="1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70520" y="4243320"/>
                  <a:ext cx="117360" cy="49320"/>
                </a:xfrm>
                <a:custGeom>
                  <a:avLst/>
                  <a:gdLst/>
                  <a:ahLst/>
                  <a:rect l="l" t="t" r="r" b="b"/>
                  <a:pathLst>
                    <a:path w="74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1" y="31"/>
                      </a:lnTo>
                      <a:lnTo>
                        <a:pt x="74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267440" y="4281480"/>
                  <a:ext cx="115920" cy="49320"/>
                </a:xfrm>
                <a:custGeom>
                  <a:avLst/>
                  <a:gdLst/>
                  <a:ahLst/>
                  <a:rect l="l" t="t" r="r" b="b"/>
                  <a:pathLst>
                    <a:path w="73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3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462560" y="4321080"/>
                  <a:ext cx="117360" cy="49320"/>
                </a:xfrm>
                <a:custGeom>
                  <a:avLst/>
                  <a:gdLst/>
                  <a:ahLst/>
                  <a:rect l="l" t="t" r="r" b="b"/>
                  <a:pathLst>
                    <a:path w="74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1" y="31"/>
                      </a:lnTo>
                      <a:lnTo>
                        <a:pt x="74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659480" y="4359240"/>
                  <a:ext cx="117360" cy="49320"/>
                </a:xfrm>
                <a:custGeom>
                  <a:avLst/>
                  <a:gdLst/>
                  <a:ahLst/>
                  <a:rect l="l" t="t" r="r" b="b"/>
                  <a:pathLst>
                    <a:path w="74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1" y="31"/>
                      </a:lnTo>
                      <a:lnTo>
                        <a:pt x="74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856400" y="4398840"/>
                  <a:ext cx="115920" cy="49320"/>
                </a:xfrm>
                <a:custGeom>
                  <a:avLst/>
                  <a:gdLst/>
                  <a:ahLst/>
                  <a:rect l="l" t="t" r="r" b="b"/>
                  <a:pathLst>
                    <a:path w="73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3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051520" y="4437000"/>
                  <a:ext cx="117360" cy="49320"/>
                </a:xfrm>
                <a:custGeom>
                  <a:avLst/>
                  <a:gdLst/>
                  <a:ahLst/>
                  <a:rect l="l" t="t" r="r" b="b"/>
                  <a:pathLst>
                    <a:path w="74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1" y="31"/>
                      </a:lnTo>
                      <a:lnTo>
                        <a:pt x="74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248440" y="4476600"/>
                  <a:ext cx="115920" cy="49320"/>
                </a:xfrm>
                <a:custGeom>
                  <a:avLst/>
                  <a:gdLst/>
                  <a:ahLst/>
                  <a:rect l="l" t="t" r="r" b="b"/>
                  <a:pathLst>
                    <a:path w="73" h="31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70" y="31"/>
                      </a:lnTo>
                      <a:lnTo>
                        <a:pt x="73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443560" y="4514760"/>
                  <a:ext cx="104760" cy="47880"/>
                </a:xfrm>
                <a:custGeom>
                  <a:avLst/>
                  <a:gdLst/>
                  <a:ahLst/>
                  <a:rect l="l" t="t" r="r" b="b"/>
                  <a:pathLst>
                    <a:path w="66" h="30">
                      <a:moveTo>
                        <a:pt x="3" y="0"/>
                      </a:moveTo>
                      <a:lnTo>
                        <a:pt x="0" y="17"/>
                      </a:lnTo>
                      <a:lnTo>
                        <a:pt x="63" y="30"/>
                      </a:lnTo>
                      <a:lnTo>
                        <a:pt x="66" y="1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459160" y="3314880"/>
                <a:ext cx="28440" cy="1396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94120" y="3711600"/>
                <a:ext cx="28800" cy="1398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769000" y="3090960"/>
                <a:ext cx="28440" cy="1239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3884400" y="2643120"/>
                <a:ext cx="28440" cy="1314360"/>
                <a:chOff x="3884400" y="2643120"/>
                <a:chExt cx="28440" cy="13143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884400" y="2643120"/>
                  <a:ext cx="28440" cy="114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884400" y="2843280"/>
                  <a:ext cx="28440" cy="114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884400" y="3043080"/>
                  <a:ext cx="28440" cy="114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884400" y="3243240"/>
                  <a:ext cx="28440" cy="114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884400" y="3443400"/>
                  <a:ext cx="28440" cy="114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884400" y="3643200"/>
                  <a:ext cx="28440" cy="1144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884400" y="3843360"/>
                  <a:ext cx="28440" cy="114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 flipV="1">
                <a:off x="1668600" y="1542960"/>
                <a:ext cx="1949400" cy="9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101680" y="2265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68600" y="2471760"/>
                <a:ext cx="1440" cy="28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68600" y="5362560"/>
                <a:ext cx="346392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18000" y="1542960"/>
                <a:ext cx="346392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668600" y="2471760"/>
                <a:ext cx="346392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2520" y="2162160"/>
                <a:ext cx="1949400" cy="9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5132520" y="5052960"/>
                <a:ext cx="1949400" cy="9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"/>
              <p:cNvGrpSpPr/>
              <p:nvPr/>
            </p:nvGrpSpPr>
            <p:grpSpPr>
              <a:xfrm>
                <a:off x="1663560" y="4429080"/>
                <a:ext cx="1958760" cy="938160"/>
                <a:chOff x="1663560" y="4429080"/>
                <a:chExt cx="1958760" cy="93816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1663560" y="534204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723680" y="531324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784160" y="528480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844280" y="525456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" y="11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904760" y="522612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" y="11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965240" y="519732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" y="11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025360" y="5168880"/>
                  <a:ext cx="42840" cy="2700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2" y="11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084040" y="5140440"/>
                  <a:ext cx="4464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144520" y="511164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204640" y="50832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265120" y="505476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325600" y="502596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385720" y="499752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446200" y="496872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506320" y="494028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566800" y="491184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26920" y="488304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687400" y="485460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747520" y="4826160"/>
                  <a:ext cx="4320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806560" y="479592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866680" y="4767120"/>
                  <a:ext cx="4464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927160" y="473868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987280" y="4710240"/>
                  <a:ext cx="4464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047760" y="468144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3" y="11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4" y="17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108240" y="465300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168360" y="462456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28840" y="459576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88960" y="456732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349440" y="453852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409560" y="451008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470040" y="448164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528720" y="445284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589200" y="442908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3" y="7"/>
                      </a:move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3612960" y="4429080"/>
                <a:ext cx="3460680" cy="625680"/>
                <a:chOff x="3612960" y="4429080"/>
                <a:chExt cx="3460680" cy="62568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3612960" y="442908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678120" y="4440240"/>
                  <a:ext cx="4752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744720" y="445284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809880" y="446400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874680" y="4476600"/>
                  <a:ext cx="4788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30" y="5"/>
                      </a:lnTo>
                      <a:lnTo>
                        <a:pt x="29" y="4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941640" y="4487760"/>
                  <a:ext cx="4572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006440" y="4498920"/>
                  <a:ext cx="4788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071600" y="451152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30" y="5"/>
                      </a:lnTo>
                      <a:lnTo>
                        <a:pt x="29" y="4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138200" y="452268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203360" y="453564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268520" y="454644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335120" y="4557600"/>
                  <a:ext cx="46080" cy="1764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400280" y="457056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465440" y="458136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532040" y="4592520"/>
                  <a:ext cx="46080" cy="1764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597200" y="460548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663800" y="4616280"/>
                  <a:ext cx="4608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728960" y="462924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794120" y="464040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860720" y="4651200"/>
                  <a:ext cx="46080" cy="1764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925880" y="466416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990680" y="467532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057640" y="468792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122440" y="469908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187600" y="4710240"/>
                  <a:ext cx="47880" cy="172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254200" y="472284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319360" y="473400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384520" y="474660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451120" y="475776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516280" y="4768920"/>
                  <a:ext cx="47520" cy="172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581440" y="478152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648040" y="479268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713200" y="4803840"/>
                  <a:ext cx="47520" cy="172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778360" y="481644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844960" y="48276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910120" y="484020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974920" y="485136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041880" y="4862520"/>
                  <a:ext cx="46080" cy="17280"/>
                </a:xfrm>
                <a:custGeom>
                  <a:avLst/>
                  <a:gdLst/>
                  <a:ahLst/>
                  <a:rect l="l" t="t" r="r" b="b"/>
                  <a:pathLst>
                    <a:path w="29" h="1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106680" y="487512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171840" y="488628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238440" y="4898880"/>
                  <a:ext cx="4608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303600" y="4910040"/>
                  <a:ext cx="4788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368760" y="4921200"/>
                  <a:ext cx="4752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7" y="11"/>
                      </a:lnTo>
                      <a:lnTo>
                        <a:pt x="28" y="11"/>
                      </a:lnTo>
                      <a:lnTo>
                        <a:pt x="29" y="10"/>
                      </a:ln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435360" y="4933800"/>
                  <a:ext cx="4608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500520" y="4944960"/>
                  <a:ext cx="47520" cy="158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567120" y="495792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632280" y="4968720"/>
                  <a:ext cx="4608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697440" y="4979880"/>
                  <a:ext cx="4752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764040" y="499284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829200" y="500364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894360" y="5014800"/>
                  <a:ext cx="47520" cy="1764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6" y="11"/>
                      </a:lnTo>
                      <a:lnTo>
                        <a:pt x="27" y="11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960960" y="502776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026120" y="5038560"/>
                  <a:ext cx="47520" cy="1620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10"/>
                      </a:lnTo>
                      <a:lnTo>
                        <a:pt x="27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29" y="6"/>
                      </a:lnTo>
                      <a:lnTo>
                        <a:pt x="28" y="5"/>
                      </a:lnTo>
                      <a:lnTo>
                        <a:pt x="2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"/>
              <p:cNvSpPr/>
              <p:nvPr/>
            </p:nvSpPr>
            <p:spPr>
              <a:xfrm>
                <a:off x="5132520" y="3090960"/>
                <a:ext cx="1440" cy="28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3612960" y="1538280"/>
                <a:ext cx="9360" cy="2900520"/>
                <a:chOff x="3612960" y="1538280"/>
                <a:chExt cx="9360" cy="29005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3612960" y="15382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612960" y="16048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612960" y="16714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612960" y="17384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612960" y="18050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612960" y="18716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612960" y="19382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612960" y="20048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612960" y="20718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612960" y="21384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612960" y="22050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612960" y="227160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12960" y="23385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612960" y="24051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612960" y="24717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612960" y="25383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612960" y="260496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612960" y="26719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612960" y="27385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612960" y="28051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612960" y="28717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612960" y="293832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612960" y="30052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612960" y="30718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612960" y="31384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612960" y="32050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612960" y="32716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12960" y="33386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612960" y="34052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612960" y="34718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612960" y="35384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612960" y="36050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612960" y="36720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612960" y="37386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612960" y="38052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612960" y="387180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612960" y="39387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612960" y="40053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612960" y="40719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612960" y="41385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612960" y="420516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612960" y="42721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612960" y="43387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612960" y="4405320"/>
                  <a:ext cx="9360" cy="33480"/>
                </a:xfrm>
                <a:custGeom>
                  <a:avLst/>
                  <a:gdLst/>
                  <a:ahLst/>
                  <a:rect l="l" t="t" r="r" b="b"/>
                  <a:pathLst>
                    <a:path w="6" h="21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5" y="19"/>
                      </a:lnTo>
                      <a:lnTo>
                        <a:pt x="6" y="19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"/>
              <p:cNvSpPr/>
              <p:nvPr/>
            </p:nvSpPr>
            <p:spPr>
              <a:xfrm>
                <a:off x="7081920" y="2162160"/>
                <a:ext cx="1440" cy="28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292560" y="1130400"/>
                <a:ext cx="758880" cy="7239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525120" y="1355760"/>
                <a:ext cx="25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700520" y="2678040"/>
                <a:ext cx="758880" cy="7239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2760" y="2925720"/>
                <a:ext cx="25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35160" y="5052960"/>
                <a:ext cx="758880" cy="7239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486800" y="5276880"/>
                <a:ext cx="25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757920" y="4743360"/>
                <a:ext cx="758880" cy="7239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06680" y="4952880"/>
                <a:ext cx="25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P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1338120" y="2157480"/>
                <a:ext cx="550800" cy="525240"/>
                <a:chOff x="1338120" y="2157480"/>
                <a:chExt cx="550800" cy="52524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1342800" y="2162160"/>
                  <a:ext cx="542880" cy="517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569600" y="2157480"/>
                  <a:ext cx="47880" cy="126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8" y="6"/>
                      </a:move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9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2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506240" y="2165400"/>
                  <a:ext cx="44640" cy="205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6" y="6"/>
                      </a:move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16" y="2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17" y="8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447560" y="2189160"/>
                  <a:ext cx="41400" cy="2844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24" y="6"/>
                      </a:moveTo>
                      <a:lnTo>
                        <a:pt x="25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7" y="8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10" y="13"/>
                      </a:ln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398240" y="222552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17" y="9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361880" y="227664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7" y="4"/>
                      </a:move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7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6" y="1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6" y="25"/>
                      </a:lnTo>
                      <a:lnTo>
                        <a:pt x="11" y="15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341000" y="2335320"/>
                  <a:ext cx="19080" cy="4752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4"/>
                      </a:move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1" y="20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7" y="21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338120" y="2400480"/>
                  <a:ext cx="11160" cy="4752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6" y="13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344240" y="2467080"/>
                  <a:ext cx="20880" cy="4608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4" y="19"/>
                      </a:lnTo>
                      <a:lnTo>
                        <a:pt x="7" y="27"/>
                      </a:lnTo>
                      <a:lnTo>
                        <a:pt x="7" y="28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6"/>
                      </a:lnTo>
                      <a:lnTo>
                        <a:pt x="10" y="1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366560" y="252900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2" y="24"/>
                      </a:lnTo>
                      <a:lnTo>
                        <a:pt x="13" y="25"/>
                      </a:lnTo>
                      <a:lnTo>
                        <a:pt x="14" y="26"/>
                      </a:lnTo>
                      <a:lnTo>
                        <a:pt x="15" y="27"/>
                      </a:lnTo>
                      <a:lnTo>
                        <a:pt x="16" y="27"/>
                      </a:lnTo>
                      <a:lnTo>
                        <a:pt x="17" y="26"/>
                      </a:lnTo>
                      <a:lnTo>
                        <a:pt x="18" y="25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7" y="21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404720" y="258444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9" y="14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22" y="1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454040" y="2627280"/>
                  <a:ext cx="42840" cy="28440"/>
                </a:xfrm>
                <a:custGeom>
                  <a:avLst/>
                  <a:gdLst/>
                  <a:ahLst/>
                  <a:rect l="l" t="t" r="r" b="b"/>
                  <a:pathLst>
                    <a:path w="27" h="18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24" y="18"/>
                      </a:lnTo>
                      <a:lnTo>
                        <a:pt x="25" y="18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26" y="12"/>
                      </a:lnTo>
                      <a:lnTo>
                        <a:pt x="25" y="12"/>
                      </a:lnTo>
                      <a:lnTo>
                        <a:pt x="19" y="9"/>
                      </a:lnTo>
                      <a:lnTo>
                        <a:pt x="19" y="12"/>
                      </a:lnTo>
                      <a:lnTo>
                        <a:pt x="20" y="10"/>
                      </a:lnTo>
                      <a:lnTo>
                        <a:pt x="6" y="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514160" y="2657520"/>
                  <a:ext cx="4608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1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579320" y="2671920"/>
                  <a:ext cx="47520" cy="1080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645920" y="2664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" y="4"/>
                      </a:move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14" y="9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1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709640" y="263844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5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0" y="2"/>
                      </a:lnTo>
                      <a:lnTo>
                        <a:pt x="5" y="9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768320" y="2598840"/>
                  <a:ext cx="3960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13" y="15"/>
                      </a:lnTo>
                      <a:lnTo>
                        <a:pt x="23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10" y="10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817280" y="2548080"/>
                  <a:ext cx="3348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1"/>
                      </a:move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15" y="12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0" y="9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854000" y="2487600"/>
                  <a:ext cx="23760" cy="4464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7"/>
                      </a:lnTo>
                      <a:lnTo>
                        <a:pt x="2" y="28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5"/>
                      </a:lnTo>
                      <a:lnTo>
                        <a:pt x="3" y="20"/>
                      </a:lnTo>
                      <a:lnTo>
                        <a:pt x="6" y="20"/>
                      </a:lnTo>
                      <a:lnTo>
                        <a:pt x="3" y="19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874520" y="2422440"/>
                  <a:ext cx="14400" cy="4608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0" y="26"/>
                      </a:move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2" y="1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871280" y="2355840"/>
                  <a:ext cx="15840" cy="4752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4" y="27"/>
                      </a:move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29"/>
                      </a:lnTo>
                      <a:lnTo>
                        <a:pt x="10" y="28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3"/>
                      </a:lnTo>
                      <a:lnTo>
                        <a:pt x="8" y="7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24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847520" y="2293920"/>
                  <a:ext cx="25560" cy="4464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0" y="25"/>
                      </a:moveTo>
                      <a:lnTo>
                        <a:pt x="10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5" y="26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7" y="18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807920" y="2241720"/>
                  <a:ext cx="3348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6" y="22"/>
                      </a:moveTo>
                      <a:lnTo>
                        <a:pt x="17" y="23"/>
                      </a:lnTo>
                      <a:lnTo>
                        <a:pt x="18" y="24"/>
                      </a:lnTo>
                      <a:lnTo>
                        <a:pt x="19" y="24"/>
                      </a:lnTo>
                      <a:lnTo>
                        <a:pt x="20" y="23"/>
                      </a:lnTo>
                      <a:lnTo>
                        <a:pt x="21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1" y="19"/>
                      </a:lnTo>
                      <a:lnTo>
                        <a:pt x="12" y="8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755360" y="219852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21" y="20"/>
                      </a:move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19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6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18" y="1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695240" y="2171880"/>
                  <a:ext cx="44280" cy="2376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5" y="15"/>
                      </a:move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8" y="11"/>
                      </a:lnTo>
                      <a:lnTo>
                        <a:pt x="28" y="10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4" y="10"/>
                      </a:lnTo>
                      <a:lnTo>
                        <a:pt x="2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630080" y="2158920"/>
                  <a:ext cx="47520" cy="14400"/>
                </a:xfrm>
                <a:custGeom>
                  <a:avLst/>
                  <a:gdLst/>
                  <a:ahLst/>
                  <a:rect l="l" t="t" r="r" b="b"/>
                  <a:pathLst>
                    <a:path w="30" h="9">
                      <a:moveTo>
                        <a:pt x="26" y="9"/>
                      </a:move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4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23" y="8"/>
                      </a:lnTo>
                      <a:lnTo>
                        <a:pt x="2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6753240" y="1847880"/>
                <a:ext cx="550800" cy="525600"/>
                <a:chOff x="6753240" y="1847880"/>
                <a:chExt cx="550800" cy="5256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6757920" y="1852560"/>
                  <a:ext cx="543240" cy="517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985080" y="1847880"/>
                  <a:ext cx="47520" cy="126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8" y="6"/>
                      </a:move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9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2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921720" y="1855800"/>
                  <a:ext cx="44280" cy="205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6" y="6"/>
                      </a:move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16" y="2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17" y="8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862680" y="1879560"/>
                  <a:ext cx="41400" cy="2844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24" y="6"/>
                      </a:moveTo>
                      <a:lnTo>
                        <a:pt x="25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7" y="8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10" y="13"/>
                      </a:ln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813720" y="19162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17" y="9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777000" y="196704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7" y="4"/>
                      </a:move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7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6" y="1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6" y="25"/>
                      </a:lnTo>
                      <a:lnTo>
                        <a:pt x="11" y="15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756480" y="2025720"/>
                  <a:ext cx="19080" cy="4752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4"/>
                      </a:move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1" y="20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7" y="21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753240" y="2090880"/>
                  <a:ext cx="11160" cy="4752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6" y="13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759720" y="2157480"/>
                  <a:ext cx="20520" cy="4608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4" y="19"/>
                      </a:lnTo>
                      <a:lnTo>
                        <a:pt x="7" y="27"/>
                      </a:lnTo>
                      <a:lnTo>
                        <a:pt x="7" y="28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6"/>
                      </a:lnTo>
                      <a:lnTo>
                        <a:pt x="10" y="1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782040" y="221940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2" y="24"/>
                      </a:lnTo>
                      <a:lnTo>
                        <a:pt x="13" y="25"/>
                      </a:lnTo>
                      <a:lnTo>
                        <a:pt x="14" y="26"/>
                      </a:lnTo>
                      <a:lnTo>
                        <a:pt x="15" y="27"/>
                      </a:lnTo>
                      <a:lnTo>
                        <a:pt x="16" y="27"/>
                      </a:lnTo>
                      <a:lnTo>
                        <a:pt x="17" y="26"/>
                      </a:lnTo>
                      <a:lnTo>
                        <a:pt x="18" y="25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7" y="21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819840" y="2274840"/>
                  <a:ext cx="36720" cy="34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9" y="14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22" y="1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869160" y="2317680"/>
                  <a:ext cx="42840" cy="28800"/>
                </a:xfrm>
                <a:custGeom>
                  <a:avLst/>
                  <a:gdLst/>
                  <a:ahLst/>
                  <a:rect l="l" t="t" r="r" b="b"/>
                  <a:pathLst>
                    <a:path w="27" h="18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24" y="18"/>
                      </a:lnTo>
                      <a:lnTo>
                        <a:pt x="25" y="18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26" y="12"/>
                      </a:lnTo>
                      <a:lnTo>
                        <a:pt x="25" y="12"/>
                      </a:lnTo>
                      <a:lnTo>
                        <a:pt x="19" y="9"/>
                      </a:lnTo>
                      <a:lnTo>
                        <a:pt x="19" y="12"/>
                      </a:lnTo>
                      <a:lnTo>
                        <a:pt x="20" y="10"/>
                      </a:lnTo>
                      <a:lnTo>
                        <a:pt x="6" y="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929640" y="2347920"/>
                  <a:ext cx="4608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1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994800" y="2362320"/>
                  <a:ext cx="47520" cy="111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061400" y="23544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" y="4"/>
                      </a:move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14" y="9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1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124760" y="232884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5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0" y="2"/>
                      </a:lnTo>
                      <a:lnTo>
                        <a:pt x="5" y="9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183440" y="2289240"/>
                  <a:ext cx="3996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13" y="15"/>
                      </a:lnTo>
                      <a:lnTo>
                        <a:pt x="23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10" y="10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232760" y="2238480"/>
                  <a:ext cx="3348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1"/>
                      </a:move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15" y="12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0" y="9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269120" y="2178000"/>
                  <a:ext cx="24120" cy="4464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7"/>
                      </a:lnTo>
                      <a:lnTo>
                        <a:pt x="2" y="28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5"/>
                      </a:lnTo>
                      <a:lnTo>
                        <a:pt x="3" y="20"/>
                      </a:lnTo>
                      <a:lnTo>
                        <a:pt x="6" y="20"/>
                      </a:lnTo>
                      <a:lnTo>
                        <a:pt x="3" y="19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290000" y="211284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0" y="26"/>
                      </a:move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2" y="1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286760" y="2046240"/>
                  <a:ext cx="15840" cy="4752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4" y="27"/>
                      </a:move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29"/>
                      </a:lnTo>
                      <a:lnTo>
                        <a:pt x="10" y="28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3"/>
                      </a:lnTo>
                      <a:lnTo>
                        <a:pt x="8" y="7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24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263000" y="1984320"/>
                  <a:ext cx="25200" cy="4464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0" y="25"/>
                      </a:moveTo>
                      <a:lnTo>
                        <a:pt x="10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5" y="26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7" y="18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223400" y="1932120"/>
                  <a:ext cx="3312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6" y="22"/>
                      </a:moveTo>
                      <a:lnTo>
                        <a:pt x="17" y="23"/>
                      </a:lnTo>
                      <a:lnTo>
                        <a:pt x="18" y="24"/>
                      </a:lnTo>
                      <a:lnTo>
                        <a:pt x="19" y="24"/>
                      </a:lnTo>
                      <a:lnTo>
                        <a:pt x="20" y="23"/>
                      </a:lnTo>
                      <a:lnTo>
                        <a:pt x="21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1" y="19"/>
                      </a:lnTo>
                      <a:lnTo>
                        <a:pt x="12" y="8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170840" y="1889280"/>
                  <a:ext cx="4140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21" y="20"/>
                      </a:move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19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6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18" y="1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7110360" y="1862280"/>
                  <a:ext cx="44640" cy="2376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5" y="15"/>
                      </a:move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8" y="11"/>
                      </a:lnTo>
                      <a:lnTo>
                        <a:pt x="28" y="10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4" y="10"/>
                      </a:lnTo>
                      <a:lnTo>
                        <a:pt x="2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045560" y="1849320"/>
                  <a:ext cx="47520" cy="14400"/>
                </a:xfrm>
                <a:custGeom>
                  <a:avLst/>
                  <a:gdLst/>
                  <a:ahLst/>
                  <a:rect l="l" t="t" r="r" b="b"/>
                  <a:pathLst>
                    <a:path w="30" h="9">
                      <a:moveTo>
                        <a:pt x="26" y="9"/>
                      </a:move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4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23" y="8"/>
                      </a:lnTo>
                      <a:lnTo>
                        <a:pt x="2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3395520" y="4222800"/>
                <a:ext cx="550800" cy="525240"/>
                <a:chOff x="3395520" y="4222800"/>
                <a:chExt cx="550800" cy="52524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3400200" y="4227480"/>
                  <a:ext cx="542880" cy="517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627000" y="4222800"/>
                  <a:ext cx="47880" cy="126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8" y="6"/>
                      </a:move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9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2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563640" y="4230720"/>
                  <a:ext cx="44640" cy="205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6" y="6"/>
                      </a:move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16" y="2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17" y="8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504960" y="4254480"/>
                  <a:ext cx="41400" cy="2844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24" y="6"/>
                      </a:moveTo>
                      <a:lnTo>
                        <a:pt x="25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7" y="8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10" y="13"/>
                      </a:ln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455640" y="429084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17" y="9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3419280" y="434196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7" y="4"/>
                      </a:move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7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6" y="1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6" y="25"/>
                      </a:lnTo>
                      <a:lnTo>
                        <a:pt x="11" y="15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398400" y="4400640"/>
                  <a:ext cx="19080" cy="4752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4"/>
                      </a:move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1" y="20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7" y="21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395520" y="4465800"/>
                  <a:ext cx="11160" cy="4752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6" y="13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401640" y="4532400"/>
                  <a:ext cx="20880" cy="4608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4" y="19"/>
                      </a:lnTo>
                      <a:lnTo>
                        <a:pt x="7" y="27"/>
                      </a:lnTo>
                      <a:lnTo>
                        <a:pt x="7" y="28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6"/>
                      </a:lnTo>
                      <a:lnTo>
                        <a:pt x="10" y="1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423960" y="459432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2" y="24"/>
                      </a:lnTo>
                      <a:lnTo>
                        <a:pt x="13" y="25"/>
                      </a:lnTo>
                      <a:lnTo>
                        <a:pt x="14" y="26"/>
                      </a:lnTo>
                      <a:lnTo>
                        <a:pt x="15" y="27"/>
                      </a:lnTo>
                      <a:lnTo>
                        <a:pt x="16" y="27"/>
                      </a:lnTo>
                      <a:lnTo>
                        <a:pt x="17" y="26"/>
                      </a:lnTo>
                      <a:lnTo>
                        <a:pt x="18" y="25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7" y="21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462120" y="464976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9" y="14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22" y="1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3511440" y="4692600"/>
                  <a:ext cx="42840" cy="28800"/>
                </a:xfrm>
                <a:custGeom>
                  <a:avLst/>
                  <a:gdLst/>
                  <a:ahLst/>
                  <a:rect l="l" t="t" r="r" b="b"/>
                  <a:pathLst>
                    <a:path w="27" h="18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24" y="18"/>
                      </a:lnTo>
                      <a:lnTo>
                        <a:pt x="25" y="18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26" y="12"/>
                      </a:lnTo>
                      <a:lnTo>
                        <a:pt x="25" y="12"/>
                      </a:lnTo>
                      <a:lnTo>
                        <a:pt x="19" y="9"/>
                      </a:lnTo>
                      <a:lnTo>
                        <a:pt x="19" y="12"/>
                      </a:lnTo>
                      <a:lnTo>
                        <a:pt x="20" y="10"/>
                      </a:lnTo>
                      <a:lnTo>
                        <a:pt x="6" y="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571560" y="4722840"/>
                  <a:ext cx="4608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1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636720" y="4737240"/>
                  <a:ext cx="47520" cy="1080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703320" y="472932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" y="4"/>
                      </a:move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14" y="9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1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767040" y="4703760"/>
                  <a:ext cx="44280" cy="2556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5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0" y="2"/>
                      </a:lnTo>
                      <a:lnTo>
                        <a:pt x="5" y="9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825720" y="4664160"/>
                  <a:ext cx="3960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13" y="15"/>
                      </a:lnTo>
                      <a:lnTo>
                        <a:pt x="23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10" y="10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874680" y="4613400"/>
                  <a:ext cx="3348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1"/>
                      </a:move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15" y="12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0" y="9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911400" y="4552920"/>
                  <a:ext cx="23760" cy="4464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7"/>
                      </a:lnTo>
                      <a:lnTo>
                        <a:pt x="2" y="28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5"/>
                      </a:lnTo>
                      <a:lnTo>
                        <a:pt x="3" y="20"/>
                      </a:lnTo>
                      <a:lnTo>
                        <a:pt x="6" y="20"/>
                      </a:lnTo>
                      <a:lnTo>
                        <a:pt x="3" y="19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931920" y="4487760"/>
                  <a:ext cx="14400" cy="4608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0" y="26"/>
                      </a:move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2" y="1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928680" y="4421160"/>
                  <a:ext cx="15840" cy="4752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4" y="27"/>
                      </a:move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29"/>
                      </a:lnTo>
                      <a:lnTo>
                        <a:pt x="10" y="28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3"/>
                      </a:lnTo>
                      <a:lnTo>
                        <a:pt x="8" y="7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24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904920" y="4359240"/>
                  <a:ext cx="25560" cy="4464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0" y="25"/>
                      </a:moveTo>
                      <a:lnTo>
                        <a:pt x="10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5" y="26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7" y="18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865320" y="4307040"/>
                  <a:ext cx="3348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6" y="22"/>
                      </a:moveTo>
                      <a:lnTo>
                        <a:pt x="17" y="23"/>
                      </a:lnTo>
                      <a:lnTo>
                        <a:pt x="18" y="24"/>
                      </a:lnTo>
                      <a:lnTo>
                        <a:pt x="19" y="24"/>
                      </a:lnTo>
                      <a:lnTo>
                        <a:pt x="20" y="23"/>
                      </a:lnTo>
                      <a:lnTo>
                        <a:pt x="21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1" y="19"/>
                      </a:lnTo>
                      <a:lnTo>
                        <a:pt x="12" y="8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812760" y="4264200"/>
                  <a:ext cx="4140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21" y="20"/>
                      </a:move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19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6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18" y="1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752640" y="4237200"/>
                  <a:ext cx="44280" cy="2376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5" y="15"/>
                      </a:move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8" y="11"/>
                      </a:lnTo>
                      <a:lnTo>
                        <a:pt x="28" y="10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4" y="10"/>
                      </a:lnTo>
                      <a:lnTo>
                        <a:pt x="2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687480" y="4224240"/>
                  <a:ext cx="47520" cy="14400"/>
                </a:xfrm>
                <a:custGeom>
                  <a:avLst/>
                  <a:gdLst/>
                  <a:ahLst/>
                  <a:rect l="l" t="t" r="r" b="b"/>
                  <a:pathLst>
                    <a:path w="30" h="9">
                      <a:moveTo>
                        <a:pt x="26" y="9"/>
                      </a:move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4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23" y="8"/>
                      </a:lnTo>
                      <a:lnTo>
                        <a:pt x="2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4803840" y="5667480"/>
                <a:ext cx="550800" cy="525240"/>
                <a:chOff x="4803840" y="5667480"/>
                <a:chExt cx="550800" cy="52524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4808520" y="5672160"/>
                  <a:ext cx="542880" cy="517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035680" y="5667480"/>
                  <a:ext cx="47520" cy="126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8" y="6"/>
                      </a:move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9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10" y="7"/>
                      </a:lnTo>
                      <a:lnTo>
                        <a:pt x="2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4972320" y="5675400"/>
                  <a:ext cx="44280" cy="205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6" y="6"/>
                      </a:move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16" y="2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17" y="8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913280" y="5699160"/>
                  <a:ext cx="41400" cy="2844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24" y="6"/>
                      </a:moveTo>
                      <a:lnTo>
                        <a:pt x="25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6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7" y="8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10" y="13"/>
                      </a:ln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864320" y="5735520"/>
                  <a:ext cx="36360" cy="3672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1"/>
                      </a:lnTo>
                      <a:lnTo>
                        <a:pt x="13" y="5"/>
                      </a:lnTo>
                      <a:lnTo>
                        <a:pt x="12" y="6"/>
                      </a:lnTo>
                      <a:lnTo>
                        <a:pt x="1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17" y="9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827600" y="5786280"/>
                  <a:ext cx="28800" cy="4320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7" y="4"/>
                      </a:move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7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6" y="1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2" y="26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6" y="25"/>
                      </a:lnTo>
                      <a:lnTo>
                        <a:pt x="11" y="15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807080" y="5845320"/>
                  <a:ext cx="19080" cy="4752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4"/>
                      </a:move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1" y="20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7" y="21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803840" y="5910120"/>
                  <a:ext cx="11160" cy="47880"/>
                </a:xfrm>
                <a:custGeom>
                  <a:avLst/>
                  <a:gdLst/>
                  <a:ahLst/>
                  <a:rect l="l" t="t" r="r" b="b"/>
                  <a:pathLst>
                    <a:path w="7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6" y="29"/>
                      </a:lnTo>
                      <a:lnTo>
                        <a:pt x="7" y="28"/>
                      </a:lnTo>
                      <a:lnTo>
                        <a:pt x="6" y="13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810320" y="5977080"/>
                  <a:ext cx="20520" cy="4572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4" y="19"/>
                      </a:lnTo>
                      <a:lnTo>
                        <a:pt x="7" y="27"/>
                      </a:lnTo>
                      <a:lnTo>
                        <a:pt x="7" y="28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6"/>
                      </a:lnTo>
                      <a:lnTo>
                        <a:pt x="10" y="1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4832280" y="603900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6" y="3"/>
                      </a:move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2" y="24"/>
                      </a:lnTo>
                      <a:lnTo>
                        <a:pt x="13" y="25"/>
                      </a:lnTo>
                      <a:lnTo>
                        <a:pt x="14" y="26"/>
                      </a:lnTo>
                      <a:lnTo>
                        <a:pt x="15" y="27"/>
                      </a:lnTo>
                      <a:lnTo>
                        <a:pt x="16" y="27"/>
                      </a:lnTo>
                      <a:lnTo>
                        <a:pt x="17" y="26"/>
                      </a:lnTo>
                      <a:lnTo>
                        <a:pt x="18" y="25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18" y="22"/>
                      </a:lnTo>
                      <a:lnTo>
                        <a:pt x="17" y="21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9" y="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4870440" y="6094440"/>
                  <a:ext cx="36720" cy="3492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8" y="13"/>
                      </a:lnTo>
                      <a:lnTo>
                        <a:pt x="9" y="14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22" y="17"/>
                      </a:lnTo>
                      <a:lnTo>
                        <a:pt x="12" y="9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919760" y="6137280"/>
                  <a:ext cx="42840" cy="28440"/>
                </a:xfrm>
                <a:custGeom>
                  <a:avLst/>
                  <a:gdLst/>
                  <a:ahLst/>
                  <a:rect l="l" t="t" r="r" b="b"/>
                  <a:pathLst>
                    <a:path w="27" h="18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24" y="18"/>
                      </a:lnTo>
                      <a:lnTo>
                        <a:pt x="25" y="18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26" y="12"/>
                      </a:lnTo>
                      <a:lnTo>
                        <a:pt x="25" y="12"/>
                      </a:lnTo>
                      <a:lnTo>
                        <a:pt x="19" y="9"/>
                      </a:lnTo>
                      <a:lnTo>
                        <a:pt x="19" y="12"/>
                      </a:lnTo>
                      <a:lnTo>
                        <a:pt x="20" y="10"/>
                      </a:lnTo>
                      <a:lnTo>
                        <a:pt x="6" y="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980240" y="6167520"/>
                  <a:ext cx="4572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12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045040" y="6181560"/>
                  <a:ext cx="47880" cy="111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21" y="7"/>
                      </a:lnTo>
                      <a:lnTo>
                        <a:pt x="26" y="7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112000" y="6173640"/>
                  <a:ext cx="45720" cy="1620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" y="4"/>
                      </a:move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14" y="9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1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175360" y="614844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16">
                      <a:moveTo>
                        <a:pt x="3" y="10"/>
                      </a:move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6"/>
                      </a:lnTo>
                      <a:lnTo>
                        <a:pt x="4" y="16"/>
                      </a:lnTo>
                      <a:lnTo>
                        <a:pt x="6" y="15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0" y="2"/>
                      </a:lnTo>
                      <a:lnTo>
                        <a:pt x="5" y="9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234040" y="6108840"/>
                  <a:ext cx="39600" cy="331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13" y="15"/>
                      </a:lnTo>
                      <a:lnTo>
                        <a:pt x="23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10" y="10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283360" y="6058080"/>
                  <a:ext cx="3312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1"/>
                      </a:move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6" y="24"/>
                      </a:lnTo>
                      <a:lnTo>
                        <a:pt x="15" y="12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0" y="9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319720" y="5997600"/>
                  <a:ext cx="23760" cy="4428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7"/>
                      </a:lnTo>
                      <a:lnTo>
                        <a:pt x="2" y="28"/>
                      </a:lnTo>
                      <a:lnTo>
                        <a:pt x="3" y="28"/>
                      </a:lnTo>
                      <a:lnTo>
                        <a:pt x="4" y="28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8" y="22"/>
                      </a:lnTo>
                      <a:lnTo>
                        <a:pt x="9" y="21"/>
                      </a:ln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0" y="1"/>
                      </a:lnTo>
                      <a:lnTo>
                        <a:pt x="9" y="2"/>
                      </a:lnTo>
                      <a:lnTo>
                        <a:pt x="8" y="5"/>
                      </a:lnTo>
                      <a:lnTo>
                        <a:pt x="3" y="20"/>
                      </a:lnTo>
                      <a:lnTo>
                        <a:pt x="6" y="20"/>
                      </a:lnTo>
                      <a:lnTo>
                        <a:pt x="3" y="19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340600" y="5932440"/>
                  <a:ext cx="14040" cy="4608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0" y="26"/>
                      </a:move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2" y="1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337360" y="5865840"/>
                  <a:ext cx="15840" cy="4752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4" y="27"/>
                      </a:move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29"/>
                      </a:lnTo>
                      <a:lnTo>
                        <a:pt x="10" y="28"/>
                      </a:lnTo>
                      <a:lnTo>
                        <a:pt x="10" y="27"/>
                      </a:lnTo>
                      <a:lnTo>
                        <a:pt x="10" y="26"/>
                      </a:lnTo>
                      <a:lnTo>
                        <a:pt x="10" y="23"/>
                      </a:lnTo>
                      <a:lnTo>
                        <a:pt x="8" y="7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8"/>
                      </a:lnTo>
                      <a:lnTo>
                        <a:pt x="4" y="24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313600" y="5803920"/>
                  <a:ext cx="25200" cy="4428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10" y="25"/>
                      </a:moveTo>
                      <a:lnTo>
                        <a:pt x="10" y="26"/>
                      </a:lnTo>
                      <a:lnTo>
                        <a:pt x="11" y="27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5" y="26"/>
                      </a:lnTo>
                      <a:lnTo>
                        <a:pt x="16" y="25"/>
                      </a:lnTo>
                      <a:lnTo>
                        <a:pt x="16" y="24"/>
                      </a:lnTo>
                      <a:lnTo>
                        <a:pt x="13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7" y="18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1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273640" y="5751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6" y="22"/>
                      </a:moveTo>
                      <a:lnTo>
                        <a:pt x="17" y="23"/>
                      </a:lnTo>
                      <a:lnTo>
                        <a:pt x="18" y="24"/>
                      </a:lnTo>
                      <a:lnTo>
                        <a:pt x="19" y="24"/>
                      </a:lnTo>
                      <a:lnTo>
                        <a:pt x="20" y="23"/>
                      </a:lnTo>
                      <a:lnTo>
                        <a:pt x="21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1" y="19"/>
                      </a:lnTo>
                      <a:lnTo>
                        <a:pt x="12" y="8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7" y="11"/>
                      </a:lnTo>
                      <a:lnTo>
                        <a:pt x="1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5221440" y="570852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21" y="20"/>
                      </a:move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19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6"/>
                      </a:lnTo>
                      <a:lnTo>
                        <a:pt x="24" y="15"/>
                      </a:lnTo>
                      <a:lnTo>
                        <a:pt x="21" y="1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18" y="1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160960" y="5681520"/>
                  <a:ext cx="44640" cy="2412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5" y="15"/>
                      </a:move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8" y="11"/>
                      </a:lnTo>
                      <a:lnTo>
                        <a:pt x="28" y="10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15" y="4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14" y="10"/>
                      </a:lnTo>
                      <a:lnTo>
                        <a:pt x="2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095800" y="5668920"/>
                  <a:ext cx="47880" cy="14400"/>
                </a:xfrm>
                <a:custGeom>
                  <a:avLst/>
                  <a:gdLst/>
                  <a:ahLst/>
                  <a:rect l="l" t="t" r="r" b="b"/>
                  <a:pathLst>
                    <a:path w="30" h="9">
                      <a:moveTo>
                        <a:pt x="26" y="9"/>
                      </a:moveTo>
                      <a:lnTo>
                        <a:pt x="27" y="9"/>
                      </a:ln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30" y="7"/>
                      </a:lnTo>
                      <a:lnTo>
                        <a:pt x="30" y="6"/>
                      </a:lnTo>
                      <a:lnTo>
                        <a:pt x="29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4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23" y="8"/>
                      </a:lnTo>
                      <a:lnTo>
                        <a:pt x="2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3726000" y="4021200"/>
                <a:ext cx="515880" cy="49356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15360" y="4167360"/>
                <a:ext cx="11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06080" y="40449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3816360" y="1744560"/>
                <a:ext cx="163440" cy="417600"/>
                <a:chOff x="3816360" y="1744560"/>
                <a:chExt cx="163440" cy="41760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3816360" y="1744560"/>
                  <a:ext cx="101520" cy="260280"/>
                </a:xfrm>
                <a:custGeom>
                  <a:avLst/>
                  <a:gdLst/>
                  <a:ahLst/>
                  <a:rect l="l" t="t" r="r" b="b"/>
                  <a:pathLst>
                    <a:path w="64" h="164">
                      <a:moveTo>
                        <a:pt x="23" y="0"/>
                      </a:moveTo>
                      <a:lnTo>
                        <a:pt x="0" y="6"/>
                      </a:lnTo>
                      <a:lnTo>
                        <a:pt x="41" y="164"/>
                      </a:lnTo>
                      <a:lnTo>
                        <a:pt x="64" y="15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816360" y="1976400"/>
                  <a:ext cx="163440" cy="185760"/>
                </a:xfrm>
                <a:custGeom>
                  <a:avLst/>
                  <a:gdLst/>
                  <a:ahLst/>
                  <a:rect l="l" t="t" r="r" b="b"/>
                  <a:pathLst>
                    <a:path w="103" h="117">
                      <a:moveTo>
                        <a:pt x="0" y="27"/>
                      </a:moveTo>
                      <a:lnTo>
                        <a:pt x="79" y="117"/>
                      </a:lnTo>
                      <a:lnTo>
                        <a:pt x="10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1876320" y="5049720"/>
                <a:ext cx="441000" cy="227160"/>
                <a:chOff x="1876320" y="5049720"/>
                <a:chExt cx="441000" cy="22716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1876320" y="5110200"/>
                  <a:ext cx="298440" cy="166680"/>
                </a:xfrm>
                <a:custGeom>
                  <a:avLst/>
                  <a:gdLst/>
                  <a:ahLst/>
                  <a:rect l="l" t="t" r="r" b="b"/>
                  <a:pathLst>
                    <a:path w="188" h="105">
                      <a:moveTo>
                        <a:pt x="0" y="84"/>
                      </a:moveTo>
                      <a:lnTo>
                        <a:pt x="10" y="105"/>
                      </a:lnTo>
                      <a:lnTo>
                        <a:pt x="188" y="21"/>
                      </a:lnTo>
                      <a:lnTo>
                        <a:pt x="178" y="0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128680" y="5049720"/>
                  <a:ext cx="188640" cy="154080"/>
                </a:xfrm>
                <a:custGeom>
                  <a:avLst/>
                  <a:gdLst/>
                  <a:ahLst/>
                  <a:rect l="l" t="t" r="r" b="b"/>
                  <a:pathLst>
                    <a:path w="119" h="97">
                      <a:moveTo>
                        <a:pt x="45" y="97"/>
                      </a:moveTo>
                      <a:lnTo>
                        <a:pt x="119" y="2"/>
                      </a:lnTo>
                      <a:lnTo>
                        <a:pt x="0" y="0"/>
                      </a:lnTo>
                      <a:lnTo>
                        <a:pt x="45" y="9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5999040" y="4624560"/>
                <a:ext cx="766800" cy="342720"/>
                <a:chOff x="5999040" y="4624560"/>
                <a:chExt cx="766800" cy="34272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6146640" y="4686480"/>
                  <a:ext cx="619200" cy="280800"/>
                </a:xfrm>
                <a:custGeom>
                  <a:avLst/>
                  <a:gdLst/>
                  <a:ahLst/>
                  <a:rect l="l" t="t" r="r" b="b"/>
                  <a:pathLst>
                    <a:path w="390" h="177">
                      <a:moveTo>
                        <a:pt x="381" y="177"/>
                      </a:moveTo>
                      <a:lnTo>
                        <a:pt x="390" y="155"/>
                      </a:lnTo>
                      <a:lnTo>
                        <a:pt x="9" y="0"/>
                      </a:lnTo>
                      <a:lnTo>
                        <a:pt x="0" y="22"/>
                      </a:lnTo>
                      <a:lnTo>
                        <a:pt x="381" y="17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99040" y="4624560"/>
                  <a:ext cx="188640" cy="156960"/>
                </a:xfrm>
                <a:custGeom>
                  <a:avLst/>
                  <a:gdLst/>
                  <a:ahLst/>
                  <a:rect l="l" t="t" r="r" b="b"/>
                  <a:pathLst>
                    <a:path w="119" h="99">
                      <a:moveTo>
                        <a:pt x="119" y="0"/>
                      </a:moveTo>
                      <a:lnTo>
                        <a:pt x="0" y="10"/>
                      </a:lnTo>
                      <a:lnTo>
                        <a:pt x="79" y="99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>
                <a:off x="4808520" y="3220920"/>
                <a:ext cx="181080" cy="1796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40" y="0"/>
                    </a:moveTo>
                    <a:lnTo>
                      <a:pt x="0" y="113"/>
                    </a:lnTo>
                    <a:lnTo>
                      <a:pt x="114" y="7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1768320" y="2558880"/>
                <a:ext cx="441360" cy="227160"/>
                <a:chOff x="1768320" y="2558880"/>
                <a:chExt cx="441360" cy="2271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1768320" y="2558880"/>
                  <a:ext cx="298440" cy="166680"/>
                </a:xfrm>
                <a:custGeom>
                  <a:avLst/>
                  <a:gdLst/>
                  <a:ahLst/>
                  <a:rect l="l" t="t" r="r" b="b"/>
                  <a:pathLst>
                    <a:path w="188" h="105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178" y="105"/>
                      </a:lnTo>
                      <a:lnTo>
                        <a:pt x="188" y="8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2018880" y="2631960"/>
                  <a:ext cx="190800" cy="154080"/>
                </a:xfrm>
                <a:custGeom>
                  <a:avLst/>
                  <a:gdLst/>
                  <a:ahLst/>
                  <a:rect l="l" t="t" r="r" b="b"/>
                  <a:pathLst>
                    <a:path w="120" h="97">
                      <a:moveTo>
                        <a:pt x="0" y="97"/>
                      </a:moveTo>
                      <a:lnTo>
                        <a:pt x="120" y="94"/>
                      </a:lnTo>
                      <a:lnTo>
                        <a:pt x="46" y="0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4892760" y="5568840"/>
                <a:ext cx="160200" cy="316080"/>
                <a:chOff x="4892760" y="5568840"/>
                <a:chExt cx="160200" cy="31608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4954680" y="5719680"/>
                  <a:ext cx="87480" cy="165240"/>
                </a:xfrm>
                <a:custGeom>
                  <a:avLst/>
                  <a:gdLst/>
                  <a:ahLst/>
                  <a:rect l="l" t="t" r="r" b="b"/>
                  <a:pathLst>
                    <a:path w="55" h="104">
                      <a:moveTo>
                        <a:pt x="33" y="104"/>
                      </a:moveTo>
                      <a:lnTo>
                        <a:pt x="55" y="96"/>
                      </a:lnTo>
                      <a:lnTo>
                        <a:pt x="22" y="0"/>
                      </a:lnTo>
                      <a:lnTo>
                        <a:pt x="0" y="8"/>
                      </a:lnTo>
                      <a:lnTo>
                        <a:pt x="33" y="10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92760" y="5568840"/>
                  <a:ext cx="160200" cy="187560"/>
                </a:xfrm>
                <a:custGeom>
                  <a:avLst/>
                  <a:gdLst/>
                  <a:ahLst/>
                  <a:rect l="l" t="t" r="r" b="b"/>
                  <a:pathLst>
                    <a:path w="101" h="118">
                      <a:moveTo>
                        <a:pt x="101" y="83"/>
                      </a:moveTo>
                      <a:lnTo>
                        <a:pt x="15" y="0"/>
                      </a:lnTo>
                      <a:lnTo>
                        <a:pt x="0" y="118"/>
                      </a:lnTo>
                      <a:lnTo>
                        <a:pt x="101" y="8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3605040" y="4330800"/>
                <a:ext cx="228600" cy="220680"/>
                <a:chOff x="3605040" y="4330800"/>
                <a:chExt cx="228600" cy="22068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3605040" y="4432320"/>
                  <a:ext cx="122040" cy="119160"/>
                </a:xfrm>
                <a:custGeom>
                  <a:avLst/>
                  <a:gdLst/>
                  <a:ahLst/>
                  <a:rect l="l" t="t" r="r" b="b"/>
                  <a:pathLst>
                    <a:path w="77" h="75">
                      <a:moveTo>
                        <a:pt x="0" y="58"/>
                      </a:moveTo>
                      <a:lnTo>
                        <a:pt x="16" y="75"/>
                      </a:lnTo>
                      <a:lnTo>
                        <a:pt x="77" y="17"/>
                      </a:lnTo>
                      <a:lnTo>
                        <a:pt x="61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652560" y="4330800"/>
                  <a:ext cx="181080" cy="179280"/>
                </a:xfrm>
                <a:custGeom>
                  <a:avLst/>
                  <a:gdLst/>
                  <a:ahLst/>
                  <a:rect l="l" t="t" r="r" b="b"/>
                  <a:pathLst>
                    <a:path w="114" h="113">
                      <a:moveTo>
                        <a:pt x="74" y="113"/>
                      </a:moveTo>
                      <a:lnTo>
                        <a:pt x="114" y="0"/>
                      </a:lnTo>
                      <a:lnTo>
                        <a:pt x="0" y="36"/>
                      </a:lnTo>
                      <a:lnTo>
                        <a:pt x="74" y="11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6107040" y="2249640"/>
                <a:ext cx="767880" cy="428400"/>
                <a:chOff x="6107040" y="2249640"/>
                <a:chExt cx="767880" cy="428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6244920" y="2249640"/>
                  <a:ext cx="630000" cy="368280"/>
                </a:xfrm>
                <a:custGeom>
                  <a:avLst/>
                  <a:gdLst/>
                  <a:ahLst/>
                  <a:rect l="l" t="t" r="r" b="b"/>
                  <a:pathLst>
                    <a:path w="397" h="232">
                      <a:moveTo>
                        <a:pt x="397" y="21"/>
                      </a:moveTo>
                      <a:lnTo>
                        <a:pt x="386" y="0"/>
                      </a:lnTo>
                      <a:lnTo>
                        <a:pt x="0" y="211"/>
                      </a:lnTo>
                      <a:lnTo>
                        <a:pt x="11" y="232"/>
                      </a:lnTo>
                      <a:lnTo>
                        <a:pt x="397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107040" y="2522520"/>
                  <a:ext cx="188640" cy="155520"/>
                </a:xfrm>
                <a:custGeom>
                  <a:avLst/>
                  <a:gdLst/>
                  <a:ahLst/>
                  <a:rect l="l" t="t" r="r" b="b"/>
                  <a:pathLst>
                    <a:path w="119" h="98">
                      <a:moveTo>
                        <a:pt x="68" y="0"/>
                      </a:moveTo>
                      <a:lnTo>
                        <a:pt x="0" y="98"/>
                      </a:lnTo>
                      <a:lnTo>
                        <a:pt x="119" y="94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3" name=""/>
          <p:cNvGrpSpPr/>
          <p:nvPr/>
        </p:nvGrpSpPr>
        <p:grpSpPr>
          <a:xfrm>
            <a:off x="2700360" y="4365720"/>
            <a:ext cx="1047240" cy="433440"/>
            <a:chOff x="2700360" y="4365720"/>
            <a:chExt cx="1047240" cy="433440"/>
          </a:xfrm>
        </p:grpSpPr>
        <p:sp>
          <p:nvSpPr>
            <p:cNvPr id="954" name=""/>
            <p:cNvSpPr/>
            <p:nvPr/>
          </p:nvSpPr>
          <p:spPr>
            <a:xfrm>
              <a:off x="2700360" y="4729320"/>
              <a:ext cx="117360" cy="69840"/>
            </a:xfrm>
            <a:custGeom>
              <a:avLst/>
              <a:gdLst/>
              <a:ahLst/>
              <a:rect l="l" t="t" r="r" b="b"/>
              <a:pathLst>
                <a:path w="74" h="44">
                  <a:moveTo>
                    <a:pt x="0" y="27"/>
                  </a:moveTo>
                  <a:lnTo>
                    <a:pt x="7" y="44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885760" y="4656240"/>
              <a:ext cx="117360" cy="69840"/>
            </a:xfrm>
            <a:custGeom>
              <a:avLst/>
              <a:gdLst/>
              <a:ahLst/>
              <a:rect l="l" t="t" r="r" b="b"/>
              <a:pathLst>
                <a:path w="74" h="44">
                  <a:moveTo>
                    <a:pt x="0" y="27"/>
                  </a:moveTo>
                  <a:lnTo>
                    <a:pt x="7" y="44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71520" y="4584600"/>
              <a:ext cx="117360" cy="684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0" y="26"/>
                  </a:moveTo>
                  <a:lnTo>
                    <a:pt x="7" y="43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259080" y="4511520"/>
              <a:ext cx="117000" cy="684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0" y="26"/>
                  </a:moveTo>
                  <a:lnTo>
                    <a:pt x="7" y="43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444840" y="4438800"/>
              <a:ext cx="117000" cy="6804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0" y="26"/>
                  </a:moveTo>
                  <a:lnTo>
                    <a:pt x="7" y="43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630600" y="4365720"/>
              <a:ext cx="117000" cy="6804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0" y="26"/>
                  </a:moveTo>
                  <a:lnTo>
                    <a:pt x="7" y="43"/>
                  </a:lnTo>
                  <a:lnTo>
                    <a:pt x="74" y="17"/>
                  </a:lnTo>
                  <a:lnTo>
                    <a:pt x="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8E8-5F1A-42A1-AC97-E080B95DB7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9144000" y="6400800"/>
            <a:ext cx="380880" cy="1295280"/>
          </a:xfrm>
          <a:prstGeom prst="diamond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611280" y="254160"/>
            <a:ext cx="8296200" cy="6492240"/>
            <a:chOff x="611280" y="254160"/>
            <a:chExt cx="8296200" cy="6492240"/>
          </a:xfrm>
        </p:grpSpPr>
        <p:sp>
          <p:nvSpPr>
            <p:cNvPr id="962" name=""/>
            <p:cNvSpPr/>
            <p:nvPr/>
          </p:nvSpPr>
          <p:spPr>
            <a:xfrm>
              <a:off x="716040" y="298440"/>
              <a:ext cx="7711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0840" y="254160"/>
              <a:ext cx="7992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910c6"/>
                  </a:solidFill>
                  <a:latin typeface="Tahoma"/>
                </a:rPr>
                <a:t>Classical View of Tetrahedral Sym. Condens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15200" y="914400"/>
              <a:ext cx="1592280" cy="57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91520" y="958680"/>
              <a:ext cx="1447560" cy="57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Trans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of Two D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Molecu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33cc"/>
                  </a:solidFill>
                  <a:latin typeface="Tahoma"/>
                </a:rPr>
                <a:t>(upper and l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Squeezing on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from O-Sites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T-si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3-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Frozen State f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46a444"/>
                  </a:solidFill>
                  <a:latin typeface="Tahoma"/>
                </a:rPr>
                <a:t>4d+s and 4e-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303"/>
                  </a:solidFill>
                  <a:latin typeface="Tahoma"/>
                </a:rPr>
                <a:t>Quadruplet e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0303"/>
                  </a:solidFill>
                  <a:latin typeface="Tahoma"/>
                </a:rPr>
                <a:t>(4,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Formation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Electrons arou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ahoma"/>
                </a:rPr>
                <a:t>T-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640" y="673200"/>
              <a:ext cx="7967520" cy="6336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01640" y="941400"/>
              <a:ext cx="6284880" cy="5684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1004760" y="1257480"/>
              <a:ext cx="5618160" cy="5260680"/>
              <a:chOff x="1004760" y="1257480"/>
              <a:chExt cx="5618160" cy="5260680"/>
            </a:xfrm>
          </p:grpSpPr>
          <p:sp>
            <p:nvSpPr>
              <p:cNvPr id="969" name=""/>
              <p:cNvSpPr/>
              <p:nvPr/>
            </p:nvSpPr>
            <p:spPr>
              <a:xfrm>
                <a:off x="2751120" y="388764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33640" y="40384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45960" y="412416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940200" y="564192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122720" y="57927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236480" y="585000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122720" y="60609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004760" y="2259000"/>
                <a:ext cx="7509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187280" y="240984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289880" y="247644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72320" y="1757520"/>
                <a:ext cx="750600" cy="7538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75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054840" y="1908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166800" y="1994040"/>
                <a:ext cx="22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Century"/>
                  </a:rPr>
                  <a:t>d</a:t>
                </a:r>
                <a:r>
                  <a:rPr b="1" lang="en-US" sz="1800" spc="-1" strike="noStrike" baseline="30000">
                    <a:solidFill>
                      <a:srgbClr val="010000"/>
                    </a:solidFill>
                    <a:latin typeface="Century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131840" y="5141880"/>
                <a:ext cx="625680" cy="62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295280" y="52704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360800" y="525132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295280" y="56055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940200" y="2886120"/>
                <a:ext cx="627120" cy="628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105440" y="301464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170600" y="300528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105440" y="3349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876400" y="1257480"/>
                <a:ext cx="625680" cy="6267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040200" y="1386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132360" y="135720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040200" y="1720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54680" y="4640400"/>
                <a:ext cx="625320" cy="6285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019920" y="47689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075720" y="4740120"/>
                <a:ext cx="25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10000"/>
                    </a:solidFill>
                    <a:latin typeface="Century"/>
                  </a:rPr>
                  <a:t>e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019920" y="51037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749760" y="3762360"/>
                <a:ext cx="250920" cy="25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9" name=""/>
              <p:cNvGrpSpPr/>
              <p:nvPr/>
            </p:nvGrpSpPr>
            <p:grpSpPr>
              <a:xfrm>
                <a:off x="1746360" y="2868480"/>
                <a:ext cx="2003400" cy="1020960"/>
                <a:chOff x="1746360" y="2868480"/>
                <a:chExt cx="2003400" cy="102096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1746360" y="2868480"/>
                  <a:ext cx="1854000" cy="957240"/>
                </a:xfrm>
                <a:custGeom>
                  <a:avLst/>
                  <a:gdLst/>
                  <a:ahLst/>
                  <a:rect l="l" t="t" r="r" b="b"/>
                  <a:pathLst>
                    <a:path w="1168" h="603">
                      <a:moveTo>
                        <a:pt x="10" y="0"/>
                      </a:moveTo>
                      <a:lnTo>
                        <a:pt x="0" y="23"/>
                      </a:lnTo>
                      <a:lnTo>
                        <a:pt x="1158" y="603"/>
                      </a:lnTo>
                      <a:lnTo>
                        <a:pt x="1168" y="58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549600" y="3722760"/>
                  <a:ext cx="200160" cy="166680"/>
                </a:xfrm>
                <a:custGeom>
                  <a:avLst/>
                  <a:gdLst/>
                  <a:ahLst/>
                  <a:rect l="l" t="t" r="r" b="b"/>
                  <a:pathLst>
                    <a:path w="126" h="105">
                      <a:moveTo>
                        <a:pt x="0" y="105"/>
                      </a:moveTo>
                      <a:lnTo>
                        <a:pt x="126" y="104"/>
                      </a:lnTo>
                      <a:lnTo>
                        <a:pt x="49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370320" y="3984480"/>
                <a:ext cx="379440" cy="174600"/>
                <a:chOff x="3370320" y="3984480"/>
                <a:chExt cx="379440" cy="174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3370320" y="4051440"/>
                  <a:ext cx="218880" cy="107640"/>
                </a:xfrm>
                <a:custGeom>
                  <a:avLst/>
                  <a:gdLst/>
                  <a:ahLst/>
                  <a:rect l="l" t="t" r="r" b="b"/>
                  <a:pathLst>
                    <a:path w="138" h="68">
                      <a:moveTo>
                        <a:pt x="0" y="43"/>
                      </a:moveTo>
                      <a:lnTo>
                        <a:pt x="7" y="68"/>
                      </a:lnTo>
                      <a:lnTo>
                        <a:pt x="138" y="26"/>
                      </a:lnTo>
                      <a:lnTo>
                        <a:pt x="131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552840" y="3984480"/>
                  <a:ext cx="196920" cy="174600"/>
                </a:xfrm>
                <a:custGeom>
                  <a:avLst/>
                  <a:gdLst/>
                  <a:ahLst/>
                  <a:rect l="l" t="t" r="r" b="b"/>
                  <a:pathLst>
                    <a:path w="124" h="110">
                      <a:moveTo>
                        <a:pt x="35" y="110"/>
                      </a:moveTo>
                      <a:lnTo>
                        <a:pt x="124" y="18"/>
                      </a:lnTo>
                      <a:lnTo>
                        <a:pt x="0" y="0"/>
                      </a:lnTo>
                      <a:lnTo>
                        <a:pt x="35" y="11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3998880" y="2368440"/>
                <a:ext cx="2009880" cy="1519200"/>
                <a:chOff x="3998880" y="2368440"/>
                <a:chExt cx="2009880" cy="15192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4130640" y="2368440"/>
                  <a:ext cx="1878120" cy="1430280"/>
                </a:xfrm>
                <a:custGeom>
                  <a:avLst/>
                  <a:gdLst/>
                  <a:ahLst/>
                  <a:rect l="l" t="t" r="r" b="b"/>
                  <a:pathLst>
                    <a:path w="1183" h="901">
                      <a:moveTo>
                        <a:pt x="1183" y="21"/>
                      </a:moveTo>
                      <a:lnTo>
                        <a:pt x="1168" y="0"/>
                      </a:lnTo>
                      <a:lnTo>
                        <a:pt x="0" y="881"/>
                      </a:lnTo>
                      <a:lnTo>
                        <a:pt x="14" y="901"/>
                      </a:lnTo>
                      <a:lnTo>
                        <a:pt x="1183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998880" y="3703680"/>
                  <a:ext cx="198360" cy="183960"/>
                </a:xfrm>
                <a:custGeom>
                  <a:avLst/>
                  <a:gdLst/>
                  <a:ahLst/>
                  <a:rect l="l" t="t" r="r" b="b"/>
                  <a:pathLst>
                    <a:path w="125" h="116">
                      <a:moveTo>
                        <a:pt x="58" y="0"/>
                      </a:moveTo>
                      <a:lnTo>
                        <a:pt x="0" y="116"/>
                      </a:lnTo>
                      <a:lnTo>
                        <a:pt x="125" y="94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3830760" y="4013280"/>
                <a:ext cx="439560" cy="1635120"/>
                <a:chOff x="3830760" y="4013280"/>
                <a:chExt cx="439560" cy="163512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3898800" y="4186080"/>
                  <a:ext cx="371520" cy="1462320"/>
                </a:xfrm>
                <a:custGeom>
                  <a:avLst/>
                  <a:gdLst/>
                  <a:ahLst/>
                  <a:rect l="l" t="t" r="r" b="b"/>
                  <a:pathLst>
                    <a:path w="234" h="921">
                      <a:moveTo>
                        <a:pt x="210" y="921"/>
                      </a:moveTo>
                      <a:lnTo>
                        <a:pt x="234" y="914"/>
                      </a:lnTo>
                      <a:lnTo>
                        <a:pt x="24" y="0"/>
                      </a:lnTo>
                      <a:lnTo>
                        <a:pt x="0" y="6"/>
                      </a:lnTo>
                      <a:lnTo>
                        <a:pt x="210" y="9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830760" y="4013280"/>
                  <a:ext cx="176040" cy="201600"/>
                </a:xfrm>
                <a:custGeom>
                  <a:avLst/>
                  <a:gdLst/>
                  <a:ahLst/>
                  <a:rect l="l" t="t" r="r" b="b"/>
                  <a:pathLst>
                    <a:path w="111" h="127">
                      <a:moveTo>
                        <a:pt x="111" y="100"/>
                      </a:moveTo>
                      <a:lnTo>
                        <a:pt x="28" y="0"/>
                      </a:lnTo>
                      <a:lnTo>
                        <a:pt x="0" y="127"/>
                      </a:lnTo>
                      <a:lnTo>
                        <a:pt x="111" y="1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1612800" y="4013280"/>
                <a:ext cx="2262240" cy="1404720"/>
                <a:chOff x="1612800" y="4013280"/>
                <a:chExt cx="2262240" cy="140472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1612800" y="4105440"/>
                  <a:ext cx="2084400" cy="1312560"/>
                </a:xfrm>
                <a:custGeom>
                  <a:avLst/>
                  <a:gdLst/>
                  <a:ahLst/>
                  <a:rect l="l" t="t" r="r" b="b"/>
                  <a:pathLst>
                    <a:path w="1313" h="827">
                      <a:moveTo>
                        <a:pt x="0" y="794"/>
                      </a:moveTo>
                      <a:lnTo>
                        <a:pt x="19" y="827"/>
                      </a:lnTo>
                      <a:lnTo>
                        <a:pt x="1313" y="33"/>
                      </a:lnTo>
                      <a:lnTo>
                        <a:pt x="1294" y="0"/>
                      </a:lnTo>
                      <a:lnTo>
                        <a:pt x="0" y="79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619440" y="4013280"/>
                  <a:ext cx="255600" cy="225360"/>
                </a:xfrm>
                <a:custGeom>
                  <a:avLst/>
                  <a:gdLst/>
                  <a:ahLst/>
                  <a:rect l="l" t="t" r="r" b="b"/>
                  <a:pathLst>
                    <a:path w="161" h="142">
                      <a:moveTo>
                        <a:pt x="74" y="142"/>
                      </a:moveTo>
                      <a:lnTo>
                        <a:pt x="161" y="0"/>
                      </a:lnTo>
                      <a:lnTo>
                        <a:pt x="0" y="12"/>
                      </a:lnTo>
                      <a:lnTo>
                        <a:pt x="74" y="14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3998880" y="3497400"/>
                <a:ext cx="206280" cy="264960"/>
                <a:chOff x="3998880" y="3497400"/>
                <a:chExt cx="206280" cy="26496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4076640" y="3497400"/>
                  <a:ext cx="73080" cy="7272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46" y="19"/>
                      </a:moveTo>
                      <a:lnTo>
                        <a:pt x="15" y="0"/>
                      </a:lnTo>
                      <a:lnTo>
                        <a:pt x="0" y="26"/>
                      </a:lnTo>
                      <a:lnTo>
                        <a:pt x="31" y="46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998880" y="3497400"/>
                  <a:ext cx="206280" cy="264960"/>
                </a:xfrm>
                <a:custGeom>
                  <a:avLst/>
                  <a:gdLst/>
                  <a:ahLst/>
                  <a:rect l="l" t="t" r="r" b="b"/>
                  <a:pathLst>
                    <a:path w="130" h="167">
                      <a:moveTo>
                        <a:pt x="2" y="0"/>
                      </a:moveTo>
                      <a:lnTo>
                        <a:pt x="0" y="167"/>
                      </a:lnTo>
                      <a:lnTo>
                        <a:pt x="130" y="6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3998880" y="4002120"/>
                <a:ext cx="1886040" cy="917640"/>
                <a:chOff x="3998880" y="4002120"/>
                <a:chExt cx="1886040" cy="91764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4194000" y="4083120"/>
                  <a:ext cx="1690920" cy="836640"/>
                </a:xfrm>
                <a:custGeom>
                  <a:avLst/>
                  <a:gdLst/>
                  <a:ahLst/>
                  <a:rect l="l" t="t" r="r" b="b"/>
                  <a:pathLst>
                    <a:path w="1065" h="527">
                      <a:moveTo>
                        <a:pt x="1049" y="527"/>
                      </a:moveTo>
                      <a:lnTo>
                        <a:pt x="1065" y="491"/>
                      </a:lnTo>
                      <a:lnTo>
                        <a:pt x="15" y="0"/>
                      </a:lnTo>
                      <a:lnTo>
                        <a:pt x="0" y="36"/>
                      </a:lnTo>
                      <a:lnTo>
                        <a:pt x="1049" y="52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98880" y="4002120"/>
                  <a:ext cx="257040" cy="217440"/>
                </a:xfrm>
                <a:custGeom>
                  <a:avLst/>
                  <a:gdLst/>
                  <a:ahLst/>
                  <a:rect l="l" t="t" r="r" b="b"/>
                  <a:pathLst>
                    <a:path w="162" h="137">
                      <a:moveTo>
                        <a:pt x="162" y="0"/>
                      </a:moveTo>
                      <a:lnTo>
                        <a:pt x="0" y="7"/>
                      </a:lnTo>
                      <a:lnTo>
                        <a:pt x="103" y="137"/>
                      </a:lnTo>
                      <a:lnTo>
                        <a:pt x="16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222720" y="1874880"/>
                <a:ext cx="577800" cy="1887480"/>
                <a:chOff x="3222720" y="1874880"/>
                <a:chExt cx="577800" cy="188748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3222720" y="1874880"/>
                  <a:ext cx="495360" cy="1670040"/>
                </a:xfrm>
                <a:custGeom>
                  <a:avLst/>
                  <a:gdLst/>
                  <a:ahLst/>
                  <a:rect l="l" t="t" r="r" b="b"/>
                  <a:pathLst>
                    <a:path w="312" h="1052">
                      <a:moveTo>
                        <a:pt x="36" y="0"/>
                      </a:moveTo>
                      <a:lnTo>
                        <a:pt x="0" y="11"/>
                      </a:lnTo>
                      <a:lnTo>
                        <a:pt x="276" y="1052"/>
                      </a:lnTo>
                      <a:lnTo>
                        <a:pt x="312" y="104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578400" y="3502080"/>
                  <a:ext cx="222120" cy="260280"/>
                </a:xfrm>
                <a:custGeom>
                  <a:avLst/>
                  <a:gdLst/>
                  <a:ahLst/>
                  <a:rect l="l" t="t" r="r" b="b"/>
                  <a:pathLst>
                    <a:path w="140" h="164">
                      <a:moveTo>
                        <a:pt x="0" y="39"/>
                      </a:moveTo>
                      <a:lnTo>
                        <a:pt x="108" y="164"/>
                      </a:lnTo>
                      <a:lnTo>
                        <a:pt x="14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3" name=""/>
              <p:cNvSpPr/>
              <p:nvPr/>
            </p:nvSpPr>
            <p:spPr>
              <a:xfrm flipV="1">
                <a:off x="1754280" y="2133360"/>
                <a:ext cx="4118040" cy="376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628640" y="3011400"/>
                <a:ext cx="2495520" cy="275616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4622400" y="2509920"/>
                <a:ext cx="1500120" cy="31320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1623960" y="2881440"/>
                <a:ext cx="1257480" cy="1137960"/>
                <a:chOff x="1623960" y="2881440"/>
                <a:chExt cx="1257480" cy="113796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1623960" y="2881440"/>
                  <a:ext cx="39600" cy="3780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676520" y="2928960"/>
                  <a:ext cx="4104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728720" y="297648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782720" y="302580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836720" y="307188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23" y="18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889280" y="3121200"/>
                  <a:ext cx="41040" cy="363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4" y="18"/>
                      </a:lnTo>
                      <a:lnTo>
                        <a:pt x="23" y="1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1941480" y="316692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1" y="23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995480" y="321624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048040" y="326376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6" y="22"/>
                      </a:lnTo>
                      <a:lnTo>
                        <a:pt x="26" y="21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100240" y="3311640"/>
                  <a:ext cx="39600" cy="3960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154240" y="335916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206800" y="340848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259000" y="345600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7" y="21"/>
                      </a:lnTo>
                      <a:lnTo>
                        <a:pt x="27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313000" y="350352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367000" y="355284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419200" y="359892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471760" y="3648240"/>
                  <a:ext cx="39600" cy="36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3"/>
                      </a:lnTo>
                      <a:lnTo>
                        <a:pt x="23" y="23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2525760" y="369576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2577960" y="374328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2630520" y="3790800"/>
                  <a:ext cx="42840" cy="38160"/>
                </a:xfrm>
                <a:custGeom>
                  <a:avLst/>
                  <a:gdLst/>
                  <a:ahLst/>
                  <a:rect l="l" t="t" r="r" b="b"/>
                  <a:pathLst>
                    <a:path w="27" h="24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4"/>
                      </a:lnTo>
                      <a:lnTo>
                        <a:pt x="25" y="23"/>
                      </a:lnTo>
                      <a:lnTo>
                        <a:pt x="27" y="22"/>
                      </a:lnTo>
                      <a:lnTo>
                        <a:pt x="27" y="21"/>
                      </a:lnTo>
                      <a:lnTo>
                        <a:pt x="25" y="20"/>
                      </a:lnTo>
                      <a:lnTo>
                        <a:pt x="24" y="19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684520" y="384012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21" y="23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0"/>
                      </a:lnTo>
                      <a:lnTo>
                        <a:pt x="25" y="19"/>
                      </a:lnTo>
                      <a:lnTo>
                        <a:pt x="25" y="18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738520" y="3886200"/>
                  <a:ext cx="39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2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3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5" y="21"/>
                      </a:lnTo>
                      <a:lnTo>
                        <a:pt x="24" y="20"/>
                      </a:lnTo>
                      <a:lnTo>
                        <a:pt x="23" y="19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790720" y="3935520"/>
                  <a:ext cx="4140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0" y="23"/>
                      </a:lnTo>
                      <a:lnTo>
                        <a:pt x="21" y="24"/>
                      </a:lnTo>
                      <a:lnTo>
                        <a:pt x="22" y="24"/>
                      </a:lnTo>
                      <a:lnTo>
                        <a:pt x="24" y="23"/>
                      </a:lnTo>
                      <a:lnTo>
                        <a:pt x="25" y="22"/>
                      </a:lnTo>
                      <a:lnTo>
                        <a:pt x="26" y="21"/>
                      </a:lnTo>
                      <a:lnTo>
                        <a:pt x="26" y="20"/>
                      </a:lnTo>
                      <a:lnTo>
                        <a:pt x="25" y="19"/>
                      </a:lnTo>
                      <a:lnTo>
                        <a:pt x="24" y="1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843280" y="3981600"/>
                  <a:ext cx="38160" cy="378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4"/>
                      </a:lnTo>
                      <a:lnTo>
                        <a:pt x="22" y="22"/>
                      </a:lnTo>
                      <a:lnTo>
                        <a:pt x="23" y="21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3" y="19"/>
                      </a:lnTo>
                      <a:lnTo>
                        <a:pt x="23" y="18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3370320" y="4635360"/>
                <a:ext cx="760320" cy="1013040"/>
                <a:chOff x="3370320" y="4635360"/>
                <a:chExt cx="760320" cy="101304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370320" y="463536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3413160" y="4692600"/>
                  <a:ext cx="36360" cy="42840"/>
                </a:xfrm>
                <a:custGeom>
                  <a:avLst/>
                  <a:gdLst/>
                  <a:ahLst/>
                  <a:rect l="l" t="t" r="r" b="b"/>
                  <a:pathLst>
                    <a:path w="23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2" y="26"/>
                      </a:lnTo>
                      <a:lnTo>
                        <a:pt x="23" y="25"/>
                      </a:lnTo>
                      <a:lnTo>
                        <a:pt x="23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457440" y="474984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5" y="2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498840" y="480708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7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8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543480" y="486576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5" y="26"/>
                      </a:lnTo>
                      <a:lnTo>
                        <a:pt x="16" y="27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2" y="25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586320" y="492444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629160" y="4981680"/>
                  <a:ext cx="3312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672000" y="5038560"/>
                  <a:ext cx="34920" cy="4320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714840" y="5095800"/>
                  <a:ext cx="34920" cy="4464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8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759120" y="515304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3"/>
                      </a:move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15" y="27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1" y="2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801960" y="52135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844800" y="527040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887640" y="5327640"/>
                  <a:ext cx="34920" cy="4284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7" y="25"/>
                      </a:lnTo>
                      <a:lnTo>
                        <a:pt x="18" y="26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2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2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930480" y="538488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6" y="25"/>
                      </a:lnTo>
                      <a:lnTo>
                        <a:pt x="17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4"/>
                      </a:lnTo>
                      <a:lnTo>
                        <a:pt x="22" y="23"/>
                      </a:lnTo>
                      <a:lnTo>
                        <a:pt x="21" y="2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975120" y="5442120"/>
                  <a:ext cx="34920" cy="4428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5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5" y="27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1" y="2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017960" y="5499000"/>
                  <a:ext cx="34920" cy="44640"/>
                </a:xfrm>
                <a:custGeom>
                  <a:avLst/>
                  <a:gdLst/>
                  <a:ahLst/>
                  <a:rect l="l" t="t" r="r" b="b"/>
                  <a:pathLst>
                    <a:path w="22" h="28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6" y="27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20" y="28"/>
                      </a:lnTo>
                      <a:lnTo>
                        <a:pt x="21" y="27"/>
                      </a:lnTo>
                      <a:lnTo>
                        <a:pt x="22" y="26"/>
                      </a:lnTo>
                      <a:lnTo>
                        <a:pt x="22" y="25"/>
                      </a:lnTo>
                      <a:lnTo>
                        <a:pt x="21" y="24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060800" y="5557680"/>
                  <a:ext cx="33480" cy="4320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6" y="2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0" y="27"/>
                      </a:lnTo>
                      <a:lnTo>
                        <a:pt x="21" y="26"/>
                      </a:lnTo>
                      <a:lnTo>
                        <a:pt x="21" y="25"/>
                      </a:lnTo>
                      <a:lnTo>
                        <a:pt x="21" y="24"/>
                      </a:lnTo>
                      <a:lnTo>
                        <a:pt x="21" y="23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103640" y="56167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19"/>
                      </a:lnTo>
                      <a:lnTo>
                        <a:pt x="15" y="17"/>
                      </a:lnTo>
                      <a:lnTo>
                        <a:pt x="17" y="16"/>
                      </a:lnTo>
                      <a:lnTo>
                        <a:pt x="17" y="16"/>
                      </a:lnTo>
                      <a:lnTo>
                        <a:pt x="17" y="15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 flipH="1">
                <a:off x="1641240" y="1882800"/>
                <a:ext cx="1360440" cy="3259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1770120" y="5141520"/>
                <a:ext cx="4102200" cy="374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00280" y="1882800"/>
                <a:ext cx="2497320" cy="288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375000" y="1882800"/>
                <a:ext cx="623880" cy="1003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98920" y="3511440"/>
                <a:ext cx="1498680" cy="1379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1641600" y="3387240"/>
                <a:ext cx="2495520" cy="1879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6" name=""/>
              <p:cNvGrpSpPr/>
              <p:nvPr/>
            </p:nvGrpSpPr>
            <p:grpSpPr>
              <a:xfrm>
                <a:off x="4618080" y="2254320"/>
                <a:ext cx="1258920" cy="887400"/>
                <a:chOff x="4618080" y="2254320"/>
                <a:chExt cx="1258920" cy="8874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5834160" y="225432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775480" y="229536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718240" y="2335320"/>
                  <a:ext cx="41040" cy="3312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6" y="5"/>
                      </a:lnTo>
                      <a:lnTo>
                        <a:pt x="26" y="4"/>
                      </a:lnTo>
                      <a:lnTo>
                        <a:pt x="26" y="3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659560" y="237816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5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19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600880" y="241776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5541840" y="245916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483160" y="2498760"/>
                  <a:ext cx="44640" cy="349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27" y="7"/>
                      </a:move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6" y="21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424480" y="254160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7" y="5"/>
                      </a:move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7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369040" y="25812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5310360" y="26226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5251320" y="266220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6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5192640" y="270504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5"/>
                      </a:move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133960" y="274464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6" y="7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6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076720" y="278604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018040" y="282744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959360" y="286848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6" y="5"/>
                      </a:moveTo>
                      <a:lnTo>
                        <a:pt x="27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6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900680" y="2908440"/>
                  <a:ext cx="44280" cy="349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27" y="7"/>
                      </a:moveTo>
                      <a:lnTo>
                        <a:pt x="28" y="6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4" y="22"/>
                      </a:lnTo>
                      <a:lnTo>
                        <a:pt x="5" y="22"/>
                      </a:lnTo>
                      <a:lnTo>
                        <a:pt x="6" y="21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843440" y="294948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6" y="6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786200" y="29908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6"/>
                      </a:move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4" y="20"/>
                      </a:lnTo>
                      <a:lnTo>
                        <a:pt x="25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727520" y="303228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5" y="5"/>
                      </a:move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668840" y="307188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5" y="7"/>
                      </a:move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2"/>
                      </a:lnTo>
                      <a:lnTo>
                        <a:pt x="4" y="22"/>
                      </a:lnTo>
                      <a:lnTo>
                        <a:pt x="5" y="21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618080" y="3112920"/>
                  <a:ext cx="34920" cy="28800"/>
                </a:xfrm>
                <a:custGeom>
                  <a:avLst/>
                  <a:gdLst/>
                  <a:ahLst/>
                  <a:rect l="l" t="t" r="r" b="b"/>
                  <a:pathLst>
                    <a:path w="22" h="18">
                      <a:moveTo>
                        <a:pt x="21" y="6"/>
                      </a:move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2" y="12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6" y="18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3370320" y="3510000"/>
                <a:ext cx="752400" cy="509400"/>
                <a:chOff x="3370320" y="3510000"/>
                <a:chExt cx="752400" cy="509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3370320" y="398628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" y="15"/>
                      </a:move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19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429000" y="3944880"/>
                  <a:ext cx="4428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3489480" y="390672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548160" y="386712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4"/>
                      </a:move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606840" y="382752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5"/>
                      </a:move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26" y="6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666960" y="3787920"/>
                  <a:ext cx="4320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724200" y="3749760"/>
                  <a:ext cx="4464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" y="14"/>
                      </a:move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2" y="19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5" y="19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782880" y="370836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2" y="16"/>
                      </a:move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843360" y="366876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1" y="16"/>
                      </a:move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7" y="2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902040" y="3630600"/>
                  <a:ext cx="44640" cy="334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1" y="14"/>
                      </a:move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960720" y="3591000"/>
                  <a:ext cx="42840" cy="3312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2" y="14"/>
                      </a:move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5" y="20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2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021200" y="3551400"/>
                  <a:ext cx="42840" cy="3168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1" y="15"/>
                      </a:move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25" y="6"/>
                      </a:lnTo>
                      <a:lnTo>
                        <a:pt x="26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2"/>
                      </a:lnTo>
                      <a:lnTo>
                        <a:pt x="25" y="1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079880" y="3510000"/>
                  <a:ext cx="42840" cy="334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1" y="16"/>
                      </a:move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26" y="7"/>
                      </a:lnTo>
                      <a:lnTo>
                        <a:pt x="27" y="6"/>
                      </a:ln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1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3038400" y="1382760"/>
                <a:ext cx="104760" cy="374760"/>
                <a:chOff x="3038400" y="1382760"/>
                <a:chExt cx="104760" cy="374760"/>
              </a:xfrm>
            </p:grpSpPr>
            <p:sp>
              <p:nvSpPr>
                <p:cNvPr id="1114" name=""/>
                <p:cNvSpPr/>
                <p:nvPr/>
              </p:nvSpPr>
              <p:spPr>
                <a:xfrm flipV="1">
                  <a:off x="3089160" y="1486080"/>
                  <a:ext cx="144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3038400" y="13827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66" y="68"/>
                      </a:moveTo>
                      <a:lnTo>
                        <a:pt x="32" y="0"/>
                      </a:lnTo>
                      <a:lnTo>
                        <a:pt x="0" y="68"/>
                      </a:lnTo>
                      <a:lnTo>
                        <a:pt x="6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5991120" y="4765680"/>
                <a:ext cx="104760" cy="376200"/>
                <a:chOff x="5991120" y="4765680"/>
                <a:chExt cx="104760" cy="376200"/>
              </a:xfrm>
            </p:grpSpPr>
            <p:sp>
              <p:nvSpPr>
                <p:cNvPr id="1117" name=""/>
                <p:cNvSpPr/>
                <p:nvPr/>
              </p:nvSpPr>
              <p:spPr>
                <a:xfrm flipV="1">
                  <a:off x="6043320" y="4870440"/>
                  <a:ext cx="108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991120" y="476568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66" y="68"/>
                      </a:moveTo>
                      <a:lnTo>
                        <a:pt x="33" y="0"/>
                      </a:lnTo>
                      <a:lnTo>
                        <a:pt x="0" y="68"/>
                      </a:lnTo>
                      <a:lnTo>
                        <a:pt x="6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4075200" y="2992320"/>
                <a:ext cx="104760" cy="376200"/>
                <a:chOff x="4075200" y="2992320"/>
                <a:chExt cx="104760" cy="3762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4127400" y="2992320"/>
                  <a:ext cx="180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075200" y="326052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0" y="0"/>
                      </a:moveTo>
                      <a:lnTo>
                        <a:pt x="33" y="68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1266840" y="5267160"/>
                <a:ext cx="104760" cy="374760"/>
                <a:chOff x="1266840" y="5267160"/>
                <a:chExt cx="104760" cy="37476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1319400" y="5267160"/>
                  <a:ext cx="1440" cy="2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266840" y="553392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0" y="0"/>
                      </a:moveTo>
                      <a:lnTo>
                        <a:pt x="33" y="68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1635120" y="1744560"/>
                <a:ext cx="1290600" cy="654120"/>
              </a:xfrm>
              <a:custGeom>
                <a:avLst/>
                <a:gdLst/>
                <a:ahLst/>
                <a:rect l="l" t="t" r="r" b="b"/>
                <a:pathLst>
                  <a:path w="813" h="412">
                    <a:moveTo>
                      <a:pt x="0" y="394"/>
                    </a:moveTo>
                    <a:lnTo>
                      <a:pt x="8" y="412"/>
                    </a:lnTo>
                    <a:lnTo>
                      <a:pt x="813" y="17"/>
                    </a:lnTo>
                    <a:lnTo>
                      <a:pt x="804" y="0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556080" y="1619280"/>
                <a:ext cx="2301840" cy="404640"/>
              </a:xfrm>
              <a:custGeom>
                <a:avLst/>
                <a:gdLst/>
                <a:ahLst/>
                <a:rect l="l" t="t" r="r" b="b"/>
                <a:pathLst>
                  <a:path w="1450" h="255">
                    <a:moveTo>
                      <a:pt x="3" y="0"/>
                    </a:moveTo>
                    <a:lnTo>
                      <a:pt x="0" y="18"/>
                    </a:lnTo>
                    <a:lnTo>
                      <a:pt x="1447" y="255"/>
                    </a:lnTo>
                    <a:lnTo>
                      <a:pt x="1450" y="2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768320" y="2746440"/>
                <a:ext cx="2176560" cy="406440"/>
              </a:xfrm>
              <a:custGeom>
                <a:avLst/>
                <a:gdLst/>
                <a:ahLst/>
                <a:rect l="l" t="t" r="r" b="b"/>
                <a:pathLst>
                  <a:path w="1371" h="256">
                    <a:moveTo>
                      <a:pt x="4" y="0"/>
                    </a:moveTo>
                    <a:lnTo>
                      <a:pt x="0" y="19"/>
                    </a:lnTo>
                    <a:lnTo>
                      <a:pt x="1367" y="256"/>
                    </a:lnTo>
                    <a:lnTo>
                      <a:pt x="1371" y="23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572000" y="2370240"/>
                <a:ext cx="1289160" cy="655560"/>
              </a:xfrm>
              <a:custGeom>
                <a:avLst/>
                <a:gdLst/>
                <a:ahLst/>
                <a:rect l="l" t="t" r="r" b="b"/>
                <a:pathLst>
                  <a:path w="812" h="413">
                    <a:moveTo>
                      <a:pt x="0" y="395"/>
                    </a:moveTo>
                    <a:lnTo>
                      <a:pt x="8" y="413"/>
                    </a:lnTo>
                    <a:lnTo>
                      <a:pt x="812" y="18"/>
                    </a:lnTo>
                    <a:lnTo>
                      <a:pt x="804" y="0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768320" y="5504040"/>
                <a:ext cx="2176560" cy="404640"/>
              </a:xfrm>
              <a:custGeom>
                <a:avLst/>
                <a:gdLst/>
                <a:ahLst/>
                <a:rect l="l" t="t" r="r" b="b"/>
                <a:pathLst>
                  <a:path w="1371" h="255">
                    <a:moveTo>
                      <a:pt x="4" y="0"/>
                    </a:moveTo>
                    <a:lnTo>
                      <a:pt x="0" y="18"/>
                    </a:lnTo>
                    <a:lnTo>
                      <a:pt x="1367" y="255"/>
                    </a:lnTo>
                    <a:lnTo>
                      <a:pt x="1371" y="23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700520" y="5129280"/>
                <a:ext cx="1162080" cy="777960"/>
              </a:xfrm>
              <a:custGeom>
                <a:avLst/>
                <a:gdLst/>
                <a:ahLst/>
                <a:rect l="l" t="t" r="r" b="b"/>
                <a:pathLst>
                  <a:path w="732" h="490">
                    <a:moveTo>
                      <a:pt x="0" y="474"/>
                    </a:moveTo>
                    <a:lnTo>
                      <a:pt x="9" y="490"/>
                    </a:lnTo>
                    <a:lnTo>
                      <a:pt x="732" y="16"/>
                    </a:lnTo>
                    <a:lnTo>
                      <a:pt x="723" y="0"/>
                    </a:lnTo>
                    <a:lnTo>
                      <a:pt x="0" y="47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3429000" y="4375080"/>
                <a:ext cx="2397240" cy="523800"/>
                <a:chOff x="3429000" y="4375080"/>
                <a:chExt cx="2397240" cy="5238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3429000" y="437508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4" y="34"/>
                      </a:lnTo>
                      <a:lnTo>
                        <a:pt x="77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635280" y="441792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841920" y="4460760"/>
                  <a:ext cx="12204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4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048200" y="450216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55920" y="454644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3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460760" y="458784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668840" y="463068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876920" y="4673520"/>
                  <a:ext cx="12204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3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081760" y="4716360"/>
                  <a:ext cx="12348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289480" y="4761000"/>
                  <a:ext cx="122400" cy="5400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7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495760" y="480204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8"/>
                      </a:lnTo>
                      <a:lnTo>
                        <a:pt x="74" y="34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702400" y="4844880"/>
                  <a:ext cx="123840" cy="54000"/>
                </a:xfrm>
                <a:custGeom>
                  <a:avLst/>
                  <a:gdLst/>
                  <a:ahLst/>
                  <a:rect l="l" t="t" r="r" b="b"/>
                  <a:pathLst>
                    <a:path w="78" h="34">
                      <a:moveTo>
                        <a:pt x="3" y="0"/>
                      </a:moveTo>
                      <a:lnTo>
                        <a:pt x="0" y="19"/>
                      </a:lnTo>
                      <a:lnTo>
                        <a:pt x="75" y="34"/>
                      </a:lnTo>
                      <a:lnTo>
                        <a:pt x="78" y="1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1635120" y="4502160"/>
                <a:ext cx="1165320" cy="777960"/>
                <a:chOff x="1635120" y="4502160"/>
                <a:chExt cx="1165320" cy="77796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1635120" y="5186520"/>
                  <a:ext cx="115920" cy="93600"/>
                </a:xfrm>
                <a:custGeom>
                  <a:avLst/>
                  <a:gdLst/>
                  <a:ahLst/>
                  <a:rect l="l" t="t" r="r" b="b"/>
                  <a:pathLst>
                    <a:path w="73" h="59">
                      <a:moveTo>
                        <a:pt x="0" y="43"/>
                      </a:moveTo>
                      <a:lnTo>
                        <a:pt x="10" y="59"/>
                      </a:lnTo>
                      <a:lnTo>
                        <a:pt x="73" y="17"/>
                      </a:lnTo>
                      <a:lnTo>
                        <a:pt x="63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812960" y="5070600"/>
                  <a:ext cx="117360" cy="9180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1"/>
                      </a:moveTo>
                      <a:lnTo>
                        <a:pt x="9" y="58"/>
                      </a:lnTo>
                      <a:lnTo>
                        <a:pt x="74" y="16"/>
                      </a:lnTo>
                      <a:lnTo>
                        <a:pt x="64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992240" y="4952880"/>
                  <a:ext cx="115920" cy="92160"/>
                </a:xfrm>
                <a:custGeom>
                  <a:avLst/>
                  <a:gdLst/>
                  <a:ahLst/>
                  <a:rect l="l" t="t" r="r" b="b"/>
                  <a:pathLst>
                    <a:path w="73" h="58">
                      <a:moveTo>
                        <a:pt x="0" y="42"/>
                      </a:moveTo>
                      <a:lnTo>
                        <a:pt x="9" y="58"/>
                      </a:lnTo>
                      <a:lnTo>
                        <a:pt x="73" y="17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168640" y="4836960"/>
                  <a:ext cx="11736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1"/>
                      </a:moveTo>
                      <a:lnTo>
                        <a:pt x="10" y="58"/>
                      </a:lnTo>
                      <a:lnTo>
                        <a:pt x="74" y="16"/>
                      </a:lnTo>
                      <a:lnTo>
                        <a:pt x="65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347920" y="4719600"/>
                  <a:ext cx="11736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2"/>
                      </a:moveTo>
                      <a:lnTo>
                        <a:pt x="10" y="58"/>
                      </a:lnTo>
                      <a:lnTo>
                        <a:pt x="74" y="17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527200" y="4603680"/>
                  <a:ext cx="117720" cy="92160"/>
                </a:xfrm>
                <a:custGeom>
                  <a:avLst/>
                  <a:gdLst/>
                  <a:ahLst/>
                  <a:rect l="l" t="t" r="r" b="b"/>
                  <a:pathLst>
                    <a:path w="74" h="58">
                      <a:moveTo>
                        <a:pt x="0" y="42"/>
                      </a:moveTo>
                      <a:lnTo>
                        <a:pt x="9" y="58"/>
                      </a:lnTo>
                      <a:lnTo>
                        <a:pt x="74" y="16"/>
                      </a:lnTo>
                      <a:lnTo>
                        <a:pt x="64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705040" y="4502160"/>
                  <a:ext cx="95400" cy="77760"/>
                </a:xfrm>
                <a:custGeom>
                  <a:avLst/>
                  <a:gdLst/>
                  <a:ahLst/>
                  <a:rect l="l" t="t" r="r" b="b"/>
                  <a:pathLst>
                    <a:path w="60" h="49">
                      <a:moveTo>
                        <a:pt x="0" y="32"/>
                      </a:moveTo>
                      <a:lnTo>
                        <a:pt x="9" y="49"/>
                      </a:lnTo>
                      <a:lnTo>
                        <a:pt x="60" y="17"/>
                      </a:lnTo>
                      <a:lnTo>
                        <a:pt x="50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"/>
              <p:cNvSpPr/>
              <p:nvPr/>
            </p:nvSpPr>
            <p:spPr>
              <a:xfrm>
                <a:off x="1373040" y="301140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308480" y="351144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222960" y="2509920"/>
                <a:ext cx="30240" cy="2130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3159000" y="1882800"/>
                <a:ext cx="30240" cy="2004840"/>
                <a:chOff x="3159000" y="1882800"/>
                <a:chExt cx="30240" cy="200484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3159000" y="188280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159000" y="210168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159000" y="232236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159000" y="254160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159000" y="276084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3159000" y="297972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3159000" y="319896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159000" y="3417840"/>
                  <a:ext cx="30240" cy="125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159000" y="3637080"/>
                  <a:ext cx="30240" cy="125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3159000" y="3857760"/>
                  <a:ext cx="30240" cy="29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6" name=""/>
            <p:cNvSpPr/>
            <p:nvPr/>
          </p:nvSpPr>
          <p:spPr>
            <a:xfrm>
              <a:off x="611280" y="765000"/>
              <a:ext cx="6121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thogonal Coupling of Two D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Molecule makes Miracle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EBA-7C6B-4344-B6D0-719B52C45F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490680" y="473040"/>
            <a:ext cx="8161200" cy="534024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>
            <a:off x="4427640" y="5877000"/>
            <a:ext cx="432108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fe Time of TSC is about 60 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8A1-D4C2-488C-8644-33C4EF0321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"/>
          <p:cNvGrpSpPr/>
          <p:nvPr/>
        </p:nvGrpSpPr>
        <p:grpSpPr>
          <a:xfrm>
            <a:off x="685800" y="568440"/>
            <a:ext cx="7772400" cy="5726160"/>
            <a:chOff x="685800" y="568440"/>
            <a:chExt cx="7772400" cy="5726160"/>
          </a:xfrm>
        </p:grpSpPr>
        <p:sp>
          <p:nvSpPr>
            <p:cNvPr id="1170" name=""/>
            <p:cNvSpPr/>
            <p:nvPr/>
          </p:nvSpPr>
          <p:spPr>
            <a:xfrm>
              <a:off x="914400" y="5826240"/>
              <a:ext cx="327816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876920" y="5835600"/>
              <a:ext cx="327816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38080" y="568440"/>
              <a:ext cx="731700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49600" y="625320"/>
              <a:ext cx="663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ahoma"/>
                </a:rPr>
                <a:t>Quadruplet and Octal-Coupling of Electr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2120" y="1371600"/>
              <a:ext cx="3695760" cy="441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58320" y="1525680"/>
              <a:ext cx="212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Tahoma"/>
                </a:rPr>
                <a:t>Quadruplet e*(4,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48320" y="1370160"/>
              <a:ext cx="3695760" cy="44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61800" y="1527120"/>
              <a:ext cx="250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Tahoma"/>
                </a:rPr>
                <a:t>Octal-Coupling e*(8,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85800" y="1073160"/>
              <a:ext cx="777240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36880" y="2871720"/>
              <a:ext cx="574560" cy="57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241720" y="3041640"/>
              <a:ext cx="13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0000"/>
                  </a:solidFill>
                  <a:latin typeface="Tahoma"/>
                </a:rPr>
                <a:t>e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008000" y="4586400"/>
              <a:ext cx="574560" cy="574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246320" y="4778280"/>
              <a:ext cx="13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0000"/>
                  </a:solidFill>
                  <a:latin typeface="Tahoma"/>
                </a:rPr>
                <a:t>e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379600" y="5043600"/>
              <a:ext cx="574560" cy="574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40160" y="5167440"/>
              <a:ext cx="2268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06760" y="5221440"/>
              <a:ext cx="13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0000"/>
                  </a:solidFill>
                  <a:latin typeface="Tahoma"/>
                </a:rPr>
                <a:t>e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200400" y="3921120"/>
              <a:ext cx="574560" cy="574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340080" y="4024440"/>
              <a:ext cx="2271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17840" y="4122720"/>
              <a:ext cx="13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0000"/>
                  </a:solidFill>
                  <a:latin typeface="Tahoma"/>
                </a:rPr>
                <a:t>e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1464840" y="3443400"/>
              <a:ext cx="685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79680" y="504360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79600" y="3443400"/>
              <a:ext cx="228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08200" y="3443400"/>
              <a:ext cx="68580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836800" y="44719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574640" y="4359240"/>
              <a:ext cx="1584360" cy="460440"/>
              <a:chOff x="1574640" y="4359240"/>
              <a:chExt cx="1584360" cy="460440"/>
            </a:xfrm>
          </p:grpSpPr>
          <p:sp>
            <p:nvSpPr>
              <p:cNvPr id="1195" name=""/>
              <p:cNvSpPr/>
              <p:nvPr/>
            </p:nvSpPr>
            <p:spPr>
              <a:xfrm>
                <a:off x="1574640" y="479916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3" y="7"/>
                    </a:moveTo>
                    <a:lnTo>
                      <a:pt x="2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638360" y="478152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3" y="6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03520" y="476244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766880" y="474516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3" y="6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32040" y="472608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895400" y="47084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" y="6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959120" y="468936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3" y="7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023920" y="467208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" y="6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087640" y="465300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3" y="7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151000" y="463536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3" y="6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216160" y="4616280"/>
                <a:ext cx="46080" cy="2088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279520" y="459756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3" y="7"/>
                    </a:moveTo>
                    <a:lnTo>
                      <a:pt x="2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344680" y="457992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408400" y="4560840"/>
                <a:ext cx="4572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2" y="7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471760" y="454356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3" y="6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536920" y="452448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600280" y="4506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3" y="6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665440" y="4487760"/>
                <a:ext cx="46080" cy="2088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728800" y="447048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" y="6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792520" y="445140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3" y="7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857680" y="443376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" y="6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921040" y="4414680"/>
                <a:ext cx="46080" cy="2088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3" y="7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984400" y="4397400"/>
                <a:ext cx="47880" cy="190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3" y="6"/>
                    </a:move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049560" y="437832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112920" y="435924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3" y="7"/>
                    </a:moveTo>
                    <a:lnTo>
                      <a:pt x="2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2265480" y="4243320"/>
              <a:ext cx="231480" cy="231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2293920" y="3405240"/>
              <a:ext cx="169920" cy="838080"/>
              <a:chOff x="2293920" y="3405240"/>
              <a:chExt cx="169920" cy="838080"/>
            </a:xfrm>
          </p:grpSpPr>
          <p:sp>
            <p:nvSpPr>
              <p:cNvPr id="1222" name=""/>
              <p:cNvSpPr/>
              <p:nvPr/>
            </p:nvSpPr>
            <p:spPr>
              <a:xfrm>
                <a:off x="2360520" y="3405240"/>
                <a:ext cx="38160" cy="671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293920" y="40734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4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2365200" y="4471920"/>
              <a:ext cx="260640" cy="579600"/>
              <a:chOff x="2365200" y="4471920"/>
              <a:chExt cx="260640" cy="579600"/>
            </a:xfrm>
          </p:grpSpPr>
          <p:sp>
            <p:nvSpPr>
              <p:cNvPr id="1225" name=""/>
              <p:cNvSpPr/>
              <p:nvPr/>
            </p:nvSpPr>
            <p:spPr>
              <a:xfrm>
                <a:off x="2425680" y="4619520"/>
                <a:ext cx="200160" cy="432000"/>
              </a:xfrm>
              <a:custGeom>
                <a:avLst/>
                <a:gdLst/>
                <a:ahLst/>
                <a:rect l="l" t="t" r="r" b="b"/>
                <a:pathLst>
                  <a:path w="126" h="272">
                    <a:moveTo>
                      <a:pt x="104" y="272"/>
                    </a:moveTo>
                    <a:lnTo>
                      <a:pt x="126" y="263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104" y="27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365200" y="4471920"/>
                <a:ext cx="157320" cy="189000"/>
              </a:xfrm>
              <a:custGeom>
                <a:avLst/>
                <a:gdLst/>
                <a:ahLst/>
                <a:rect l="l" t="t" r="r" b="b"/>
                <a:pathLst>
                  <a:path w="99" h="119">
                    <a:moveTo>
                      <a:pt x="99" y="79"/>
                    </a:moveTo>
                    <a:lnTo>
                      <a:pt x="9" y="0"/>
                    </a:lnTo>
                    <a:lnTo>
                      <a:pt x="0" y="119"/>
                    </a:lnTo>
                    <a:lnTo>
                      <a:pt x="99" y="79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1335240" y="3649680"/>
              <a:ext cx="815760" cy="593640"/>
              <a:chOff x="1335240" y="3649680"/>
              <a:chExt cx="815760" cy="593640"/>
            </a:xfrm>
          </p:grpSpPr>
          <p:sp>
            <p:nvSpPr>
              <p:cNvPr id="1228" name=""/>
              <p:cNvSpPr/>
              <p:nvPr/>
            </p:nvSpPr>
            <p:spPr>
              <a:xfrm>
                <a:off x="1335240" y="3649680"/>
                <a:ext cx="660240" cy="493560"/>
              </a:xfrm>
              <a:custGeom>
                <a:avLst/>
                <a:gdLst/>
                <a:ahLst/>
                <a:rect l="l" t="t" r="r" b="b"/>
                <a:pathLst>
                  <a:path w="416" h="311">
                    <a:moveTo>
                      <a:pt x="21" y="0"/>
                    </a:moveTo>
                    <a:lnTo>
                      <a:pt x="0" y="29"/>
                    </a:lnTo>
                    <a:lnTo>
                      <a:pt x="395" y="311"/>
                    </a:lnTo>
                    <a:lnTo>
                      <a:pt x="416" y="28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911240" y="4029120"/>
                <a:ext cx="239760" cy="21420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11"/>
                    </a:moveTo>
                    <a:lnTo>
                      <a:pt x="151" y="135"/>
                    </a:lnTo>
                    <a:lnTo>
                      <a:pt x="8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3394080" y="4471920"/>
              <a:ext cx="260280" cy="579600"/>
              <a:chOff x="3394080" y="4471920"/>
              <a:chExt cx="260280" cy="579600"/>
            </a:xfrm>
          </p:grpSpPr>
          <p:sp>
            <p:nvSpPr>
              <p:cNvPr id="1231" name=""/>
              <p:cNvSpPr/>
              <p:nvPr/>
            </p:nvSpPr>
            <p:spPr>
              <a:xfrm>
                <a:off x="3564000" y="4894200"/>
                <a:ext cx="90360" cy="15732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35" y="99"/>
                    </a:moveTo>
                    <a:lnTo>
                      <a:pt x="57" y="90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35" y="99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465360" y="4646520"/>
                <a:ext cx="9072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35" y="98"/>
                    </a:moveTo>
                    <a:lnTo>
                      <a:pt x="57" y="89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35" y="9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394080" y="4471920"/>
                <a:ext cx="157320" cy="189000"/>
              </a:xfrm>
              <a:custGeom>
                <a:avLst/>
                <a:gdLst/>
                <a:ahLst/>
                <a:rect l="l" t="t" r="r" b="b"/>
                <a:pathLst>
                  <a:path w="99" h="119">
                    <a:moveTo>
                      <a:pt x="99" y="79"/>
                    </a:moveTo>
                    <a:lnTo>
                      <a:pt x="9" y="0"/>
                    </a:lnTo>
                    <a:lnTo>
                      <a:pt x="0" y="119"/>
                    </a:lnTo>
                    <a:lnTo>
                      <a:pt x="99" y="79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2608200" y="4471920"/>
              <a:ext cx="817560" cy="595440"/>
              <a:chOff x="2608200" y="4471920"/>
              <a:chExt cx="817560" cy="595440"/>
            </a:xfrm>
          </p:grpSpPr>
          <p:sp>
            <p:nvSpPr>
              <p:cNvPr id="1235" name=""/>
              <p:cNvSpPr/>
              <p:nvPr/>
            </p:nvSpPr>
            <p:spPr>
              <a:xfrm>
                <a:off x="2765520" y="4573440"/>
                <a:ext cx="660240" cy="493920"/>
              </a:xfrm>
              <a:custGeom>
                <a:avLst/>
                <a:gdLst/>
                <a:ahLst/>
                <a:rect l="l" t="t" r="r" b="b"/>
                <a:pathLst>
                  <a:path w="416" h="311">
                    <a:moveTo>
                      <a:pt x="21" y="0"/>
                    </a:moveTo>
                    <a:lnTo>
                      <a:pt x="0" y="29"/>
                    </a:lnTo>
                    <a:lnTo>
                      <a:pt x="395" y="311"/>
                    </a:lnTo>
                    <a:lnTo>
                      <a:pt x="416" y="28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608200" y="4471920"/>
                <a:ext cx="239760" cy="21456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151" y="24"/>
                    </a:moveTo>
                    <a:lnTo>
                      <a:pt x="0" y="0"/>
                    </a:lnTo>
                    <a:lnTo>
                      <a:pt x="71" y="135"/>
                    </a:lnTo>
                    <a:lnTo>
                      <a:pt x="151" y="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3600" y="4386240"/>
              <a:ext cx="693720" cy="331920"/>
              <a:chOff x="1533600" y="4386240"/>
              <a:chExt cx="693720" cy="33192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3600" y="4446720"/>
                <a:ext cx="549360" cy="271440"/>
              </a:xfrm>
              <a:custGeom>
                <a:avLst/>
                <a:gdLst/>
                <a:ahLst/>
                <a:rect l="l" t="t" r="r" b="b"/>
                <a:pathLst>
                  <a:path w="346" h="171">
                    <a:moveTo>
                      <a:pt x="0" y="149"/>
                    </a:moveTo>
                    <a:lnTo>
                      <a:pt x="10" y="171"/>
                    </a:lnTo>
                    <a:lnTo>
                      <a:pt x="346" y="22"/>
                    </a:lnTo>
                    <a:lnTo>
                      <a:pt x="336" y="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038320" y="4386240"/>
                <a:ext cx="189000" cy="155520"/>
              </a:xfrm>
              <a:custGeom>
                <a:avLst/>
                <a:gdLst/>
                <a:ahLst/>
                <a:rect l="l" t="t" r="r" b="b"/>
                <a:pathLst>
                  <a:path w="119" h="98">
                    <a:moveTo>
                      <a:pt x="43" y="98"/>
                    </a:moveTo>
                    <a:lnTo>
                      <a:pt x="119" y="6"/>
                    </a:lnTo>
                    <a:lnTo>
                      <a:pt x="0" y="0"/>
                    </a:lnTo>
                    <a:lnTo>
                      <a:pt x="43" y="9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1150920" y="3786120"/>
              <a:ext cx="169920" cy="685800"/>
              <a:chOff x="1150920" y="3786120"/>
              <a:chExt cx="169920" cy="685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1217520" y="3786120"/>
                <a:ext cx="38160" cy="1526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217520" y="4052880"/>
                <a:ext cx="38160" cy="1522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150920" y="43020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4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1343160" y="3214800"/>
              <a:ext cx="693720" cy="360360"/>
              <a:chOff x="1343160" y="3214800"/>
              <a:chExt cx="693720" cy="360360"/>
            </a:xfrm>
          </p:grpSpPr>
          <p:sp>
            <p:nvSpPr>
              <p:cNvPr id="1245" name=""/>
              <p:cNvSpPr/>
              <p:nvPr/>
            </p:nvSpPr>
            <p:spPr>
              <a:xfrm>
                <a:off x="1343160" y="3473280"/>
                <a:ext cx="152280" cy="10188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43"/>
                    </a:moveTo>
                    <a:lnTo>
                      <a:pt x="11" y="64"/>
                    </a:lnTo>
                    <a:lnTo>
                      <a:pt x="96" y="21"/>
                    </a:lnTo>
                    <a:lnTo>
                      <a:pt x="85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581120" y="335448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97" h="64">
                    <a:moveTo>
                      <a:pt x="0" y="43"/>
                    </a:moveTo>
                    <a:lnTo>
                      <a:pt x="11" y="64"/>
                    </a:lnTo>
                    <a:lnTo>
                      <a:pt x="97" y="21"/>
                    </a:lnTo>
                    <a:lnTo>
                      <a:pt x="8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819440" y="3274920"/>
                <a:ext cx="77760" cy="619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0" y="18"/>
                    </a:moveTo>
                    <a:lnTo>
                      <a:pt x="11" y="39"/>
                    </a:lnTo>
                    <a:lnTo>
                      <a:pt x="49" y="21"/>
                    </a:lnTo>
                    <a:lnTo>
                      <a:pt x="38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847880" y="3214800"/>
                <a:ext cx="189000" cy="152280"/>
              </a:xfrm>
              <a:custGeom>
                <a:avLst/>
                <a:gdLst/>
                <a:ahLst/>
                <a:rect l="l" t="t" r="r" b="b"/>
                <a:pathLst>
                  <a:path w="119" h="96">
                    <a:moveTo>
                      <a:pt x="47" y="96"/>
                    </a:moveTo>
                    <a:lnTo>
                      <a:pt x="119" y="0"/>
                    </a:lnTo>
                    <a:lnTo>
                      <a:pt x="0" y="0"/>
                    </a:lnTo>
                    <a:lnTo>
                      <a:pt x="47" y="9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2491560" y="4261320"/>
              <a:ext cx="634680" cy="153000"/>
              <a:chOff x="2491560" y="4261320"/>
              <a:chExt cx="634680" cy="153000"/>
            </a:xfrm>
          </p:grpSpPr>
          <p:sp>
            <p:nvSpPr>
              <p:cNvPr id="1250" name=""/>
              <p:cNvSpPr/>
              <p:nvPr/>
            </p:nvSpPr>
            <p:spPr>
              <a:xfrm rot="120000">
                <a:off x="2642400" y="4269600"/>
                <a:ext cx="482040" cy="100080"/>
              </a:xfrm>
              <a:custGeom>
                <a:avLst/>
                <a:gdLst/>
                <a:ahLst/>
                <a:rect l="l" t="t" r="r" b="b"/>
                <a:pathLst>
                  <a:path w="332" h="77">
                    <a:moveTo>
                      <a:pt x="332" y="23"/>
                    </a:moveTo>
                    <a:lnTo>
                      <a:pt x="328" y="0"/>
                    </a:lnTo>
                    <a:lnTo>
                      <a:pt x="0" y="54"/>
                    </a:lnTo>
                    <a:lnTo>
                      <a:pt x="4" y="77"/>
                    </a:lnTo>
                    <a:lnTo>
                      <a:pt x="332" y="2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120000">
                <a:off x="2493720" y="4274280"/>
                <a:ext cx="165240" cy="136800"/>
              </a:xfrm>
              <a:custGeom>
                <a:avLst/>
                <a:gdLst/>
                <a:ahLst/>
                <a:rect l="l" t="t" r="r" b="b"/>
                <a:pathLst>
                  <a:path w="114" h="105">
                    <a:moveTo>
                      <a:pt x="96" y="0"/>
                    </a:moveTo>
                    <a:lnTo>
                      <a:pt x="0" y="71"/>
                    </a:lnTo>
                    <a:lnTo>
                      <a:pt x="114" y="105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2963880" y="5116680"/>
              <a:ext cx="618480" cy="255240"/>
              <a:chOff x="2963880" y="5116680"/>
              <a:chExt cx="618480" cy="255240"/>
            </a:xfrm>
          </p:grpSpPr>
          <p:sp>
            <p:nvSpPr>
              <p:cNvPr id="1253" name=""/>
              <p:cNvSpPr/>
              <p:nvPr/>
            </p:nvSpPr>
            <p:spPr>
              <a:xfrm rot="21360000">
                <a:off x="3444840" y="5185080"/>
                <a:ext cx="135360" cy="55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21360000">
                <a:off x="3208320" y="5201640"/>
                <a:ext cx="135000" cy="55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1360000">
                <a:off x="2972160" y="5121360"/>
                <a:ext cx="150840" cy="2455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7" y="0"/>
                    </a:moveTo>
                    <a:lnTo>
                      <a:pt x="0" y="54"/>
                    </a:lnTo>
                    <a:lnTo>
                      <a:pt x="107" y="107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387520" y="2930400"/>
              <a:ext cx="100080" cy="304920"/>
              <a:chOff x="2387520" y="2930400"/>
              <a:chExt cx="100080" cy="304920"/>
            </a:xfrm>
          </p:grpSpPr>
          <p:sp>
            <p:nvSpPr>
              <p:cNvPr id="1257" name=""/>
              <p:cNvSpPr/>
              <p:nvPr/>
            </p:nvSpPr>
            <p:spPr>
              <a:xfrm flipV="1">
                <a:off x="2438280" y="2930400"/>
                <a:ext cx="1800" cy="2095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387520" y="313704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1398600" y="4683240"/>
              <a:ext cx="100080" cy="304560"/>
              <a:chOff x="1398600" y="4683240"/>
              <a:chExt cx="100080" cy="304560"/>
            </a:xfrm>
          </p:grpSpPr>
          <p:sp>
            <p:nvSpPr>
              <p:cNvPr id="1260" name=""/>
              <p:cNvSpPr/>
              <p:nvPr/>
            </p:nvSpPr>
            <p:spPr>
              <a:xfrm flipV="1">
                <a:off x="1447920" y="4778280"/>
                <a:ext cx="1440" cy="2095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398600" y="468324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2768760" y="5140440"/>
              <a:ext cx="99720" cy="304560"/>
              <a:chOff x="2768760" y="5140440"/>
              <a:chExt cx="99720" cy="304560"/>
            </a:xfrm>
          </p:grpSpPr>
          <p:sp>
            <p:nvSpPr>
              <p:cNvPr id="1263" name=""/>
              <p:cNvSpPr/>
              <p:nvPr/>
            </p:nvSpPr>
            <p:spPr>
              <a:xfrm>
                <a:off x="2819520" y="5140440"/>
                <a:ext cx="1440" cy="2095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68760" y="534672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3532320" y="3997440"/>
              <a:ext cx="99720" cy="304560"/>
              <a:chOff x="3532320" y="3997440"/>
              <a:chExt cx="99720" cy="304560"/>
            </a:xfrm>
          </p:grpSpPr>
          <p:sp>
            <p:nvSpPr>
              <p:cNvPr id="1266" name=""/>
              <p:cNvSpPr/>
              <p:nvPr/>
            </p:nvSpPr>
            <p:spPr>
              <a:xfrm>
                <a:off x="3581280" y="4092480"/>
                <a:ext cx="1800" cy="2095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532320" y="399744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1323720" y="5897520"/>
              <a:ext cx="255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ahoma"/>
                </a:rPr>
                <a:t>Sum Momentum 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3227400" y="4987800"/>
              <a:ext cx="100080" cy="843120"/>
              <a:chOff x="3227400" y="4987800"/>
              <a:chExt cx="100080" cy="843120"/>
            </a:xfrm>
          </p:grpSpPr>
          <p:sp>
            <p:nvSpPr>
              <p:cNvPr id="1270" name=""/>
              <p:cNvSpPr/>
              <p:nvPr/>
            </p:nvSpPr>
            <p:spPr>
              <a:xfrm>
                <a:off x="3271680" y="578340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71680" y="571644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271680" y="564984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271680" y="558324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271680" y="551664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271680" y="545004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271680" y="538308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271680" y="531648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271680" y="524988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271680" y="518328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271680" y="511668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271680" y="507852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10"/>
                    </a:moveTo>
                    <a:lnTo>
                      <a:pt x="1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227400" y="498780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1703520" y="3997440"/>
              <a:ext cx="99720" cy="1833480"/>
              <a:chOff x="1703520" y="3997440"/>
              <a:chExt cx="99720" cy="1833480"/>
            </a:xfrm>
          </p:grpSpPr>
          <p:sp>
            <p:nvSpPr>
              <p:cNvPr id="1284" name=""/>
              <p:cNvSpPr/>
              <p:nvPr/>
            </p:nvSpPr>
            <p:spPr>
              <a:xfrm>
                <a:off x="1747800" y="578340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747800" y="571644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747800" y="564984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747800" y="558324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747800" y="551664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747800" y="545004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747800" y="538308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747800" y="531648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747800" y="524988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747800" y="518328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747800" y="511668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747800" y="504972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747800" y="498312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747800" y="491652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747800" y="484992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747800" y="478296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47800" y="471636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47800" y="46497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47800" y="4583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747800" y="45165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747800" y="444960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747800" y="438300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747800" y="431640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747800" y="424980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747800" y="418320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747800" y="4116240"/>
                <a:ext cx="9720" cy="47880"/>
              </a:xfrm>
              <a:custGeom>
                <a:avLst/>
                <a:gdLst/>
                <a:ahLst/>
                <a:rect l="l" t="t" r="r" b="b"/>
                <a:pathLst>
                  <a:path w="6" h="30">
                    <a:moveTo>
                      <a:pt x="0" y="28"/>
                    </a:moveTo>
                    <a:lnTo>
                      <a:pt x="1" y="28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703520" y="399744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4952880" y="2463840"/>
              <a:ext cx="2905560" cy="3722760"/>
              <a:chOff x="4952880" y="2463840"/>
              <a:chExt cx="2905560" cy="3722760"/>
            </a:xfrm>
          </p:grpSpPr>
          <p:sp>
            <p:nvSpPr>
              <p:cNvPr id="1312" name=""/>
              <p:cNvSpPr/>
              <p:nvPr/>
            </p:nvSpPr>
            <p:spPr>
              <a:xfrm>
                <a:off x="5181480" y="3311640"/>
                <a:ext cx="1752840" cy="144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81480" y="4987800"/>
                <a:ext cx="1752840" cy="18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7280" y="2473200"/>
                <a:ext cx="1752840" cy="18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5" name=""/>
              <p:cNvGrpSpPr/>
              <p:nvPr/>
            </p:nvGrpSpPr>
            <p:grpSpPr>
              <a:xfrm>
                <a:off x="5862600" y="4145040"/>
                <a:ext cx="1762200" cy="9360"/>
                <a:chOff x="5862600" y="4145040"/>
                <a:chExt cx="1762200" cy="936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586260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4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3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5929200" y="4145040"/>
                  <a:ext cx="4788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599616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06276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612936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19596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6262560" y="4145040"/>
                  <a:ext cx="4788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632952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39612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46272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52932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595920" y="4145040"/>
                  <a:ext cx="4788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666288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72948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79608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862680" y="4145040"/>
                  <a:ext cx="4788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6929280" y="4145040"/>
                  <a:ext cx="4788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699624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706284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12944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7196040" y="4145040"/>
                  <a:ext cx="4788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7262640" y="4145040"/>
                  <a:ext cx="4788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732960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739620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7462800" y="4145040"/>
                  <a:ext cx="4752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7529400" y="4145040"/>
                  <a:ext cx="47880" cy="9360"/>
                </a:xfrm>
                <a:custGeom>
                  <a:avLst/>
                  <a:gdLst/>
                  <a:ahLst/>
                  <a:rect l="l" t="t" r="r" b="b"/>
                  <a:pathLst>
                    <a:path w="30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7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7596360" y="4145040"/>
                  <a:ext cx="28440" cy="9360"/>
                </a:xfrm>
                <a:custGeom>
                  <a:avLst/>
                  <a:gdLst/>
                  <a:ahLst/>
                  <a:rect l="l" t="t" r="r" b="b"/>
                  <a:pathLst>
                    <a:path w="18" h="6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5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1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3" name=""/>
              <p:cNvSpPr/>
              <p:nvPr/>
            </p:nvSpPr>
            <p:spPr>
              <a:xfrm>
                <a:off x="5181480" y="3311640"/>
                <a:ext cx="1800" cy="167616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934320" y="3311640"/>
                <a:ext cx="1440" cy="167616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620120" y="2473200"/>
                <a:ext cx="1440" cy="16765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6" name=""/>
              <p:cNvGrpSpPr/>
              <p:nvPr/>
            </p:nvGrpSpPr>
            <p:grpSpPr>
              <a:xfrm>
                <a:off x="5862600" y="2468520"/>
                <a:ext cx="9720" cy="1685880"/>
                <a:chOff x="5862600" y="2468520"/>
                <a:chExt cx="9720" cy="168588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5862600" y="246852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4"/>
                      </a:move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862600" y="2535120"/>
                  <a:ext cx="972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862600" y="260208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862600" y="266868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862600" y="273528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862600" y="280188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5862600" y="2868480"/>
                  <a:ext cx="972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862600" y="293544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862600" y="300204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862600" y="306864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862600" y="313524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862600" y="3201840"/>
                  <a:ext cx="972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862600" y="326880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862600" y="333540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862600" y="340200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5862600" y="3468600"/>
                  <a:ext cx="972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862600" y="3535200"/>
                  <a:ext cx="972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862600" y="360216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862600" y="366876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862600" y="373536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862600" y="3801960"/>
                  <a:ext cx="972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862600" y="3868560"/>
                  <a:ext cx="972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5862600" y="393552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5862600" y="400212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862600" y="4068720"/>
                  <a:ext cx="972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4" y="30"/>
                      </a:lnTo>
                      <a:lnTo>
                        <a:pt x="5" y="29"/>
                      </a:lnTo>
                      <a:lnTo>
                        <a:pt x="6" y="28"/>
                      </a:lnTo>
                      <a:lnTo>
                        <a:pt x="6" y="2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862600" y="413532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1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3" name=""/>
              <p:cNvSpPr/>
              <p:nvPr/>
            </p:nvSpPr>
            <p:spPr>
              <a:xfrm flipV="1">
                <a:off x="5181480" y="2472840"/>
                <a:ext cx="685800" cy="83844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6934320" y="2472840"/>
                <a:ext cx="685800" cy="83844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6934320" y="4149720"/>
                <a:ext cx="685800" cy="8380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6" name=""/>
              <p:cNvGrpSpPr/>
              <p:nvPr/>
            </p:nvGrpSpPr>
            <p:grpSpPr>
              <a:xfrm>
                <a:off x="5176800" y="4145040"/>
                <a:ext cx="695520" cy="847800"/>
                <a:chOff x="5176800" y="4145040"/>
                <a:chExt cx="695520" cy="84780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5176800" y="4952880"/>
                  <a:ext cx="33480" cy="3996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1"/>
                      </a:move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4" y="24"/>
                      </a:lnTo>
                      <a:lnTo>
                        <a:pt x="6" y="24"/>
                      </a:lnTo>
                      <a:lnTo>
                        <a:pt x="21" y="5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6" y="2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219640" y="490212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261040" y="4849920"/>
                  <a:ext cx="3312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6" y="23"/>
                      </a:lnTo>
                      <a:lnTo>
                        <a:pt x="21" y="5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6" y="2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303880" y="4799160"/>
                  <a:ext cx="3312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345280" y="4746600"/>
                  <a:ext cx="34920" cy="3960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6" y="23"/>
                      </a:lnTo>
                      <a:lnTo>
                        <a:pt x="21" y="5"/>
                      </a:ln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6" y="2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388120" y="469584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430960" y="4643280"/>
                  <a:ext cx="33120" cy="3996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1"/>
                      </a:lnTo>
                      <a:lnTo>
                        <a:pt x="15" y="2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472000" y="459252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6" y="23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1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514840" y="4540320"/>
                  <a:ext cx="3348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1"/>
                      </a:lnTo>
                      <a:lnTo>
                        <a:pt x="15" y="2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5556240" y="4489560"/>
                  <a:ext cx="34920" cy="3816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6" y="23"/>
                      </a:lnTo>
                      <a:lnTo>
                        <a:pt x="21" y="4"/>
                      </a:lnTo>
                      <a:lnTo>
                        <a:pt x="22" y="3"/>
                      </a:lnTo>
                      <a:lnTo>
                        <a:pt x="22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1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599080" y="4437000"/>
                  <a:ext cx="3348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5"/>
                      </a:lnTo>
                      <a:lnTo>
                        <a:pt x="3" y="25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21" y="5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6" y="2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5641920" y="438624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683320" y="4334040"/>
                  <a:ext cx="33120" cy="3960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6" y="23"/>
                      </a:lnTo>
                      <a:lnTo>
                        <a:pt x="21" y="5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6" y="2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726160" y="428292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5767560" y="4230720"/>
                  <a:ext cx="34920" cy="3960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5" y="24"/>
                      </a:lnTo>
                      <a:lnTo>
                        <a:pt x="6" y="23"/>
                      </a:lnTo>
                      <a:lnTo>
                        <a:pt x="21" y="5"/>
                      </a:ln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1" y="2"/>
                      </a:lnTo>
                      <a:lnTo>
                        <a:pt x="20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6" y="2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5810400" y="417996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0"/>
                      </a:move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5" y="23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1" y="2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5853240" y="414504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9"/>
                      </a:move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2" y="14"/>
                      </a:lnTo>
                      <a:lnTo>
                        <a:pt x="3" y="14"/>
                      </a:lnTo>
                      <a:lnTo>
                        <a:pt x="4" y="13"/>
                      </a:lnTo>
                      <a:lnTo>
                        <a:pt x="5" y="12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6392880" y="3768840"/>
                <a:ext cx="554040" cy="1225440"/>
                <a:chOff x="6392880" y="3768840"/>
                <a:chExt cx="554040" cy="122544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6446880" y="3894120"/>
                  <a:ext cx="500040" cy="1100160"/>
                </a:xfrm>
                <a:custGeom>
                  <a:avLst/>
                  <a:gdLst/>
                  <a:ahLst/>
                  <a:rect l="l" t="t" r="r" b="b"/>
                  <a:pathLst>
                    <a:path w="315" h="693">
                      <a:moveTo>
                        <a:pt x="299" y="693"/>
                      </a:moveTo>
                      <a:lnTo>
                        <a:pt x="315" y="686"/>
                      </a:lnTo>
                      <a:lnTo>
                        <a:pt x="16" y="0"/>
                      </a:lnTo>
                      <a:lnTo>
                        <a:pt x="0" y="7"/>
                      </a:lnTo>
                      <a:lnTo>
                        <a:pt x="299" y="693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392880" y="3768840"/>
                  <a:ext cx="135000" cy="163440"/>
                </a:xfrm>
                <a:custGeom>
                  <a:avLst/>
                  <a:gdLst/>
                  <a:ahLst/>
                  <a:rect l="l" t="t" r="r" b="b"/>
                  <a:pathLst>
                    <a:path w="85" h="103">
                      <a:moveTo>
                        <a:pt x="85" y="65"/>
                      </a:moveTo>
                      <a:lnTo>
                        <a:pt x="5" y="0"/>
                      </a:lnTo>
                      <a:lnTo>
                        <a:pt x="0" y="103"/>
                      </a:lnTo>
                      <a:lnTo>
                        <a:pt x="85" y="6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7" name=""/>
              <p:cNvSpPr/>
              <p:nvPr/>
            </p:nvSpPr>
            <p:spPr>
              <a:xfrm>
                <a:off x="6324480" y="3616200"/>
                <a:ext cx="154080" cy="1540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5854680" y="2468520"/>
                <a:ext cx="484200" cy="1147680"/>
                <a:chOff x="5854680" y="2468520"/>
                <a:chExt cx="484200" cy="11476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5854680" y="2468520"/>
                  <a:ext cx="430200" cy="1022400"/>
                </a:xfrm>
                <a:custGeom>
                  <a:avLst/>
                  <a:gdLst/>
                  <a:ahLst/>
                  <a:rect l="l" t="t" r="r" b="b"/>
                  <a:pathLst>
                    <a:path w="271" h="644">
                      <a:moveTo>
                        <a:pt x="17" y="0"/>
                      </a:moveTo>
                      <a:lnTo>
                        <a:pt x="0" y="7"/>
                      </a:lnTo>
                      <a:lnTo>
                        <a:pt x="254" y="644"/>
                      </a:lnTo>
                      <a:lnTo>
                        <a:pt x="271" y="63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200640" y="3452760"/>
                  <a:ext cx="138240" cy="163440"/>
                </a:xfrm>
                <a:custGeom>
                  <a:avLst/>
                  <a:gdLst/>
                  <a:ahLst/>
                  <a:rect l="l" t="t" r="r" b="b"/>
                  <a:pathLst>
                    <a:path w="87" h="103">
                      <a:moveTo>
                        <a:pt x="0" y="35"/>
                      </a:moveTo>
                      <a:lnTo>
                        <a:pt x="78" y="103"/>
                      </a:lnTo>
                      <a:lnTo>
                        <a:pt x="87" y="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5172120" y="3768840"/>
                <a:ext cx="1152360" cy="1228680"/>
                <a:chOff x="5172120" y="3768840"/>
                <a:chExt cx="1152360" cy="12286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5172120" y="3862440"/>
                  <a:ext cx="1066680" cy="1135080"/>
                </a:xfrm>
                <a:custGeom>
                  <a:avLst/>
                  <a:gdLst/>
                  <a:ahLst/>
                  <a:rect l="l" t="t" r="r" b="b"/>
                  <a:pathLst>
                    <a:path w="672" h="715">
                      <a:moveTo>
                        <a:pt x="0" y="703"/>
                      </a:moveTo>
                      <a:lnTo>
                        <a:pt x="13" y="715"/>
                      </a:lnTo>
                      <a:lnTo>
                        <a:pt x="672" y="12"/>
                      </a:lnTo>
                      <a:lnTo>
                        <a:pt x="659" y="0"/>
                      </a:lnTo>
                      <a:lnTo>
                        <a:pt x="0" y="70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170760" y="3768840"/>
                  <a:ext cx="153720" cy="156960"/>
                </a:xfrm>
                <a:custGeom>
                  <a:avLst/>
                  <a:gdLst/>
                  <a:ahLst/>
                  <a:rect l="l" t="t" r="r" b="b"/>
                  <a:pathLst>
                    <a:path w="97" h="99">
                      <a:moveTo>
                        <a:pt x="68" y="99"/>
                      </a:moveTo>
                      <a:lnTo>
                        <a:pt x="97" y="0"/>
                      </a:lnTo>
                      <a:lnTo>
                        <a:pt x="0" y="36"/>
                      </a:lnTo>
                      <a:lnTo>
                        <a:pt x="68" y="99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6477120" y="2463840"/>
                <a:ext cx="1154160" cy="1152360"/>
                <a:chOff x="6477120" y="2463840"/>
                <a:chExt cx="1154160" cy="115236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567480" y="2463840"/>
                  <a:ext cx="1063800" cy="1063440"/>
                </a:xfrm>
                <a:custGeom>
                  <a:avLst/>
                  <a:gdLst/>
                  <a:ahLst/>
                  <a:rect l="l" t="t" r="r" b="b"/>
                  <a:pathLst>
                    <a:path w="670" h="670">
                      <a:moveTo>
                        <a:pt x="670" y="13"/>
                      </a:moveTo>
                      <a:lnTo>
                        <a:pt x="657" y="0"/>
                      </a:lnTo>
                      <a:lnTo>
                        <a:pt x="0" y="657"/>
                      </a:lnTo>
                      <a:lnTo>
                        <a:pt x="13" y="670"/>
                      </a:lnTo>
                      <a:lnTo>
                        <a:pt x="670" y="1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77120" y="3460680"/>
                  <a:ext cx="155520" cy="155520"/>
                </a:xfrm>
                <a:custGeom>
                  <a:avLst/>
                  <a:gdLst/>
                  <a:ahLst/>
                  <a:rect l="l" t="t" r="r" b="b"/>
                  <a:pathLst>
                    <a:path w="98" h="98">
                      <a:moveTo>
                        <a:pt x="32" y="0"/>
                      </a:moveTo>
                      <a:lnTo>
                        <a:pt x="0" y="98"/>
                      </a:lnTo>
                      <a:lnTo>
                        <a:pt x="98" y="65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5859360" y="3768840"/>
                <a:ext cx="465120" cy="392040"/>
                <a:chOff x="5859360" y="3768840"/>
                <a:chExt cx="465120" cy="39204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5859360" y="3848040"/>
                  <a:ext cx="365400" cy="312840"/>
                </a:xfrm>
                <a:custGeom>
                  <a:avLst/>
                  <a:gdLst/>
                  <a:ahLst/>
                  <a:rect l="l" t="t" r="r" b="b"/>
                  <a:pathLst>
                    <a:path w="230" h="197">
                      <a:moveTo>
                        <a:pt x="0" y="183"/>
                      </a:moveTo>
                      <a:lnTo>
                        <a:pt x="11" y="197"/>
                      </a:lnTo>
                      <a:lnTo>
                        <a:pt x="230" y="14"/>
                      </a:lnTo>
                      <a:lnTo>
                        <a:pt x="219" y="0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6165720" y="3768840"/>
                  <a:ext cx="158760" cy="150840"/>
                </a:xfrm>
                <a:custGeom>
                  <a:avLst/>
                  <a:gdLst/>
                  <a:ahLst/>
                  <a:rect l="l" t="t" r="r" b="b"/>
                  <a:pathLst>
                    <a:path w="100" h="95">
                      <a:moveTo>
                        <a:pt x="59" y="95"/>
                      </a:moveTo>
                      <a:lnTo>
                        <a:pt x="100" y="0"/>
                      </a:lnTo>
                      <a:lnTo>
                        <a:pt x="0" y="23"/>
                      </a:lnTo>
                      <a:lnTo>
                        <a:pt x="59" y="95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6477120" y="3678120"/>
                <a:ext cx="1149120" cy="486000"/>
                <a:chOff x="6477120" y="3678120"/>
                <a:chExt cx="1149120" cy="4860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6603840" y="3733920"/>
                  <a:ext cx="1022400" cy="430200"/>
                </a:xfrm>
                <a:custGeom>
                  <a:avLst/>
                  <a:gdLst/>
                  <a:ahLst/>
                  <a:rect l="l" t="t" r="r" b="b"/>
                  <a:pathLst>
                    <a:path w="644" h="271">
                      <a:moveTo>
                        <a:pt x="637" y="271"/>
                      </a:moveTo>
                      <a:lnTo>
                        <a:pt x="644" y="254"/>
                      </a:lnTo>
                      <a:lnTo>
                        <a:pt x="7" y="0"/>
                      </a:lnTo>
                      <a:lnTo>
                        <a:pt x="0" y="17"/>
                      </a:lnTo>
                      <a:lnTo>
                        <a:pt x="637" y="271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477120" y="3678120"/>
                  <a:ext cx="163440" cy="136800"/>
                </a:xfrm>
                <a:custGeom>
                  <a:avLst/>
                  <a:gdLst/>
                  <a:ahLst/>
                  <a:rect l="l" t="t" r="r" b="b"/>
                  <a:pathLst>
                    <a:path w="103" h="86">
                      <a:moveTo>
                        <a:pt x="103" y="0"/>
                      </a:moveTo>
                      <a:lnTo>
                        <a:pt x="0" y="9"/>
                      </a:lnTo>
                      <a:lnTo>
                        <a:pt x="68" y="86"/>
                      </a:lnTo>
                      <a:lnTo>
                        <a:pt x="103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6477120" y="3300480"/>
                <a:ext cx="466560" cy="392040"/>
                <a:chOff x="6477120" y="3300480"/>
                <a:chExt cx="466560" cy="39204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6578640" y="3300480"/>
                  <a:ext cx="365040" cy="312840"/>
                </a:xfrm>
                <a:custGeom>
                  <a:avLst/>
                  <a:gdLst/>
                  <a:ahLst/>
                  <a:rect l="l" t="t" r="r" b="b"/>
                  <a:pathLst>
                    <a:path w="230" h="197">
                      <a:moveTo>
                        <a:pt x="230" y="14"/>
                      </a:moveTo>
                      <a:lnTo>
                        <a:pt x="219" y="0"/>
                      </a:lnTo>
                      <a:lnTo>
                        <a:pt x="0" y="183"/>
                      </a:lnTo>
                      <a:lnTo>
                        <a:pt x="11" y="197"/>
                      </a:lnTo>
                      <a:lnTo>
                        <a:pt x="230" y="14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477120" y="3541680"/>
                  <a:ext cx="158760" cy="150840"/>
                </a:xfrm>
                <a:custGeom>
                  <a:avLst/>
                  <a:gdLst/>
                  <a:ahLst/>
                  <a:rect l="l" t="t" r="r" b="b"/>
                  <a:pathLst>
                    <a:path w="100" h="95">
                      <a:moveTo>
                        <a:pt x="41" y="0"/>
                      </a:moveTo>
                      <a:lnTo>
                        <a:pt x="0" y="95"/>
                      </a:lnTo>
                      <a:lnTo>
                        <a:pt x="100" y="72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5176800" y="3298680"/>
                <a:ext cx="1147680" cy="417600"/>
                <a:chOff x="5176800" y="3298680"/>
                <a:chExt cx="1147680" cy="41760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5176800" y="3298680"/>
                  <a:ext cx="1017720" cy="362160"/>
                </a:xfrm>
                <a:custGeom>
                  <a:avLst/>
                  <a:gdLst/>
                  <a:ahLst/>
                  <a:rect l="l" t="t" r="r" b="b"/>
                  <a:pathLst>
                    <a:path w="641" h="228">
                      <a:moveTo>
                        <a:pt x="6" y="0"/>
                      </a:moveTo>
                      <a:lnTo>
                        <a:pt x="0" y="17"/>
                      </a:lnTo>
                      <a:lnTo>
                        <a:pt x="635" y="228"/>
                      </a:lnTo>
                      <a:lnTo>
                        <a:pt x="641" y="21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6162840" y="3576600"/>
                  <a:ext cx="161640" cy="139680"/>
                </a:xfrm>
                <a:custGeom>
                  <a:avLst/>
                  <a:gdLst/>
                  <a:ahLst/>
                  <a:rect l="l" t="t" r="r" b="b"/>
                  <a:pathLst>
                    <a:path w="102" h="88">
                      <a:moveTo>
                        <a:pt x="0" y="88"/>
                      </a:moveTo>
                      <a:lnTo>
                        <a:pt x="102" y="73"/>
                      </a:lnTo>
                      <a:lnTo>
                        <a:pt x="29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6629400" y="3583080"/>
                <a:ext cx="1219320" cy="217440"/>
                <a:chOff x="6629400" y="3583080"/>
                <a:chExt cx="1219320" cy="21744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6843600" y="3664080"/>
                  <a:ext cx="1005120" cy="5688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629400" y="3583080"/>
                  <a:ext cx="217440" cy="217440"/>
                </a:xfrm>
                <a:custGeom>
                  <a:avLst/>
                  <a:gdLst/>
                  <a:ahLst/>
                  <a:rect l="l" t="t" r="r" b="b"/>
                  <a:pathLst>
                    <a:path w="137" h="137">
                      <a:moveTo>
                        <a:pt x="137" y="0"/>
                      </a:moveTo>
                      <a:lnTo>
                        <a:pt x="0" y="69"/>
                      </a:lnTo>
                      <a:lnTo>
                        <a:pt x="137" y="137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4952880" y="3584520"/>
                <a:ext cx="1219320" cy="217440"/>
                <a:chOff x="4952880" y="3584520"/>
                <a:chExt cx="1219320" cy="21744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4952880" y="3664080"/>
                  <a:ext cx="1005120" cy="5688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5954760" y="3584520"/>
                  <a:ext cx="217440" cy="217440"/>
                </a:xfrm>
                <a:custGeom>
                  <a:avLst/>
                  <a:gdLst/>
                  <a:ahLst/>
                  <a:rect l="l" t="t" r="r" b="b"/>
                  <a:pathLst>
                    <a:path w="137" h="137">
                      <a:moveTo>
                        <a:pt x="0" y="137"/>
                      </a:moveTo>
                      <a:lnTo>
                        <a:pt x="137" y="68"/>
                      </a:lnTo>
                      <a:lnTo>
                        <a:pt x="0" y="0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5" name=""/>
              <p:cNvSpPr/>
              <p:nvPr/>
            </p:nvSpPr>
            <p:spPr>
              <a:xfrm>
                <a:off x="5298840" y="5911920"/>
                <a:ext cx="255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ahoma"/>
                  </a:rPr>
                  <a:t>Sum Momentum V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4979880" y="3768840"/>
                <a:ext cx="100080" cy="1757160"/>
                <a:chOff x="4979880" y="3768840"/>
                <a:chExt cx="100080" cy="175716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5024520" y="54784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024520" y="54118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024520" y="53452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024520" y="527832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024520" y="52117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5024520" y="51451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024520" y="50785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024520" y="501156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5024520" y="494496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024520" y="48783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024520" y="48117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5024520" y="47451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5024520" y="467820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024520" y="461160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024520" y="45450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024520" y="44784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024520" y="44118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024520" y="43448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024520" y="42782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024520" y="42116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024520" y="41450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024520" y="40784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5024520" y="40114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5024520" y="39448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5024520" y="38782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4979880" y="376884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63" y="62"/>
                      </a:moveTo>
                      <a:lnTo>
                        <a:pt x="31" y="0"/>
                      </a:lnTo>
                      <a:lnTo>
                        <a:pt x="0" y="62"/>
                      </a:lnTo>
                      <a:lnTo>
                        <a:pt x="63" y="6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7723080" y="3768840"/>
                <a:ext cx="100080" cy="1757160"/>
                <a:chOff x="7723080" y="3768840"/>
                <a:chExt cx="100080" cy="17571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7767720" y="54784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767720" y="54118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767720" y="53452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767720" y="527832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767720" y="52117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767720" y="51451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767720" y="507852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767720" y="501156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767720" y="494496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767720" y="48783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767720" y="48117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767720" y="474516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7767720" y="467820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7767720" y="461160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767720" y="45450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767720" y="44784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767720" y="441180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767720" y="434484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767720" y="42782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767720" y="42116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7767720" y="41450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767720" y="407844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767720" y="4011480"/>
                  <a:ext cx="9360" cy="4788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767720" y="39448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767720" y="3878280"/>
                  <a:ext cx="9360" cy="47520"/>
                </a:xfrm>
                <a:custGeom>
                  <a:avLst/>
                  <a:gdLst/>
                  <a:ahLst/>
                  <a:rect l="l" t="t" r="r" b="b"/>
                  <a:pathLst>
                    <a:path w="6" h="30">
                      <a:moveTo>
                        <a:pt x="0" y="28"/>
                      </a:move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0"/>
                      </a:lnTo>
                      <a:lnTo>
                        <a:pt x="4" y="29"/>
                      </a:lnTo>
                      <a:lnTo>
                        <a:pt x="5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723080" y="3768840"/>
                  <a:ext cx="100080" cy="98280"/>
                </a:xfrm>
                <a:custGeom>
                  <a:avLst/>
                  <a:gdLst/>
                  <a:ahLst/>
                  <a:rect l="l" t="t" r="r" b="b"/>
                  <a:pathLst>
                    <a:path w="63" h="62">
                      <a:moveTo>
                        <a:pt x="63" y="62"/>
                      </a:moveTo>
                      <a:lnTo>
                        <a:pt x="31" y="0"/>
                      </a:lnTo>
                      <a:lnTo>
                        <a:pt x="0" y="62"/>
                      </a:lnTo>
                      <a:lnTo>
                        <a:pt x="63" y="6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0" name=""/>
            <p:cNvGrpSpPr/>
            <p:nvPr/>
          </p:nvGrpSpPr>
          <p:grpSpPr>
            <a:xfrm>
              <a:off x="5742000" y="2320920"/>
              <a:ext cx="100080" cy="228600"/>
              <a:chOff x="5742000" y="2320920"/>
              <a:chExt cx="100080" cy="228600"/>
            </a:xfrm>
          </p:grpSpPr>
          <p:sp>
            <p:nvSpPr>
              <p:cNvPr id="1481" name=""/>
              <p:cNvSpPr/>
              <p:nvPr/>
            </p:nvSpPr>
            <p:spPr>
              <a:xfrm flipV="1">
                <a:off x="5791320" y="2416320"/>
                <a:ext cx="1440" cy="1332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742000" y="23209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5056200" y="3159000"/>
              <a:ext cx="100080" cy="228600"/>
              <a:chOff x="5056200" y="3159000"/>
              <a:chExt cx="100080" cy="228600"/>
            </a:xfrm>
          </p:grpSpPr>
          <p:sp>
            <p:nvSpPr>
              <p:cNvPr id="1484" name=""/>
              <p:cNvSpPr/>
              <p:nvPr/>
            </p:nvSpPr>
            <p:spPr>
              <a:xfrm flipV="1">
                <a:off x="5105520" y="3254400"/>
                <a:ext cx="1440" cy="1332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056200" y="315900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5742000" y="3997440"/>
              <a:ext cx="100080" cy="228240"/>
              <a:chOff x="5742000" y="3997440"/>
              <a:chExt cx="100080" cy="228240"/>
            </a:xfrm>
          </p:grpSpPr>
          <p:sp>
            <p:nvSpPr>
              <p:cNvPr id="1487" name=""/>
              <p:cNvSpPr/>
              <p:nvPr/>
            </p:nvSpPr>
            <p:spPr>
              <a:xfrm flipV="1">
                <a:off x="5791320" y="4092120"/>
                <a:ext cx="1440" cy="13356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742000" y="399744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5056200" y="4835520"/>
              <a:ext cx="100080" cy="228600"/>
              <a:chOff x="5056200" y="4835520"/>
              <a:chExt cx="100080" cy="228600"/>
            </a:xfrm>
          </p:grpSpPr>
          <p:sp>
            <p:nvSpPr>
              <p:cNvPr id="1490" name=""/>
              <p:cNvSpPr/>
              <p:nvPr/>
            </p:nvSpPr>
            <p:spPr>
              <a:xfrm flipV="1">
                <a:off x="5105520" y="4930920"/>
                <a:ext cx="1440" cy="1332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056200" y="48355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7645320" y="2320920"/>
              <a:ext cx="100080" cy="228600"/>
              <a:chOff x="7645320" y="2320920"/>
              <a:chExt cx="100080" cy="228600"/>
            </a:xfrm>
          </p:grpSpPr>
          <p:sp>
            <p:nvSpPr>
              <p:cNvPr id="1493" name=""/>
              <p:cNvSpPr/>
              <p:nvPr/>
            </p:nvSpPr>
            <p:spPr>
              <a:xfrm flipV="1">
                <a:off x="7696080" y="2320920"/>
                <a:ext cx="1800" cy="1332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645320" y="245124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7645320" y="4073040"/>
              <a:ext cx="100080" cy="228960"/>
              <a:chOff x="7645320" y="4073040"/>
              <a:chExt cx="100080" cy="228960"/>
            </a:xfrm>
          </p:grpSpPr>
          <p:sp>
            <p:nvSpPr>
              <p:cNvPr id="1496" name=""/>
              <p:cNvSpPr/>
              <p:nvPr/>
            </p:nvSpPr>
            <p:spPr>
              <a:xfrm flipV="1">
                <a:off x="7696080" y="4073040"/>
                <a:ext cx="1800" cy="13356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645320" y="42037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6959520" y="3235320"/>
              <a:ext cx="100080" cy="228600"/>
              <a:chOff x="6959520" y="3235320"/>
              <a:chExt cx="100080" cy="228600"/>
            </a:xfrm>
          </p:grpSpPr>
          <p:sp>
            <p:nvSpPr>
              <p:cNvPr id="1499" name=""/>
              <p:cNvSpPr/>
              <p:nvPr/>
            </p:nvSpPr>
            <p:spPr>
              <a:xfrm flipV="1">
                <a:off x="7010280" y="3235320"/>
                <a:ext cx="1800" cy="1332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959520" y="336564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6959520" y="4911840"/>
              <a:ext cx="100080" cy="228600"/>
              <a:chOff x="6959520" y="4911840"/>
              <a:chExt cx="100080" cy="228600"/>
            </a:xfrm>
          </p:grpSpPr>
          <p:sp>
            <p:nvSpPr>
              <p:cNvPr id="1502" name=""/>
              <p:cNvSpPr/>
              <p:nvPr/>
            </p:nvSpPr>
            <p:spPr>
              <a:xfrm flipV="1">
                <a:off x="7010280" y="4911840"/>
                <a:ext cx="1800" cy="1332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959520" y="504180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422-13FF-4894-AB27-4A96DC4509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4" name=""/>
          <p:cNvGrpSpPr/>
          <p:nvPr/>
        </p:nvGrpSpPr>
        <p:grpSpPr>
          <a:xfrm>
            <a:off x="723960" y="473040"/>
            <a:ext cx="7696080" cy="5756400"/>
            <a:chOff x="723960" y="473040"/>
            <a:chExt cx="7696080" cy="5756400"/>
          </a:xfrm>
        </p:grpSpPr>
        <p:sp>
          <p:nvSpPr>
            <p:cNvPr id="1505" name=""/>
            <p:cNvSpPr/>
            <p:nvPr/>
          </p:nvSpPr>
          <p:spPr>
            <a:xfrm>
              <a:off x="723960" y="925560"/>
              <a:ext cx="769608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00280" y="573120"/>
              <a:ext cx="73166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927360" y="473040"/>
              <a:ext cx="5563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Transient Molecular States by EQP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76240" y="1030320"/>
              <a:ext cx="74692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987840" y="1081080"/>
              <a:ext cx="13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354320" y="1082520"/>
              <a:ext cx="446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Tahoma"/>
                </a:rPr>
                <a:t>EQPET: Electronic Quasi-Particle Expansion The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987840" y="1420920"/>
              <a:ext cx="13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298160" y="1371600"/>
              <a:ext cx="68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10000"/>
                  </a:solidFill>
                  <a:latin typeface="Tahoma"/>
                </a:rPr>
                <a:t>EODD: Electron Orbit Deformation Dynamics simulation (Kirkinskii-Novikov</a:t>
              </a:r>
              <a:r>
                <a:rPr b="1" lang="ja-JP" sz="1400" spc="-1" strike="noStrike">
                  <a:solidFill>
                    <a:srgbClr val="010000"/>
                  </a:solidFill>
                  <a:latin typeface="Tahoma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63640" y="1776240"/>
              <a:ext cx="6797520" cy="4453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35240" y="2682720"/>
              <a:ext cx="5113440" cy="252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235240" y="4791240"/>
              <a:ext cx="511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35240" y="4368960"/>
              <a:ext cx="511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35240" y="3948120"/>
              <a:ext cx="511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235240" y="3525840"/>
              <a:ext cx="511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235240" y="3105000"/>
              <a:ext cx="5113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5240" y="2682720"/>
              <a:ext cx="5113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9084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744640" y="2682720"/>
              <a:ext cx="180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99880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25440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77352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027320" y="2682720"/>
              <a:ext cx="180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282920" y="2682720"/>
              <a:ext cx="180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3708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04684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30064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5624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81040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2952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583320" y="2682720"/>
              <a:ext cx="180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3892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9308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51792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79124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07536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348680" y="2682720"/>
              <a:ext cx="1440" cy="252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35240" y="2682720"/>
              <a:ext cx="5113440" cy="2529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35240" y="2682720"/>
              <a:ext cx="88920" cy="2529000"/>
            </a:xfrm>
            <a:custGeom>
              <a:avLst/>
              <a:gdLst/>
              <a:ahLst/>
              <a:rect l="l" t="t" r="r" b="b"/>
              <a:pathLst>
                <a:path w="9" h="276">
                  <a:moveTo>
                    <a:pt x="0" y="0"/>
                  </a:moveTo>
                  <a:lnTo>
                    <a:pt x="0" y="276"/>
                  </a:lnTo>
                  <a:lnTo>
                    <a:pt x="9" y="2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35240" y="479124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35240" y="436896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35240" y="394812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35240" y="352584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235240" y="3105000"/>
              <a:ext cx="88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235240" y="2682720"/>
              <a:ext cx="88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235240" y="5211720"/>
              <a:ext cx="5113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223524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249084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2744640" y="5157720"/>
              <a:ext cx="180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299880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325440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351792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377352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4027320" y="5157720"/>
              <a:ext cx="180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4282920" y="5157720"/>
              <a:ext cx="180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453708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479124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V="1">
              <a:off x="504684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530064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555624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581040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607536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632952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6583320" y="5157720"/>
              <a:ext cx="180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683892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709308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7348680" y="5157720"/>
              <a:ext cx="144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2235240" y="5128920"/>
              <a:ext cx="144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3517920" y="5128920"/>
              <a:ext cx="144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4791240" y="5128920"/>
              <a:ext cx="144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6075360" y="5128920"/>
              <a:ext cx="144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7348680" y="5128920"/>
              <a:ext cx="144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490840" y="3581280"/>
              <a:ext cx="253800" cy="522360"/>
            </a:xfrm>
            <a:custGeom>
              <a:avLst/>
              <a:gdLst/>
              <a:ahLst/>
              <a:rect l="l" t="t" r="r" b="b"/>
              <a:pathLst>
                <a:path w="160" h="329">
                  <a:moveTo>
                    <a:pt x="0" y="0"/>
                  </a:moveTo>
                  <a:lnTo>
                    <a:pt x="80" y="161"/>
                  </a:lnTo>
                  <a:lnTo>
                    <a:pt x="160" y="32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744640" y="4103640"/>
              <a:ext cx="254160" cy="549360"/>
            </a:xfrm>
            <a:custGeom>
              <a:avLst/>
              <a:gdLst/>
              <a:ahLst/>
              <a:rect l="l" t="t" r="r" b="b"/>
              <a:pathLst>
                <a:path w="160" h="346">
                  <a:moveTo>
                    <a:pt x="0" y="0"/>
                  </a:moveTo>
                  <a:lnTo>
                    <a:pt x="37" y="92"/>
                  </a:lnTo>
                  <a:lnTo>
                    <a:pt x="80" y="185"/>
                  </a:lnTo>
                  <a:lnTo>
                    <a:pt x="123" y="271"/>
                  </a:lnTo>
                  <a:lnTo>
                    <a:pt x="142" y="311"/>
                  </a:lnTo>
                  <a:lnTo>
                    <a:pt x="160" y="346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998800" y="4653000"/>
              <a:ext cx="255600" cy="237960"/>
            </a:xfrm>
            <a:custGeom>
              <a:avLst/>
              <a:gdLst/>
              <a:ahLst/>
              <a:rect l="l" t="t" r="r" b="b"/>
              <a:pathLst>
                <a:path w="161" h="150">
                  <a:moveTo>
                    <a:pt x="0" y="0"/>
                  </a:moveTo>
                  <a:lnTo>
                    <a:pt x="37" y="58"/>
                  </a:lnTo>
                  <a:lnTo>
                    <a:pt x="81" y="98"/>
                  </a:lnTo>
                  <a:lnTo>
                    <a:pt x="118" y="127"/>
                  </a:lnTo>
                  <a:lnTo>
                    <a:pt x="161" y="15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254400" y="4863960"/>
              <a:ext cx="263520" cy="36720"/>
            </a:xfrm>
            <a:custGeom>
              <a:avLst/>
              <a:gdLst/>
              <a:ahLst/>
              <a:rect l="l" t="t" r="r" b="b"/>
              <a:pathLst>
                <a:path w="166" h="23">
                  <a:moveTo>
                    <a:pt x="0" y="17"/>
                  </a:moveTo>
                  <a:lnTo>
                    <a:pt x="18" y="23"/>
                  </a:lnTo>
                  <a:lnTo>
                    <a:pt x="43" y="23"/>
                  </a:lnTo>
                  <a:lnTo>
                    <a:pt x="80" y="17"/>
                  </a:lnTo>
                  <a:lnTo>
                    <a:pt x="123" y="6"/>
                  </a:lnTo>
                  <a:lnTo>
                    <a:pt x="166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517920" y="4844880"/>
              <a:ext cx="255600" cy="19080"/>
            </a:xfrm>
            <a:custGeom>
              <a:avLst/>
              <a:gdLst/>
              <a:ahLst/>
              <a:rect l="l" t="t" r="r" b="b"/>
              <a:pathLst>
                <a:path w="161" h="12">
                  <a:moveTo>
                    <a:pt x="0" y="12"/>
                  </a:moveTo>
                  <a:lnTo>
                    <a:pt x="81" y="6"/>
                  </a:lnTo>
                  <a:lnTo>
                    <a:pt x="16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3773520" y="4808160"/>
              <a:ext cx="253800" cy="36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027320" y="4762440"/>
              <a:ext cx="255600" cy="46080"/>
            </a:xfrm>
            <a:custGeom>
              <a:avLst/>
              <a:gdLst/>
              <a:ahLst/>
              <a:rect l="l" t="t" r="r" b="b"/>
              <a:pathLst>
                <a:path w="161" h="29">
                  <a:moveTo>
                    <a:pt x="0" y="29"/>
                  </a:moveTo>
                  <a:lnTo>
                    <a:pt x="37" y="23"/>
                  </a:lnTo>
                  <a:lnTo>
                    <a:pt x="80" y="12"/>
                  </a:lnTo>
                  <a:lnTo>
                    <a:pt x="124" y="0"/>
                  </a:lnTo>
                  <a:lnTo>
                    <a:pt x="16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282920" y="4762440"/>
              <a:ext cx="254160" cy="74520"/>
            </a:xfrm>
            <a:custGeom>
              <a:avLst/>
              <a:gdLst/>
              <a:ahLst/>
              <a:rect l="l" t="t" r="r" b="b"/>
              <a:pathLst>
                <a:path w="160" h="47">
                  <a:moveTo>
                    <a:pt x="0" y="0"/>
                  </a:moveTo>
                  <a:lnTo>
                    <a:pt x="37" y="6"/>
                  </a:lnTo>
                  <a:lnTo>
                    <a:pt x="80" y="23"/>
                  </a:lnTo>
                  <a:lnTo>
                    <a:pt x="123" y="35"/>
                  </a:lnTo>
                  <a:lnTo>
                    <a:pt x="160" y="47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537080" y="4836960"/>
              <a:ext cx="254160" cy="7920"/>
            </a:xfrm>
            <a:custGeom>
              <a:avLst/>
              <a:gdLst/>
              <a:ahLst/>
              <a:rect l="l" t="t" r="r" b="b"/>
              <a:pathLst>
                <a:path w="160" h="5">
                  <a:moveTo>
                    <a:pt x="0" y="0"/>
                  </a:moveTo>
                  <a:lnTo>
                    <a:pt x="37" y="5"/>
                  </a:lnTo>
                  <a:lnTo>
                    <a:pt x="80" y="0"/>
                  </a:lnTo>
                  <a:lnTo>
                    <a:pt x="16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791240" y="4836960"/>
              <a:ext cx="255600" cy="17640"/>
            </a:xfrm>
            <a:custGeom>
              <a:avLst/>
              <a:gdLst/>
              <a:ahLst/>
              <a:rect l="l" t="t" r="r" b="b"/>
              <a:pathLst>
                <a:path w="161" h="11">
                  <a:moveTo>
                    <a:pt x="0" y="0"/>
                  </a:moveTo>
                  <a:lnTo>
                    <a:pt x="81" y="5"/>
                  </a:lnTo>
                  <a:lnTo>
                    <a:pt x="161" y="1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046840" y="4854600"/>
              <a:ext cx="253800" cy="1440"/>
            </a:xfrm>
            <a:custGeom>
              <a:avLst/>
              <a:gdLst/>
              <a:ahLst/>
              <a:rect l="l" t="t" r="r" b="b"/>
              <a:pathLst>
                <a:path w="160" h="0">
                  <a:moveTo>
                    <a:pt x="0" y="0"/>
                  </a:moveTo>
                  <a:lnTo>
                    <a:pt x="80" y="0"/>
                  </a:lnTo>
                  <a:lnTo>
                    <a:pt x="16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00640" y="4854600"/>
              <a:ext cx="255600" cy="2700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0"/>
                  </a:moveTo>
                  <a:lnTo>
                    <a:pt x="80" y="12"/>
                  </a:lnTo>
                  <a:lnTo>
                    <a:pt x="161" y="17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556240" y="4873680"/>
              <a:ext cx="254160" cy="7920"/>
            </a:xfrm>
            <a:custGeom>
              <a:avLst/>
              <a:gdLst/>
              <a:ahLst/>
              <a:rect l="l" t="t" r="r" b="b"/>
              <a:pathLst>
                <a:path w="160" h="5">
                  <a:moveTo>
                    <a:pt x="0" y="5"/>
                  </a:moveTo>
                  <a:lnTo>
                    <a:pt x="37" y="5"/>
                  </a:lnTo>
                  <a:lnTo>
                    <a:pt x="80" y="0"/>
                  </a:lnTo>
                  <a:lnTo>
                    <a:pt x="117" y="0"/>
                  </a:lnTo>
                  <a:lnTo>
                    <a:pt x="16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810400" y="4873680"/>
              <a:ext cx="264960" cy="63360"/>
            </a:xfrm>
            <a:custGeom>
              <a:avLst/>
              <a:gdLst/>
              <a:ahLst/>
              <a:rect l="l" t="t" r="r" b="b"/>
              <a:pathLst>
                <a:path w="167" h="40">
                  <a:moveTo>
                    <a:pt x="0" y="0"/>
                  </a:moveTo>
                  <a:lnTo>
                    <a:pt x="43" y="5"/>
                  </a:lnTo>
                  <a:lnTo>
                    <a:pt x="80" y="17"/>
                  </a:lnTo>
                  <a:lnTo>
                    <a:pt x="167" y="4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75360" y="4937040"/>
              <a:ext cx="254160" cy="46080"/>
            </a:xfrm>
            <a:custGeom>
              <a:avLst/>
              <a:gdLst/>
              <a:ahLst/>
              <a:rect l="l" t="t" r="r" b="b"/>
              <a:pathLst>
                <a:path w="160" h="29">
                  <a:moveTo>
                    <a:pt x="0" y="0"/>
                  </a:moveTo>
                  <a:lnTo>
                    <a:pt x="80" y="12"/>
                  </a:lnTo>
                  <a:lnTo>
                    <a:pt x="160" y="2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329520" y="4983120"/>
              <a:ext cx="253800" cy="73080"/>
            </a:xfrm>
            <a:custGeom>
              <a:avLst/>
              <a:gdLst/>
              <a:ahLst/>
              <a:rect l="l" t="t" r="r" b="b"/>
              <a:pathLst>
                <a:path w="160" h="46">
                  <a:moveTo>
                    <a:pt x="0" y="0"/>
                  </a:moveTo>
                  <a:lnTo>
                    <a:pt x="37" y="11"/>
                  </a:lnTo>
                  <a:lnTo>
                    <a:pt x="80" y="23"/>
                  </a:lnTo>
                  <a:lnTo>
                    <a:pt x="123" y="40"/>
                  </a:lnTo>
                  <a:lnTo>
                    <a:pt x="160" y="46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583320" y="5038560"/>
              <a:ext cx="255600" cy="17640"/>
            </a:xfrm>
            <a:custGeom>
              <a:avLst/>
              <a:gdLst/>
              <a:ahLst/>
              <a:rect l="l" t="t" r="r" b="b"/>
              <a:pathLst>
                <a:path w="161" h="11">
                  <a:moveTo>
                    <a:pt x="0" y="11"/>
                  </a:moveTo>
                  <a:lnTo>
                    <a:pt x="37" y="11"/>
                  </a:lnTo>
                  <a:lnTo>
                    <a:pt x="81" y="5"/>
                  </a:lnTo>
                  <a:lnTo>
                    <a:pt x="124" y="0"/>
                  </a:lnTo>
                  <a:lnTo>
                    <a:pt x="16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838920" y="5038560"/>
              <a:ext cx="254160" cy="17640"/>
            </a:xfrm>
            <a:custGeom>
              <a:avLst/>
              <a:gdLst/>
              <a:ahLst/>
              <a:rect l="l" t="t" r="r" b="b"/>
              <a:pathLst>
                <a:path w="160" h="11">
                  <a:moveTo>
                    <a:pt x="0" y="0"/>
                  </a:moveTo>
                  <a:lnTo>
                    <a:pt x="80" y="5"/>
                  </a:lnTo>
                  <a:lnTo>
                    <a:pt x="160" y="1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093080" y="5056200"/>
              <a:ext cx="255600" cy="5544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0" y="0"/>
                  </a:moveTo>
                  <a:lnTo>
                    <a:pt x="80" y="17"/>
                  </a:lnTo>
                  <a:lnTo>
                    <a:pt x="161" y="35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479680" y="316872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0"/>
                  </a:moveTo>
                  <a:lnTo>
                    <a:pt x="7" y="23"/>
                  </a:lnTo>
                  <a:lnTo>
                    <a:pt x="19" y="2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519280" y="3270240"/>
              <a:ext cx="30240" cy="4464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lnTo>
                    <a:pt x="6" y="23"/>
                  </a:lnTo>
                  <a:lnTo>
                    <a:pt x="19" y="28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558880" y="337968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6" y="23"/>
                  </a:lnTo>
                  <a:lnTo>
                    <a:pt x="18" y="2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97040" y="347976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0"/>
                  </a:moveTo>
                  <a:lnTo>
                    <a:pt x="7" y="23"/>
                  </a:lnTo>
                  <a:lnTo>
                    <a:pt x="19" y="2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637000" y="359100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0"/>
                  </a:moveTo>
                  <a:lnTo>
                    <a:pt x="6" y="17"/>
                  </a:lnTo>
                  <a:lnTo>
                    <a:pt x="19" y="23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676600" y="3691080"/>
              <a:ext cx="28440" cy="45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6" y="23"/>
                  </a:lnTo>
                  <a:lnTo>
                    <a:pt x="18" y="2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705040" y="379260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0"/>
                  </a:moveTo>
                  <a:lnTo>
                    <a:pt x="13" y="23"/>
                  </a:lnTo>
                  <a:lnTo>
                    <a:pt x="25" y="28"/>
                  </a:lnTo>
                  <a:lnTo>
                    <a:pt x="1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735280" y="384660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6" y="23"/>
                  </a:lnTo>
                  <a:lnTo>
                    <a:pt x="18" y="2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763720" y="3956040"/>
              <a:ext cx="3996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13" y="24"/>
                  </a:lnTo>
                  <a:lnTo>
                    <a:pt x="25" y="2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03680" y="4048200"/>
              <a:ext cx="2988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0"/>
                  </a:moveTo>
                  <a:lnTo>
                    <a:pt x="6" y="23"/>
                  </a:lnTo>
                  <a:lnTo>
                    <a:pt x="19" y="2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43280" y="41497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6" y="23"/>
                  </a:lnTo>
                  <a:lnTo>
                    <a:pt x="18" y="29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881440" y="4240080"/>
              <a:ext cx="2988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0"/>
                  </a:moveTo>
                  <a:lnTo>
                    <a:pt x="7" y="23"/>
                  </a:lnTo>
                  <a:lnTo>
                    <a:pt x="19" y="2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921040" y="4341960"/>
              <a:ext cx="30240" cy="4572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0"/>
                  </a:moveTo>
                  <a:lnTo>
                    <a:pt x="6" y="23"/>
                  </a:lnTo>
                  <a:lnTo>
                    <a:pt x="19" y="2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930400" y="4359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0"/>
                  </a:moveTo>
                  <a:lnTo>
                    <a:pt x="6" y="24"/>
                  </a:lnTo>
                  <a:lnTo>
                    <a:pt x="19" y="29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70360" y="447048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6" y="23"/>
                  </a:lnTo>
                  <a:lnTo>
                    <a:pt x="18" y="29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989440" y="4516560"/>
              <a:ext cx="29880" cy="442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lnTo>
                    <a:pt x="6" y="23"/>
                  </a:lnTo>
                  <a:lnTo>
                    <a:pt x="19" y="28"/>
                  </a:lnTo>
                  <a:lnTo>
                    <a:pt x="1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029040" y="461628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6" y="23"/>
                  </a:lnTo>
                  <a:lnTo>
                    <a:pt x="18" y="2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068640" y="4708440"/>
              <a:ext cx="47520" cy="3672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0"/>
                  </a:moveTo>
                  <a:lnTo>
                    <a:pt x="12" y="17"/>
                  </a:lnTo>
                  <a:lnTo>
                    <a:pt x="30" y="23"/>
                  </a:lnTo>
                  <a:lnTo>
                    <a:pt x="18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116160" y="4791240"/>
              <a:ext cx="39960" cy="45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0"/>
                  </a:moveTo>
                  <a:lnTo>
                    <a:pt x="13" y="23"/>
                  </a:lnTo>
                  <a:lnTo>
                    <a:pt x="25" y="29"/>
                  </a:lnTo>
                  <a:lnTo>
                    <a:pt x="1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165480" y="4890960"/>
              <a:ext cx="3024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0"/>
                  </a:moveTo>
                  <a:lnTo>
                    <a:pt x="6" y="17"/>
                  </a:lnTo>
                  <a:lnTo>
                    <a:pt x="19" y="23"/>
                  </a:lnTo>
                  <a:lnTo>
                    <a:pt x="1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174840" y="4910040"/>
              <a:ext cx="20880" cy="7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214800" y="4973760"/>
              <a:ext cx="2988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0"/>
                  </a:moveTo>
                  <a:lnTo>
                    <a:pt x="6" y="23"/>
                  </a:lnTo>
                  <a:lnTo>
                    <a:pt x="19" y="2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233880" y="5083200"/>
              <a:ext cx="14760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23"/>
                  </a:moveTo>
                  <a:lnTo>
                    <a:pt x="87" y="0"/>
                  </a:lnTo>
                  <a:lnTo>
                    <a:pt x="93" y="12"/>
                  </a:lnTo>
                  <a:lnTo>
                    <a:pt x="7" y="3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30440" y="5038560"/>
              <a:ext cx="9864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17"/>
                  </a:moveTo>
                  <a:lnTo>
                    <a:pt x="55" y="0"/>
                  </a:lnTo>
                  <a:lnTo>
                    <a:pt x="62" y="11"/>
                  </a:lnTo>
                  <a:lnTo>
                    <a:pt x="6" y="2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98840" y="5010120"/>
              <a:ext cx="98280" cy="460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0" y="18"/>
                  </a:moveTo>
                  <a:lnTo>
                    <a:pt x="56" y="0"/>
                  </a:lnTo>
                  <a:lnTo>
                    <a:pt x="62" y="12"/>
                  </a:lnTo>
                  <a:lnTo>
                    <a:pt x="6" y="2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67240" y="4992840"/>
              <a:ext cx="58680" cy="36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11"/>
                  </a:moveTo>
                  <a:lnTo>
                    <a:pt x="31" y="0"/>
                  </a:lnTo>
                  <a:lnTo>
                    <a:pt x="37" y="11"/>
                  </a:lnTo>
                  <a:lnTo>
                    <a:pt x="6" y="2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675240" y="495612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5"/>
                  </a:moveTo>
                  <a:lnTo>
                    <a:pt x="25" y="0"/>
                  </a:lnTo>
                  <a:lnTo>
                    <a:pt x="31" y="11"/>
                  </a:lnTo>
                  <a:lnTo>
                    <a:pt x="6" y="1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693960" y="4927680"/>
              <a:ext cx="88920" cy="46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18"/>
                  </a:moveTo>
                  <a:lnTo>
                    <a:pt x="50" y="0"/>
                  </a:lnTo>
                  <a:lnTo>
                    <a:pt x="56" y="12"/>
                  </a:lnTo>
                  <a:lnTo>
                    <a:pt x="7" y="2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753000" y="4900680"/>
              <a:ext cx="147600" cy="46080"/>
            </a:xfrm>
            <a:custGeom>
              <a:avLst/>
              <a:gdLst/>
              <a:ahLst/>
              <a:rect l="l" t="t" r="r" b="b"/>
              <a:pathLst>
                <a:path w="93" h="29">
                  <a:moveTo>
                    <a:pt x="0" y="17"/>
                  </a:moveTo>
                  <a:lnTo>
                    <a:pt x="87" y="0"/>
                  </a:lnTo>
                  <a:lnTo>
                    <a:pt x="93" y="11"/>
                  </a:lnTo>
                  <a:lnTo>
                    <a:pt x="7" y="2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949560" y="4881600"/>
              <a:ext cx="87480" cy="28440"/>
            </a:xfrm>
            <a:custGeom>
              <a:avLst/>
              <a:gdLst/>
              <a:ahLst/>
              <a:rect l="l" t="t" r="r" b="b"/>
              <a:pathLst>
                <a:path w="55" h="18">
                  <a:moveTo>
                    <a:pt x="0" y="6"/>
                  </a:moveTo>
                  <a:lnTo>
                    <a:pt x="49" y="0"/>
                  </a:lnTo>
                  <a:lnTo>
                    <a:pt x="55" y="12"/>
                  </a:lnTo>
                  <a:lnTo>
                    <a:pt x="6" y="1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008600" y="4873680"/>
              <a:ext cx="145800" cy="2700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0" y="5"/>
                  </a:moveTo>
                  <a:lnTo>
                    <a:pt x="86" y="0"/>
                  </a:lnTo>
                  <a:lnTo>
                    <a:pt x="92" y="11"/>
                  </a:lnTo>
                  <a:lnTo>
                    <a:pt x="6" y="1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203720" y="4863960"/>
              <a:ext cx="8892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0" y="6"/>
                  </a:moveTo>
                  <a:lnTo>
                    <a:pt x="50" y="0"/>
                  </a:lnTo>
                  <a:lnTo>
                    <a:pt x="56" y="11"/>
                  </a:lnTo>
                  <a:lnTo>
                    <a:pt x="6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62400" y="4854600"/>
              <a:ext cx="147600" cy="27000"/>
            </a:xfrm>
            <a:custGeom>
              <a:avLst/>
              <a:gdLst/>
              <a:ahLst/>
              <a:rect l="l" t="t" r="r" b="b"/>
              <a:pathLst>
                <a:path w="93" h="17">
                  <a:moveTo>
                    <a:pt x="0" y="6"/>
                  </a:moveTo>
                  <a:lnTo>
                    <a:pt x="87" y="0"/>
                  </a:lnTo>
                  <a:lnTo>
                    <a:pt x="93" y="12"/>
                  </a:lnTo>
                  <a:lnTo>
                    <a:pt x="6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459320" y="4844880"/>
              <a:ext cx="87120" cy="28800"/>
            </a:xfrm>
            <a:custGeom>
              <a:avLst/>
              <a:gdLst/>
              <a:ahLst/>
              <a:rect l="l" t="t" r="r" b="b"/>
              <a:pathLst>
                <a:path w="55" h="18">
                  <a:moveTo>
                    <a:pt x="0" y="6"/>
                  </a:moveTo>
                  <a:lnTo>
                    <a:pt x="49" y="0"/>
                  </a:lnTo>
                  <a:lnTo>
                    <a:pt x="55" y="12"/>
                  </a:lnTo>
                  <a:lnTo>
                    <a:pt x="6" y="1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518000" y="4844880"/>
              <a:ext cx="146160" cy="2880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0" y="12"/>
                  </a:moveTo>
                  <a:lnTo>
                    <a:pt x="86" y="18"/>
                  </a:lnTo>
                  <a:lnTo>
                    <a:pt x="92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713120" y="4863960"/>
              <a:ext cx="8892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0" y="11"/>
                  </a:moveTo>
                  <a:lnTo>
                    <a:pt x="49" y="17"/>
                  </a:lnTo>
                  <a:lnTo>
                    <a:pt x="56" y="6"/>
                  </a:lnTo>
                  <a:lnTo>
                    <a:pt x="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772160" y="4873680"/>
              <a:ext cx="147600" cy="3636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1"/>
                  </a:moveTo>
                  <a:lnTo>
                    <a:pt x="86" y="23"/>
                  </a:lnTo>
                  <a:lnTo>
                    <a:pt x="93" y="11"/>
                  </a:lnTo>
                  <a:lnTo>
                    <a:pt x="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987800" y="489096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2"/>
                  </a:moveTo>
                  <a:lnTo>
                    <a:pt x="37" y="17"/>
                  </a:lnTo>
                  <a:lnTo>
                    <a:pt x="43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025960" y="4900680"/>
              <a:ext cx="147600" cy="3636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1"/>
                  </a:moveTo>
                  <a:lnTo>
                    <a:pt x="87" y="23"/>
                  </a:lnTo>
                  <a:lnTo>
                    <a:pt x="93" y="11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222880" y="4927680"/>
              <a:ext cx="87480" cy="28440"/>
            </a:xfrm>
            <a:custGeom>
              <a:avLst/>
              <a:gdLst/>
              <a:ahLst/>
              <a:rect l="l" t="t" r="r" b="b"/>
              <a:pathLst>
                <a:path w="55" h="18">
                  <a:moveTo>
                    <a:pt x="0" y="12"/>
                  </a:moveTo>
                  <a:lnTo>
                    <a:pt x="49" y="18"/>
                  </a:lnTo>
                  <a:lnTo>
                    <a:pt x="55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291280" y="4937040"/>
              <a:ext cx="136440" cy="19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477040" y="4937040"/>
              <a:ext cx="8856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0" y="12"/>
                  </a:moveTo>
                  <a:lnTo>
                    <a:pt x="50" y="17"/>
                  </a:lnTo>
                  <a:lnTo>
                    <a:pt x="56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35720" y="4946760"/>
              <a:ext cx="147600" cy="3636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1"/>
                  </a:moveTo>
                  <a:lnTo>
                    <a:pt x="87" y="23"/>
                  </a:lnTo>
                  <a:lnTo>
                    <a:pt x="93" y="11"/>
                  </a:lnTo>
                  <a:lnTo>
                    <a:pt x="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732640" y="497376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2"/>
                  </a:moveTo>
                  <a:lnTo>
                    <a:pt x="49" y="17"/>
                  </a:lnTo>
                  <a:lnTo>
                    <a:pt x="55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791320" y="4983120"/>
              <a:ext cx="145800" cy="46080"/>
            </a:xfrm>
            <a:custGeom>
              <a:avLst/>
              <a:gdLst/>
              <a:ahLst/>
              <a:rect l="l" t="t" r="r" b="b"/>
              <a:pathLst>
                <a:path w="92" h="29">
                  <a:moveTo>
                    <a:pt x="0" y="11"/>
                  </a:moveTo>
                  <a:lnTo>
                    <a:pt x="86" y="29"/>
                  </a:lnTo>
                  <a:lnTo>
                    <a:pt x="92" y="17"/>
                  </a:lnTo>
                  <a:lnTo>
                    <a:pt x="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986440" y="501984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0" y="12"/>
                  </a:moveTo>
                  <a:lnTo>
                    <a:pt x="56" y="23"/>
                  </a:lnTo>
                  <a:lnTo>
                    <a:pt x="62" y="12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054840" y="5038560"/>
              <a:ext cx="147600" cy="3672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1"/>
                  </a:moveTo>
                  <a:lnTo>
                    <a:pt x="87" y="23"/>
                  </a:lnTo>
                  <a:lnTo>
                    <a:pt x="93" y="11"/>
                  </a:lnTo>
                  <a:lnTo>
                    <a:pt x="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51400" y="50562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2"/>
                  </a:moveTo>
                  <a:lnTo>
                    <a:pt x="49" y="17"/>
                  </a:lnTo>
                  <a:lnTo>
                    <a:pt x="55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310440" y="5065560"/>
              <a:ext cx="145800" cy="3672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11"/>
                  </a:moveTo>
                  <a:lnTo>
                    <a:pt x="86" y="23"/>
                  </a:lnTo>
                  <a:lnTo>
                    <a:pt x="92" y="11"/>
                  </a:lnTo>
                  <a:lnTo>
                    <a:pt x="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524640" y="5083200"/>
              <a:ext cx="69840" cy="284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2"/>
                  </a:moveTo>
                  <a:lnTo>
                    <a:pt x="37" y="18"/>
                  </a:lnTo>
                  <a:lnTo>
                    <a:pt x="44" y="6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564240" y="5092560"/>
              <a:ext cx="147600" cy="27000"/>
            </a:xfrm>
            <a:custGeom>
              <a:avLst/>
              <a:gdLst/>
              <a:ahLst/>
              <a:rect l="l" t="t" r="r" b="b"/>
              <a:pathLst>
                <a:path w="93" h="17">
                  <a:moveTo>
                    <a:pt x="0" y="12"/>
                  </a:moveTo>
                  <a:lnTo>
                    <a:pt x="86" y="17"/>
                  </a:lnTo>
                  <a:lnTo>
                    <a:pt x="93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759720" y="5102280"/>
              <a:ext cx="8892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0" y="11"/>
                  </a:moveTo>
                  <a:lnTo>
                    <a:pt x="50" y="17"/>
                  </a:lnTo>
                  <a:lnTo>
                    <a:pt x="56" y="6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18400" y="5111640"/>
              <a:ext cx="147600" cy="3672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1"/>
                  </a:moveTo>
                  <a:lnTo>
                    <a:pt x="87" y="23"/>
                  </a:lnTo>
                  <a:lnTo>
                    <a:pt x="93" y="11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015320" y="513864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2"/>
                  </a:moveTo>
                  <a:lnTo>
                    <a:pt x="49" y="17"/>
                  </a:lnTo>
                  <a:lnTo>
                    <a:pt x="55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074000" y="5148360"/>
              <a:ext cx="145800" cy="3636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11"/>
                  </a:moveTo>
                  <a:lnTo>
                    <a:pt x="86" y="23"/>
                  </a:lnTo>
                  <a:lnTo>
                    <a:pt x="92" y="11"/>
                  </a:lnTo>
                  <a:lnTo>
                    <a:pt x="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89640" y="5165640"/>
              <a:ext cx="68400" cy="2880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0" y="12"/>
                  </a:moveTo>
                  <a:lnTo>
                    <a:pt x="37" y="18"/>
                  </a:lnTo>
                  <a:lnTo>
                    <a:pt x="43" y="6"/>
                  </a:lnTo>
                  <a:lnTo>
                    <a:pt x="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41520" y="3535200"/>
              <a:ext cx="117360" cy="109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flipV="1">
              <a:off x="2451240" y="354456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490840" y="3581280"/>
              <a:ext cx="381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2451240" y="358128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2490840" y="354456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695680" y="4057560"/>
              <a:ext cx="117360" cy="109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2705040" y="406692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744640" y="4103640"/>
              <a:ext cx="399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2705040" y="410364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744640" y="4066920"/>
              <a:ext cx="399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951280" y="4606920"/>
              <a:ext cx="117360" cy="111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 flipV="1">
              <a:off x="2960640" y="4616280"/>
              <a:ext cx="381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998800" y="465300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2960640" y="465300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2998800" y="461628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205080" y="4844880"/>
              <a:ext cx="117720" cy="111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 flipV="1">
              <a:off x="3214800" y="485424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54400" y="4890960"/>
              <a:ext cx="381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3214800" y="489096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3254400" y="485424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470400" y="4818240"/>
              <a:ext cx="11736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 flipV="1">
              <a:off x="3479760" y="482724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517920" y="486396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3479760" y="4863960"/>
              <a:ext cx="381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3517920" y="482724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24200" y="4799160"/>
              <a:ext cx="117720" cy="110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 flipV="1">
              <a:off x="3733920" y="480816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773520" y="4844880"/>
              <a:ext cx="381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3733920" y="484488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3773520" y="480816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978360" y="4762440"/>
              <a:ext cx="117360" cy="111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 flipV="1">
              <a:off x="3989160" y="4771800"/>
              <a:ext cx="378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027320" y="4808520"/>
              <a:ext cx="399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3989160" y="4808520"/>
              <a:ext cx="378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4027320" y="4771800"/>
              <a:ext cx="399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233960" y="4718160"/>
              <a:ext cx="11736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 flipV="1">
              <a:off x="4243320" y="472572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282920" y="4762440"/>
              <a:ext cx="381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4243320" y="476244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4282920" y="472572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487760" y="4791240"/>
              <a:ext cx="11772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 flipV="1">
              <a:off x="4497480" y="4798800"/>
              <a:ext cx="39600" cy="37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537080" y="483696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4497480" y="483696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4537080" y="4798800"/>
              <a:ext cx="39600" cy="37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743360" y="4791240"/>
              <a:ext cx="11772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 flipV="1">
              <a:off x="4753080" y="4798800"/>
              <a:ext cx="38160" cy="37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791240" y="483696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4753080" y="4836960"/>
              <a:ext cx="381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4791240" y="4798800"/>
              <a:ext cx="39600" cy="37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997520" y="4808520"/>
              <a:ext cx="11736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 flipV="1">
              <a:off x="5006520" y="4817880"/>
              <a:ext cx="399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46840" y="4854600"/>
              <a:ext cx="378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5006520" y="4854600"/>
              <a:ext cx="399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5046840" y="4817880"/>
              <a:ext cx="378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251320" y="4808520"/>
              <a:ext cx="11772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 flipV="1">
              <a:off x="5262480" y="481788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300640" y="485460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5262480" y="485460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5300640" y="481788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506920" y="4836960"/>
              <a:ext cx="117720" cy="109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flipV="1">
              <a:off x="5516640" y="484488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56240" y="488160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16640" y="488160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5556240" y="4844880"/>
              <a:ext cx="381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61080" y="4827600"/>
              <a:ext cx="11736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 flipV="1">
              <a:off x="5770080" y="4836960"/>
              <a:ext cx="399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10400" y="487368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5770080" y="4873680"/>
              <a:ext cx="399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5810400" y="483696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26040" y="4890960"/>
              <a:ext cx="117720" cy="109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>
              <a:off x="6035760" y="490032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75360" y="4937040"/>
              <a:ext cx="381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035760" y="493704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6075360" y="490032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280200" y="4937040"/>
              <a:ext cx="117360" cy="109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 flipV="1">
              <a:off x="6289200" y="4946400"/>
              <a:ext cx="399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329520" y="498312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6289200" y="4983120"/>
              <a:ext cx="399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6329520" y="494640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5800" y="5010120"/>
              <a:ext cx="11736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 flipV="1">
              <a:off x="6545160" y="501948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83320" y="505620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6545160" y="505620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6583320" y="501948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789600" y="4992840"/>
              <a:ext cx="11772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 flipV="1">
              <a:off x="6799320" y="5000400"/>
              <a:ext cx="39600" cy="37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838920" y="503856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6799320" y="5038560"/>
              <a:ext cx="396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6838920" y="5000400"/>
              <a:ext cx="39600" cy="37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43760" y="5010120"/>
              <a:ext cx="117360" cy="1094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>
              <a:off x="7054920" y="501948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093080" y="505620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7054920" y="5056200"/>
              <a:ext cx="381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7093080" y="5019480"/>
              <a:ext cx="396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99360" y="5065560"/>
              <a:ext cx="117360" cy="109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 flipV="1">
              <a:off x="7308360" y="5074920"/>
              <a:ext cx="3996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348680" y="5111640"/>
              <a:ext cx="3780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7308360" y="5111640"/>
              <a:ext cx="39960" cy="36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7348680" y="5074920"/>
              <a:ext cx="37800" cy="36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481480" y="1941480"/>
              <a:ext cx="3420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EODD Simulation and EQP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873080" y="5102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873080" y="46800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726560" y="425916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726560" y="38368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726560" y="341640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726560" y="299412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726560" y="257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157120" y="54500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334680" y="545004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13120" y="54500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890680" y="545004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268760" y="54500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168640" y="5816520"/>
              <a:ext cx="508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Rdd, deuteron pairing distance (angstro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16200000">
              <a:off x="645840" y="3776760"/>
              <a:ext cx="1718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robability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63640" y="1776240"/>
              <a:ext cx="6797520" cy="445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421080" y="3673440"/>
              <a:ext cx="193824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652200" y="3710160"/>
              <a:ext cx="154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ＭＳ Ｐゴシック"/>
                </a:rPr>
                <a:t>EODD Simul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3538440" y="4120920"/>
              <a:ext cx="362160" cy="669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851280" y="4030560"/>
              <a:ext cx="108000" cy="13680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68" y="86"/>
                  </a:moveTo>
                  <a:lnTo>
                    <a:pt x="68" y="0"/>
                  </a:lnTo>
                  <a:lnTo>
                    <a:pt x="0" y="52"/>
                  </a:lnTo>
                  <a:lnTo>
                    <a:pt x="68" y="8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243320" y="4276800"/>
              <a:ext cx="2987640" cy="25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388400" y="4314960"/>
              <a:ext cx="266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ＭＳ Ｐゴシック"/>
                </a:rPr>
                <a:t>Normal Electron Screening: EQP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5899320" y="4615920"/>
              <a:ext cx="136440" cy="3668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977080" y="4524480"/>
              <a:ext cx="117360" cy="13788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74" y="87"/>
                  </a:moveTo>
                  <a:lnTo>
                    <a:pt x="68" y="0"/>
                  </a:lnTo>
                  <a:lnTo>
                    <a:pt x="0" y="58"/>
                  </a:lnTo>
                  <a:lnTo>
                    <a:pt x="74" y="87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705040" y="3011400"/>
              <a:ext cx="365940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136320" y="3079800"/>
              <a:ext cx="36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3399"/>
                  </a:solidFill>
                  <a:latin typeface="Tahoma"/>
                </a:rPr>
                <a:t>d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10000" y="3079800"/>
              <a:ext cx="33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99"/>
                  </a:solidFill>
                  <a:latin typeface="Tahoma"/>
                </a:rPr>
                <a:t>* +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853800" y="3079800"/>
              <a:ext cx="36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3399"/>
                  </a:solidFill>
                  <a:latin typeface="Tahoma"/>
                </a:rPr>
                <a:t>d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179240" y="3079800"/>
              <a:ext cx="191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99"/>
                  </a:solidFill>
                  <a:latin typeface="Tahoma"/>
                </a:rPr>
                <a:t>*e* states by EQP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0" name=""/>
            <p:cNvGrpSpPr/>
            <p:nvPr/>
          </p:nvGrpSpPr>
          <p:grpSpPr>
            <a:xfrm>
              <a:off x="2705040" y="3392640"/>
              <a:ext cx="228600" cy="228600"/>
              <a:chOff x="2705040" y="3392640"/>
              <a:chExt cx="228600" cy="228600"/>
            </a:xfrm>
          </p:grpSpPr>
          <p:sp>
            <p:nvSpPr>
              <p:cNvPr id="1781" name=""/>
              <p:cNvSpPr/>
              <p:nvPr/>
            </p:nvSpPr>
            <p:spPr>
              <a:xfrm flipH="1">
                <a:off x="2705040" y="3459240"/>
                <a:ext cx="162000" cy="1620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828880" y="33926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45" y="66"/>
                    </a:moveTo>
                    <a:lnTo>
                      <a:pt x="66" y="0"/>
                    </a:lnTo>
                    <a:lnTo>
                      <a:pt x="0" y="22"/>
                    </a:lnTo>
                    <a:lnTo>
                      <a:pt x="45" y="66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3" name=""/>
            <p:cNvSpPr/>
            <p:nvPr/>
          </p:nvSpPr>
          <p:spPr>
            <a:xfrm>
              <a:off x="3848040" y="5450040"/>
              <a:ext cx="53496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904560" y="54943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10000"/>
                  </a:solidFill>
                  <a:latin typeface="Tahoma"/>
                </a:rPr>
                <a:t>dde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5" name=""/>
            <p:cNvGrpSpPr/>
            <p:nvPr/>
          </p:nvGrpSpPr>
          <p:grpSpPr>
            <a:xfrm>
              <a:off x="4003560" y="5221440"/>
              <a:ext cx="147600" cy="228600"/>
              <a:chOff x="4003560" y="5221440"/>
              <a:chExt cx="147600" cy="2286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062240" y="5364000"/>
                <a:ext cx="28800" cy="8604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003560" y="5221440"/>
                <a:ext cx="14760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93" y="92"/>
                    </a:moveTo>
                    <a:lnTo>
                      <a:pt x="46" y="0"/>
                    </a:lnTo>
                    <a:lnTo>
                      <a:pt x="0" y="92"/>
                    </a:lnTo>
                    <a:lnTo>
                      <a:pt x="93" y="92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4991040" y="5450040"/>
              <a:ext cx="53496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099040" y="5494320"/>
              <a:ext cx="33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10000"/>
                  </a:solidFill>
                  <a:latin typeface="Tahoma"/>
                </a:rPr>
                <a:t>d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0" name=""/>
            <p:cNvGrpSpPr/>
            <p:nvPr/>
          </p:nvGrpSpPr>
          <p:grpSpPr>
            <a:xfrm>
              <a:off x="4994280" y="5221440"/>
              <a:ext cx="147600" cy="228600"/>
              <a:chOff x="4994280" y="5221440"/>
              <a:chExt cx="147600" cy="228600"/>
            </a:xfrm>
          </p:grpSpPr>
          <p:sp>
            <p:nvSpPr>
              <p:cNvPr id="1791" name=""/>
              <p:cNvSpPr/>
              <p:nvPr/>
            </p:nvSpPr>
            <p:spPr>
              <a:xfrm>
                <a:off x="5052960" y="5364000"/>
                <a:ext cx="28800" cy="8604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994280" y="5221440"/>
                <a:ext cx="14760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93" y="92"/>
                    </a:moveTo>
                    <a:lnTo>
                      <a:pt x="46" y="0"/>
                    </a:lnTo>
                    <a:lnTo>
                      <a:pt x="0" y="92"/>
                    </a:lnTo>
                    <a:lnTo>
                      <a:pt x="93" y="92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C0A-A99A-4791-A2B4-B610C73002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3" name=""/>
          <p:cNvGrpSpPr/>
          <p:nvPr/>
        </p:nvGrpSpPr>
        <p:grpSpPr>
          <a:xfrm>
            <a:off x="676440" y="258840"/>
            <a:ext cx="7729200" cy="5194080"/>
            <a:chOff x="676440" y="258840"/>
            <a:chExt cx="7729200" cy="5194080"/>
          </a:xfrm>
        </p:grpSpPr>
        <p:sp>
          <p:nvSpPr>
            <p:cNvPr id="1794" name=""/>
            <p:cNvSpPr/>
            <p:nvPr/>
          </p:nvSpPr>
          <p:spPr>
            <a:xfrm>
              <a:off x="903240" y="311040"/>
              <a:ext cx="69944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030680" y="258840"/>
              <a:ext cx="350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6600ff"/>
                  </a:solidFill>
                  <a:latin typeface="Tahoma"/>
                </a:rPr>
                <a:t>Fusion Rate of D-Clust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85800" y="1219320"/>
              <a:ext cx="3753000" cy="42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38080" y="1268280"/>
              <a:ext cx="3429000" cy="28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7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①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 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: </a:t>
              </a:r>
              <a:r>
                <a:rPr b="1" lang="ja-JP" sz="1700" spc="-1" strike="noStrike">
                  <a:solidFill>
                    <a:srgbClr val="0000ff"/>
                  </a:solidFill>
                  <a:latin typeface="‚l‚r –¾’©"/>
                </a:rPr>
                <a:t>D-Cluster Formation Process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F</a:t>
              </a:r>
              <a:r>
                <a:rPr b="1" lang="ja-JP" sz="1100" spc="-1" strike="noStrike">
                  <a:solidFill>
                    <a:srgbClr val="010000"/>
                  </a:solidFill>
                  <a:latin typeface="‚l‚r –¾’©"/>
                </a:rPr>
                <a:t>nD 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= </a:t>
              </a:r>
              <a:r>
                <a:rPr b="0" lang="ja-JP" sz="1500" spc="-1" strike="noStrike">
                  <a:solidFill>
                    <a:srgbClr val="010000"/>
                  </a:solidFill>
                  <a:latin typeface="‚l‚r –¾’©"/>
                </a:rPr>
                <a:t>&lt;</a:t>
              </a:r>
              <a:r>
                <a:rPr b="1" lang="ja-JP" sz="15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Ψ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1 </a:t>
              </a:r>
              <a:r>
                <a:rPr b="1" lang="ja-JP" sz="1500" spc="-1" strike="noStrike" baseline="30000">
                  <a:solidFill>
                    <a:srgbClr val="010000"/>
                  </a:solidFill>
                  <a:latin typeface="‚l‚r –¾’©"/>
                </a:rPr>
                <a:t>2 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&gt;&lt;</a:t>
              </a:r>
              <a:r>
                <a:rPr b="1" lang="ja-JP" sz="15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Ψ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2 </a:t>
              </a:r>
              <a:r>
                <a:rPr b="1" lang="ja-JP" sz="1500" spc="-1" strike="noStrike" baseline="30000">
                  <a:solidFill>
                    <a:srgbClr val="010000"/>
                  </a:solidFill>
                  <a:latin typeface="‚l‚r –¾’©"/>
                </a:rPr>
                <a:t>2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 &gt;&lt;</a:t>
              </a:r>
              <a:r>
                <a:rPr b="1" lang="ja-JP" sz="15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Ψ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3</a:t>
              </a:r>
              <a:r>
                <a:rPr b="1" lang="ja-JP" sz="1500" spc="-1" strike="noStrike" baseline="30000">
                  <a:solidFill>
                    <a:srgbClr val="010000"/>
                  </a:solidFill>
                  <a:latin typeface="‚l‚r –¾’©"/>
                </a:rPr>
                <a:t>2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&gt;***&lt;</a:t>
              </a:r>
              <a:r>
                <a:rPr b="1" lang="ja-JP" sz="15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Ψ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n</a:t>
              </a:r>
              <a:r>
                <a:rPr b="1" lang="ja-JP" sz="1500" spc="-1" strike="noStrike" baseline="30000">
                  <a:solidFill>
                    <a:srgbClr val="010000"/>
                  </a:solidFill>
                  <a:latin typeface="‚l‚r –¾’©"/>
                </a:rPr>
                <a:t>2 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&gt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7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②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 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: </a:t>
              </a:r>
              <a:r>
                <a:rPr b="1" lang="ja-JP" sz="1700" spc="-1" strike="noStrike">
                  <a:solidFill>
                    <a:srgbClr val="0000ff"/>
                  </a:solidFill>
                  <a:latin typeface="‚l‚r –¾’©"/>
                </a:rPr>
                <a:t>Barrier Penetration Process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P</a:t>
              </a:r>
              <a:r>
                <a:rPr b="1" lang="ja-JP" sz="1200" spc="-1" strike="noStrike">
                  <a:solidFill>
                    <a:srgbClr val="010000"/>
                  </a:solidFill>
                  <a:latin typeface="‚l‚r –¾’©"/>
                </a:rPr>
                <a:t>B  </a:t>
              </a:r>
              <a:r>
                <a:rPr b="1" lang="ja-JP" sz="1500" spc="-1" strike="noStrike">
                  <a:solidFill>
                    <a:srgbClr val="010000"/>
                  </a:solidFill>
                  <a:latin typeface="‚l‚r –¾’©"/>
                </a:rPr>
                <a:t>=  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exp ( -n</a:t>
              </a:r>
              <a:r>
                <a:rPr b="1" lang="ja-JP" sz="17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Г</a:t>
              </a:r>
              <a:r>
                <a:rPr b="1" lang="ja-JP" sz="1200" spc="-1" strike="noStrike">
                  <a:solidFill>
                    <a:srgbClr val="010000"/>
                  </a:solidFill>
                  <a:latin typeface="‚l‚r –¾’©"/>
                </a:rPr>
                <a:t>n 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7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③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 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: </a:t>
              </a:r>
              <a:r>
                <a:rPr b="1" lang="ja-JP" sz="1700" spc="-1" strike="noStrike">
                  <a:solidFill>
                    <a:srgbClr val="0000ff"/>
                  </a:solidFill>
                  <a:latin typeface="‚l‚r –¾’©"/>
                </a:rPr>
                <a:t>Nuclear Fusion Proces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7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σ 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= S</a:t>
              </a:r>
              <a:r>
                <a:rPr b="1" lang="ja-JP" sz="1200" spc="-1" strike="noStrike">
                  <a:solidFill>
                    <a:srgbClr val="010000"/>
                  </a:solidFill>
                  <a:latin typeface="‚l‚r –¾’©"/>
                </a:rPr>
                <a:t>nD </a:t>
              </a:r>
              <a:r>
                <a:rPr b="1" lang="ja-JP" sz="1700" spc="-1" strike="noStrike">
                  <a:solidFill>
                    <a:srgbClr val="010000"/>
                  </a:solidFill>
                  <a:latin typeface="‚l‚r –¾’©"/>
                </a:rPr>
                <a:t>/ E</a:t>
              </a:r>
              <a:r>
                <a:rPr b="1" lang="ja-JP" sz="1200" spc="-1" strike="noStrike">
                  <a:solidFill>
                    <a:srgbClr val="010000"/>
                  </a:solidFill>
                  <a:latin typeface="‚l‚r –¾’©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094040" y="4133880"/>
              <a:ext cx="33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10000"/>
                  </a:solidFill>
                  <a:latin typeface="‚l‚r –¾’©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32320" y="4575240"/>
              <a:ext cx="346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900" spc="-1" strike="noStrike">
                  <a:solidFill>
                    <a:srgbClr val="010000"/>
                  </a:solidFill>
                  <a:latin typeface="Century"/>
                </a:rPr>
                <a:t>&lt;</a:t>
              </a:r>
              <a:r>
                <a:rPr b="1" lang="ja-JP" sz="1900" spc="-1" strike="noStrike">
                  <a:solidFill>
                    <a:srgbClr val="0000ff"/>
                  </a:solidFill>
                  <a:latin typeface="Century"/>
                </a:rPr>
                <a:t> Fusion Rate </a:t>
              </a:r>
              <a:r>
                <a:rPr b="1" lang="ja-JP" sz="1900" spc="-1" strike="noStrike">
                  <a:solidFill>
                    <a:srgbClr val="010000"/>
                  </a:solidFill>
                  <a:latin typeface="Century"/>
                </a:rPr>
                <a:t>&gt; = </a:t>
              </a:r>
              <a:r>
                <a:rPr b="1" lang="ja-JP" sz="19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σ</a:t>
              </a:r>
              <a:r>
                <a:rPr b="1" lang="ja-JP" sz="1900" spc="-1" strike="noStrike">
                  <a:solidFill>
                    <a:srgbClr val="010000"/>
                  </a:solidFill>
                  <a:latin typeface="‚l‚r –¾’©"/>
                </a:rPr>
                <a:t>v * P</a:t>
              </a:r>
              <a:r>
                <a:rPr b="1" lang="ja-JP" sz="1300" spc="-1" strike="noStrike">
                  <a:solidFill>
                    <a:srgbClr val="010000"/>
                  </a:solidFill>
                  <a:latin typeface="‚l‚r –¾’©"/>
                </a:rPr>
                <a:t>B </a:t>
              </a:r>
              <a:r>
                <a:rPr b="1" lang="ja-JP" sz="1900" spc="-1" strike="noStrike">
                  <a:solidFill>
                    <a:srgbClr val="010000"/>
                  </a:solidFill>
                  <a:latin typeface="‚l‚r –¾’©"/>
                </a:rPr>
                <a:t>* F</a:t>
              </a:r>
              <a:r>
                <a:rPr b="1" lang="ja-JP" sz="1300" spc="-1" strike="noStrike">
                  <a:solidFill>
                    <a:srgbClr val="010000"/>
                  </a:solidFill>
                  <a:latin typeface="‚l‚r –¾’©"/>
                </a:rPr>
                <a:t>n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083240" y="5084640"/>
              <a:ext cx="1841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99"/>
                  </a:solidFill>
                  <a:latin typeface="‚l‚r –¾’©"/>
                </a:rPr>
                <a:t>D+(D+(D+D))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820600" y="5084640"/>
              <a:ext cx="35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99"/>
                  </a:solidFill>
                  <a:latin typeface="ＭＳ 明朝"/>
                  <a:ea typeface="ＭＳ 明朝"/>
                </a:rPr>
                <a:t>⇒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124440" y="5084640"/>
              <a:ext cx="461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99"/>
                  </a:solidFill>
                  <a:latin typeface="‚l‚r –¾’©"/>
                </a:rPr>
                <a:t> </a:t>
              </a:r>
              <a:r>
                <a:rPr b="1" lang="en-US" sz="2300" spc="-1" strike="noStrike">
                  <a:solidFill>
                    <a:srgbClr val="ff3399"/>
                  </a:solidFill>
                  <a:latin typeface="‚l‚r –¾’©"/>
                </a:rPr>
                <a:t>4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3" name=""/>
            <p:cNvGrpSpPr/>
            <p:nvPr/>
          </p:nvGrpSpPr>
          <p:grpSpPr>
            <a:xfrm>
              <a:off x="4473720" y="1039680"/>
              <a:ext cx="3639960" cy="4378320"/>
              <a:chOff x="4473720" y="1039680"/>
              <a:chExt cx="3639960" cy="4378320"/>
            </a:xfrm>
          </p:grpSpPr>
          <p:sp>
            <p:nvSpPr>
              <p:cNvPr id="1804" name=""/>
              <p:cNvSpPr/>
              <p:nvPr/>
            </p:nvSpPr>
            <p:spPr>
              <a:xfrm>
                <a:off x="4473720" y="1039680"/>
                <a:ext cx="3639960" cy="437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527720" y="2625840"/>
                <a:ext cx="31143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030640" y="1092240"/>
                <a:ext cx="1800" cy="3619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92600" y="4930920"/>
                <a:ext cx="67464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5367240" y="1420920"/>
                <a:ext cx="1800" cy="3510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383080" y="1209600"/>
                <a:ext cx="2386080" cy="1627200"/>
              </a:xfrm>
              <a:custGeom>
                <a:avLst/>
                <a:gdLst/>
                <a:ahLst/>
                <a:rect l="l" t="t" r="r" b="b"/>
                <a:pathLst>
                  <a:path w="1503" h="1025">
                    <a:moveTo>
                      <a:pt x="0" y="0"/>
                    </a:moveTo>
                    <a:lnTo>
                      <a:pt x="9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4"/>
                    </a:lnTo>
                    <a:lnTo>
                      <a:pt x="14" y="23"/>
                    </a:lnTo>
                    <a:lnTo>
                      <a:pt x="19" y="37"/>
                    </a:lnTo>
                    <a:lnTo>
                      <a:pt x="33" y="69"/>
                    </a:lnTo>
                    <a:lnTo>
                      <a:pt x="42" y="106"/>
                    </a:lnTo>
                    <a:lnTo>
                      <a:pt x="47" y="115"/>
                    </a:lnTo>
                    <a:lnTo>
                      <a:pt x="52" y="120"/>
                    </a:lnTo>
                    <a:lnTo>
                      <a:pt x="52" y="133"/>
                    </a:lnTo>
                    <a:lnTo>
                      <a:pt x="61" y="147"/>
                    </a:lnTo>
                    <a:lnTo>
                      <a:pt x="66" y="161"/>
                    </a:lnTo>
                    <a:lnTo>
                      <a:pt x="71" y="170"/>
                    </a:lnTo>
                    <a:lnTo>
                      <a:pt x="71" y="175"/>
                    </a:lnTo>
                    <a:lnTo>
                      <a:pt x="80" y="188"/>
                    </a:lnTo>
                    <a:lnTo>
                      <a:pt x="85" y="202"/>
                    </a:lnTo>
                    <a:lnTo>
                      <a:pt x="90" y="216"/>
                    </a:lnTo>
                    <a:lnTo>
                      <a:pt x="90" y="221"/>
                    </a:lnTo>
                    <a:lnTo>
                      <a:pt x="90" y="221"/>
                    </a:lnTo>
                    <a:lnTo>
                      <a:pt x="90" y="216"/>
                    </a:lnTo>
                    <a:lnTo>
                      <a:pt x="90" y="211"/>
                    </a:lnTo>
                    <a:lnTo>
                      <a:pt x="90" y="211"/>
                    </a:lnTo>
                    <a:lnTo>
                      <a:pt x="90" y="216"/>
                    </a:lnTo>
                    <a:lnTo>
                      <a:pt x="94" y="230"/>
                    </a:lnTo>
                    <a:lnTo>
                      <a:pt x="104" y="257"/>
                    </a:lnTo>
                    <a:lnTo>
                      <a:pt x="113" y="285"/>
                    </a:lnTo>
                    <a:lnTo>
                      <a:pt x="118" y="308"/>
                    </a:lnTo>
                    <a:lnTo>
                      <a:pt x="123" y="331"/>
                    </a:lnTo>
                    <a:lnTo>
                      <a:pt x="142" y="368"/>
                    </a:lnTo>
                    <a:lnTo>
                      <a:pt x="146" y="377"/>
                    </a:lnTo>
                    <a:lnTo>
                      <a:pt x="146" y="382"/>
                    </a:lnTo>
                    <a:lnTo>
                      <a:pt x="146" y="382"/>
                    </a:lnTo>
                    <a:lnTo>
                      <a:pt x="146" y="382"/>
                    </a:lnTo>
                    <a:lnTo>
                      <a:pt x="146" y="386"/>
                    </a:lnTo>
                    <a:lnTo>
                      <a:pt x="151" y="395"/>
                    </a:lnTo>
                    <a:lnTo>
                      <a:pt x="156" y="414"/>
                    </a:lnTo>
                    <a:lnTo>
                      <a:pt x="161" y="427"/>
                    </a:lnTo>
                    <a:lnTo>
                      <a:pt x="175" y="450"/>
                    </a:lnTo>
                    <a:lnTo>
                      <a:pt x="189" y="473"/>
                    </a:lnTo>
                    <a:lnTo>
                      <a:pt x="194" y="487"/>
                    </a:lnTo>
                    <a:lnTo>
                      <a:pt x="198" y="496"/>
                    </a:lnTo>
                    <a:lnTo>
                      <a:pt x="203" y="506"/>
                    </a:lnTo>
                    <a:lnTo>
                      <a:pt x="208" y="515"/>
                    </a:lnTo>
                    <a:lnTo>
                      <a:pt x="208" y="529"/>
                    </a:lnTo>
                    <a:lnTo>
                      <a:pt x="217" y="542"/>
                    </a:lnTo>
                    <a:lnTo>
                      <a:pt x="222" y="552"/>
                    </a:lnTo>
                    <a:lnTo>
                      <a:pt x="227" y="556"/>
                    </a:lnTo>
                    <a:lnTo>
                      <a:pt x="232" y="575"/>
                    </a:lnTo>
                    <a:lnTo>
                      <a:pt x="241" y="593"/>
                    </a:lnTo>
                    <a:lnTo>
                      <a:pt x="246" y="602"/>
                    </a:lnTo>
                    <a:lnTo>
                      <a:pt x="250" y="607"/>
                    </a:lnTo>
                    <a:lnTo>
                      <a:pt x="255" y="616"/>
                    </a:lnTo>
                    <a:lnTo>
                      <a:pt x="260" y="625"/>
                    </a:lnTo>
                    <a:lnTo>
                      <a:pt x="279" y="657"/>
                    </a:lnTo>
                    <a:lnTo>
                      <a:pt x="302" y="685"/>
                    </a:lnTo>
                    <a:lnTo>
                      <a:pt x="312" y="708"/>
                    </a:lnTo>
                    <a:lnTo>
                      <a:pt x="326" y="726"/>
                    </a:lnTo>
                    <a:lnTo>
                      <a:pt x="340" y="740"/>
                    </a:lnTo>
                    <a:lnTo>
                      <a:pt x="354" y="768"/>
                    </a:lnTo>
                    <a:lnTo>
                      <a:pt x="369" y="800"/>
                    </a:lnTo>
                    <a:lnTo>
                      <a:pt x="383" y="823"/>
                    </a:lnTo>
                    <a:lnTo>
                      <a:pt x="402" y="846"/>
                    </a:lnTo>
                    <a:lnTo>
                      <a:pt x="430" y="883"/>
                    </a:lnTo>
                    <a:lnTo>
                      <a:pt x="459" y="915"/>
                    </a:lnTo>
                    <a:lnTo>
                      <a:pt x="463" y="924"/>
                    </a:lnTo>
                    <a:lnTo>
                      <a:pt x="468" y="933"/>
                    </a:lnTo>
                    <a:lnTo>
                      <a:pt x="477" y="938"/>
                    </a:lnTo>
                    <a:lnTo>
                      <a:pt x="482" y="938"/>
                    </a:lnTo>
                    <a:lnTo>
                      <a:pt x="492" y="947"/>
                    </a:lnTo>
                    <a:lnTo>
                      <a:pt x="501" y="956"/>
                    </a:lnTo>
                    <a:lnTo>
                      <a:pt x="506" y="961"/>
                    </a:lnTo>
                    <a:lnTo>
                      <a:pt x="511" y="961"/>
                    </a:lnTo>
                    <a:lnTo>
                      <a:pt x="534" y="974"/>
                    </a:lnTo>
                    <a:lnTo>
                      <a:pt x="558" y="988"/>
                    </a:lnTo>
                    <a:lnTo>
                      <a:pt x="577" y="997"/>
                    </a:lnTo>
                    <a:lnTo>
                      <a:pt x="605" y="1002"/>
                    </a:lnTo>
                    <a:lnTo>
                      <a:pt x="638" y="1016"/>
                    </a:lnTo>
                    <a:lnTo>
                      <a:pt x="681" y="1025"/>
                    </a:lnTo>
                    <a:lnTo>
                      <a:pt x="719" y="1025"/>
                    </a:lnTo>
                    <a:lnTo>
                      <a:pt x="752" y="1025"/>
                    </a:lnTo>
                    <a:lnTo>
                      <a:pt x="771" y="1025"/>
                    </a:lnTo>
                    <a:lnTo>
                      <a:pt x="794" y="1020"/>
                    </a:lnTo>
                    <a:lnTo>
                      <a:pt x="818" y="1020"/>
                    </a:lnTo>
                    <a:lnTo>
                      <a:pt x="841" y="1016"/>
                    </a:lnTo>
                    <a:lnTo>
                      <a:pt x="898" y="1002"/>
                    </a:lnTo>
                    <a:lnTo>
                      <a:pt x="960" y="984"/>
                    </a:lnTo>
                    <a:lnTo>
                      <a:pt x="1007" y="970"/>
                    </a:lnTo>
                    <a:lnTo>
                      <a:pt x="1054" y="951"/>
                    </a:lnTo>
                    <a:lnTo>
                      <a:pt x="1087" y="938"/>
                    </a:lnTo>
                    <a:lnTo>
                      <a:pt x="1120" y="924"/>
                    </a:lnTo>
                    <a:lnTo>
                      <a:pt x="1182" y="924"/>
                    </a:lnTo>
                    <a:lnTo>
                      <a:pt x="1243" y="919"/>
                    </a:lnTo>
                    <a:lnTo>
                      <a:pt x="1262" y="919"/>
                    </a:lnTo>
                    <a:lnTo>
                      <a:pt x="1276" y="915"/>
                    </a:lnTo>
                    <a:lnTo>
                      <a:pt x="1295" y="915"/>
                    </a:lnTo>
                    <a:lnTo>
                      <a:pt x="1300" y="915"/>
                    </a:lnTo>
                    <a:lnTo>
                      <a:pt x="1305" y="915"/>
                    </a:lnTo>
                    <a:lnTo>
                      <a:pt x="1319" y="915"/>
                    </a:lnTo>
                    <a:lnTo>
                      <a:pt x="1328" y="915"/>
                    </a:lnTo>
                    <a:lnTo>
                      <a:pt x="1343" y="915"/>
                    </a:lnTo>
                    <a:lnTo>
                      <a:pt x="1366" y="915"/>
                    </a:lnTo>
                    <a:lnTo>
                      <a:pt x="1395" y="915"/>
                    </a:lnTo>
                    <a:lnTo>
                      <a:pt x="1432" y="915"/>
                    </a:lnTo>
                    <a:lnTo>
                      <a:pt x="1475" y="910"/>
                    </a:lnTo>
                    <a:lnTo>
                      <a:pt x="1494" y="910"/>
                    </a:lnTo>
                    <a:lnTo>
                      <a:pt x="1499" y="906"/>
                    </a:lnTo>
                    <a:lnTo>
                      <a:pt x="1503" y="906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91000" y="120168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75" h="51">
                    <a:moveTo>
                      <a:pt x="4" y="0"/>
                    </a:moveTo>
                    <a:lnTo>
                      <a:pt x="0" y="19"/>
                    </a:lnTo>
                    <a:lnTo>
                      <a:pt x="14" y="23"/>
                    </a:lnTo>
                    <a:lnTo>
                      <a:pt x="14" y="14"/>
                    </a:lnTo>
                    <a:lnTo>
                      <a:pt x="9" y="23"/>
                    </a:lnTo>
                    <a:lnTo>
                      <a:pt x="23" y="33"/>
                    </a:lnTo>
                    <a:lnTo>
                      <a:pt x="37" y="37"/>
                    </a:lnTo>
                    <a:lnTo>
                      <a:pt x="42" y="42"/>
                    </a:lnTo>
                    <a:lnTo>
                      <a:pt x="56" y="46"/>
                    </a:lnTo>
                    <a:lnTo>
                      <a:pt x="56" y="37"/>
                    </a:lnTo>
                    <a:lnTo>
                      <a:pt x="52" y="46"/>
                    </a:lnTo>
                    <a:lnTo>
                      <a:pt x="61" y="51"/>
                    </a:lnTo>
                    <a:lnTo>
                      <a:pt x="75" y="37"/>
                    </a:lnTo>
                    <a:lnTo>
                      <a:pt x="66" y="33"/>
                    </a:lnTo>
                    <a:lnTo>
                      <a:pt x="61" y="28"/>
                    </a:lnTo>
                    <a:lnTo>
                      <a:pt x="47" y="23"/>
                    </a:lnTo>
                    <a:lnTo>
                      <a:pt x="42" y="33"/>
                    </a:lnTo>
                    <a:lnTo>
                      <a:pt x="52" y="23"/>
                    </a:lnTo>
                    <a:lnTo>
                      <a:pt x="37" y="19"/>
                    </a:lnTo>
                    <a:lnTo>
                      <a:pt x="23" y="10"/>
                    </a:lnTo>
                    <a:lnTo>
                      <a:pt x="1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578560" y="1290600"/>
                <a:ext cx="118800" cy="57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5" y="0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38" y="27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5" y="18"/>
                    </a:lnTo>
                    <a:lnTo>
                      <a:pt x="75" y="18"/>
                    </a:lnTo>
                    <a:lnTo>
                      <a:pt x="42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773680" y="1347840"/>
                <a:ext cx="119160" cy="73080"/>
              </a:xfrm>
              <a:custGeom>
                <a:avLst/>
                <a:gdLst/>
                <a:ahLst/>
                <a:rect l="l" t="t" r="r" b="b"/>
                <a:pathLst>
                  <a:path w="75" h="46">
                    <a:moveTo>
                      <a:pt x="9" y="0"/>
                    </a:moveTo>
                    <a:lnTo>
                      <a:pt x="0" y="19"/>
                    </a:lnTo>
                    <a:lnTo>
                      <a:pt x="4" y="23"/>
                    </a:lnTo>
                    <a:lnTo>
                      <a:pt x="19" y="33"/>
                    </a:lnTo>
                    <a:lnTo>
                      <a:pt x="23" y="37"/>
                    </a:lnTo>
                    <a:lnTo>
                      <a:pt x="28" y="42"/>
                    </a:lnTo>
                    <a:lnTo>
                      <a:pt x="38" y="42"/>
                    </a:lnTo>
                    <a:lnTo>
                      <a:pt x="66" y="46"/>
                    </a:lnTo>
                    <a:lnTo>
                      <a:pt x="71" y="46"/>
                    </a:lnTo>
                    <a:lnTo>
                      <a:pt x="75" y="28"/>
                    </a:lnTo>
                    <a:lnTo>
                      <a:pt x="71" y="28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33"/>
                    </a:lnTo>
                    <a:lnTo>
                      <a:pt x="38" y="23"/>
                    </a:lnTo>
                    <a:lnTo>
                      <a:pt x="33" y="19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969160" y="1420920"/>
                <a:ext cx="126720" cy="7308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4" y="0"/>
                    </a:moveTo>
                    <a:lnTo>
                      <a:pt x="0" y="19"/>
                    </a:lnTo>
                    <a:lnTo>
                      <a:pt x="33" y="28"/>
                    </a:lnTo>
                    <a:lnTo>
                      <a:pt x="33" y="19"/>
                    </a:lnTo>
                    <a:lnTo>
                      <a:pt x="28" y="28"/>
                    </a:lnTo>
                    <a:lnTo>
                      <a:pt x="66" y="42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5" y="28"/>
                    </a:lnTo>
                    <a:lnTo>
                      <a:pt x="75" y="28"/>
                    </a:lnTo>
                    <a:lnTo>
                      <a:pt x="71" y="37"/>
                    </a:lnTo>
                    <a:lnTo>
                      <a:pt x="80" y="28"/>
                    </a:lnTo>
                    <a:lnTo>
                      <a:pt x="37" y="14"/>
                    </a:lnTo>
                    <a:lnTo>
                      <a:pt x="37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170760" y="1487520"/>
                <a:ext cx="120600" cy="50760"/>
              </a:xfrm>
              <a:custGeom>
                <a:avLst/>
                <a:gdLst/>
                <a:ahLst/>
                <a:rect l="l" t="t" r="r" b="b"/>
                <a:pathLst>
                  <a:path w="76" h="32">
                    <a:moveTo>
                      <a:pt x="5" y="0"/>
                    </a:moveTo>
                    <a:lnTo>
                      <a:pt x="0" y="18"/>
                    </a:lnTo>
                    <a:lnTo>
                      <a:pt x="24" y="23"/>
                    </a:lnTo>
                    <a:lnTo>
                      <a:pt x="62" y="27"/>
                    </a:lnTo>
                    <a:lnTo>
                      <a:pt x="71" y="32"/>
                    </a:lnTo>
                    <a:lnTo>
                      <a:pt x="76" y="13"/>
                    </a:lnTo>
                    <a:lnTo>
                      <a:pt x="67" y="9"/>
                    </a:lnTo>
                    <a:lnTo>
                      <a:pt x="2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373800" y="1523880"/>
                <a:ext cx="127080" cy="50760"/>
              </a:xfrm>
              <a:custGeom>
                <a:avLst/>
                <a:gdLst/>
                <a:ahLst/>
                <a:rect l="l" t="t" r="r" b="b"/>
                <a:pathLst>
                  <a:path w="80" h="32">
                    <a:moveTo>
                      <a:pt x="5" y="0"/>
                    </a:moveTo>
                    <a:lnTo>
                      <a:pt x="0" y="18"/>
                    </a:lnTo>
                    <a:lnTo>
                      <a:pt x="14" y="23"/>
                    </a:lnTo>
                    <a:lnTo>
                      <a:pt x="76" y="32"/>
                    </a:lnTo>
                    <a:lnTo>
                      <a:pt x="80" y="13"/>
                    </a:lnTo>
                    <a:lnTo>
                      <a:pt x="1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568920" y="1574640"/>
                <a:ext cx="127080" cy="51120"/>
              </a:xfrm>
              <a:custGeom>
                <a:avLst/>
                <a:gdLst/>
                <a:ahLst/>
                <a:rect l="l" t="t" r="r" b="b"/>
                <a:pathLst>
                  <a:path w="80" h="32">
                    <a:moveTo>
                      <a:pt x="5" y="0"/>
                    </a:moveTo>
                    <a:lnTo>
                      <a:pt x="0" y="18"/>
                    </a:lnTo>
                    <a:lnTo>
                      <a:pt x="42" y="27"/>
                    </a:lnTo>
                    <a:lnTo>
                      <a:pt x="80" y="32"/>
                    </a:lnTo>
                    <a:lnTo>
                      <a:pt x="80" y="14"/>
                    </a:lnTo>
                    <a:lnTo>
                      <a:pt x="47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778800" y="1611360"/>
                <a:ext cx="128520" cy="58680"/>
              </a:xfrm>
              <a:custGeom>
                <a:avLst/>
                <a:gdLst/>
                <a:ahLst/>
                <a:rect l="l" t="t" r="r" b="b"/>
                <a:pathLst>
                  <a:path w="81" h="37">
                    <a:moveTo>
                      <a:pt x="5" y="0"/>
                    </a:moveTo>
                    <a:lnTo>
                      <a:pt x="0" y="18"/>
                    </a:lnTo>
                    <a:lnTo>
                      <a:pt x="38" y="27"/>
                    </a:lnTo>
                    <a:lnTo>
                      <a:pt x="38" y="18"/>
                    </a:lnTo>
                    <a:lnTo>
                      <a:pt x="33" y="27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81" y="18"/>
                    </a:lnTo>
                    <a:lnTo>
                      <a:pt x="81" y="18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981840" y="1654200"/>
                <a:ext cx="127080" cy="44280"/>
              </a:xfrm>
              <a:custGeom>
                <a:avLst/>
                <a:gdLst/>
                <a:ahLst/>
                <a:rect l="l" t="t" r="r" b="b"/>
                <a:pathLst>
                  <a:path w="80" h="28">
                    <a:moveTo>
                      <a:pt x="5" y="0"/>
                    </a:moveTo>
                    <a:lnTo>
                      <a:pt x="0" y="19"/>
                    </a:lnTo>
                    <a:lnTo>
                      <a:pt x="66" y="28"/>
                    </a:lnTo>
                    <a:lnTo>
                      <a:pt x="80" y="28"/>
                    </a:lnTo>
                    <a:lnTo>
                      <a:pt x="80" y="10"/>
                    </a:lnTo>
                    <a:lnTo>
                      <a:pt x="71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199280" y="1684440"/>
                <a:ext cx="120600" cy="42840"/>
              </a:xfrm>
              <a:custGeom>
                <a:avLst/>
                <a:gdLst/>
                <a:ahLst/>
                <a:rect l="l" t="t" r="r" b="b"/>
                <a:pathLst>
                  <a:path w="76" h="27">
                    <a:moveTo>
                      <a:pt x="0" y="0"/>
                    </a:moveTo>
                    <a:lnTo>
                      <a:pt x="0" y="18"/>
                    </a:lnTo>
                    <a:lnTo>
                      <a:pt x="14" y="18"/>
                    </a:lnTo>
                    <a:lnTo>
                      <a:pt x="14" y="9"/>
                    </a:lnTo>
                    <a:lnTo>
                      <a:pt x="14" y="18"/>
                    </a:lnTo>
                    <a:lnTo>
                      <a:pt x="71" y="27"/>
                    </a:lnTo>
                    <a:lnTo>
                      <a:pt x="76" y="9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402680" y="1706400"/>
                <a:ext cx="118800" cy="43200"/>
              </a:xfrm>
              <a:custGeom>
                <a:avLst/>
                <a:gdLst/>
                <a:ahLst/>
                <a:rect l="l" t="t" r="r" b="b"/>
                <a:pathLst>
                  <a:path w="75" h="27">
                    <a:moveTo>
                      <a:pt x="0" y="0"/>
                    </a:moveTo>
                    <a:lnTo>
                      <a:pt x="0" y="18"/>
                    </a:lnTo>
                    <a:lnTo>
                      <a:pt x="75" y="27"/>
                    </a:lnTo>
                    <a:lnTo>
                      <a:pt x="75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612200" y="1727280"/>
                <a:ext cx="120600" cy="363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0"/>
                    </a:moveTo>
                    <a:lnTo>
                      <a:pt x="0" y="19"/>
                    </a:lnTo>
                    <a:lnTo>
                      <a:pt x="47" y="23"/>
                    </a:lnTo>
                    <a:lnTo>
                      <a:pt x="76" y="23"/>
                    </a:lnTo>
                    <a:lnTo>
                      <a:pt x="76" y="5"/>
                    </a:lnTo>
                    <a:lnTo>
                      <a:pt x="5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606720" y="1176480"/>
                <a:ext cx="68148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entury"/>
                  </a:rPr>
                  <a:t>U</a:t>
                </a:r>
                <a:r>
                  <a:rPr b="0" lang="en-US" sz="1300" spc="-1" strike="noStrike" baseline="-25000">
                    <a:solidFill>
                      <a:srgbClr val="000000"/>
                    </a:solidFill>
                    <a:latin typeface="Century"/>
                  </a:rPr>
                  <a:t>0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Century"/>
                  </a:rPr>
                  <a:t>= e</a:t>
                </a:r>
                <a:r>
                  <a:rPr b="0" lang="en-US" sz="1300" spc="-1" strike="noStrike" baseline="30000">
                    <a:solidFill>
                      <a:srgbClr val="000000"/>
                    </a:solidFill>
                    <a:latin typeface="Century"/>
                  </a:rPr>
                  <a:t>2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Century"/>
                  </a:rPr>
                  <a:t>/ 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6208560" y="1311120"/>
                <a:ext cx="338400" cy="219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404400" y="3081240"/>
                <a:ext cx="1452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entury"/>
                  </a:rPr>
                  <a:t>Screened Potential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 flipV="1">
                <a:off x="6717960" y="2844360"/>
                <a:ext cx="330120" cy="219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5787720" y="2077920"/>
                <a:ext cx="1515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705640" y="2027160"/>
                <a:ext cx="98280" cy="95400"/>
              </a:xfrm>
              <a:custGeom>
                <a:avLst/>
                <a:gdLst/>
                <a:ahLst/>
                <a:rect l="l" t="t" r="r" b="b"/>
                <a:pathLst>
                  <a:path w="62" h="60">
                    <a:moveTo>
                      <a:pt x="62" y="0"/>
                    </a:moveTo>
                    <a:lnTo>
                      <a:pt x="0" y="32"/>
                    </a:lnTo>
                    <a:lnTo>
                      <a:pt x="62" y="6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321680" y="1957320"/>
                <a:ext cx="298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0000"/>
                    </a:solidFill>
                    <a:latin typeface="Century"/>
                  </a:rPr>
                  <a:t> </a:t>
                </a:r>
                <a:r>
                  <a:rPr b="0" lang="en-US" sz="1300" spc="-1" strike="noStrike">
                    <a:solidFill>
                      <a:srgbClr val="ff0000"/>
                    </a:solidFill>
                    <a:latin typeface="Century"/>
                  </a:rPr>
                  <a:t>d-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139160" y="2158920"/>
                <a:ext cx="1440" cy="385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094520" y="2077920"/>
                <a:ext cx="96840" cy="9540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61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86600" y="2530440"/>
                <a:ext cx="98280" cy="95400"/>
              </a:xfrm>
              <a:custGeom>
                <a:avLst/>
                <a:gdLst/>
                <a:ahLst/>
                <a:rect l="l" t="t" r="r" b="b"/>
                <a:pathLst>
                  <a:path w="62" h="60">
                    <a:moveTo>
                      <a:pt x="0" y="0"/>
                    </a:moveTo>
                    <a:lnTo>
                      <a:pt x="33" y="60"/>
                    </a:lnTo>
                    <a:lnTo>
                      <a:pt x="6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252920" y="2238480"/>
                <a:ext cx="19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entury"/>
                  </a:rPr>
                  <a:t>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675400" y="207792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9" y="5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622840" y="207792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9" y="5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570640" y="207792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9" y="5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518080" y="207792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9" y="5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465880" y="207792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9" y="5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413320" y="207792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9" y="5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367240" y="207792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5" y="5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284800" y="2027160"/>
                <a:ext cx="98280" cy="95400"/>
              </a:xfrm>
              <a:custGeom>
                <a:avLst/>
                <a:gdLst/>
                <a:ahLst/>
                <a:rect l="l" t="t" r="r" b="b"/>
                <a:pathLst>
                  <a:path w="62" h="60">
                    <a:moveTo>
                      <a:pt x="62" y="0"/>
                    </a:moveTo>
                    <a:lnTo>
                      <a:pt x="0" y="32"/>
                    </a:lnTo>
                    <a:lnTo>
                      <a:pt x="62" y="6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705640" y="207792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05640" y="212256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705640" y="217332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705640" y="222408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705640" y="227484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705640" y="232560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705640" y="237636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705640" y="242892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705640" y="247968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705640" y="253044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705640" y="258120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5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697360" y="2844720"/>
                <a:ext cx="1620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697360" y="294624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697360" y="300528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697360" y="310680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697360" y="316548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697360" y="326700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697360" y="3325680"/>
                <a:ext cx="16200" cy="5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697360" y="3427560"/>
                <a:ext cx="162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697360" y="348624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697360" y="358920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697360" y="364644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697360" y="3749760"/>
                <a:ext cx="162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697360" y="380700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697360" y="390996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697360" y="3968640"/>
                <a:ext cx="1620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697360" y="4070520"/>
                <a:ext cx="162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697360" y="4129200"/>
                <a:ext cx="16200" cy="5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697360" y="423072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697360" y="428940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697360" y="439092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697360" y="4449600"/>
                <a:ext cx="16200" cy="59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697360" y="4551480"/>
                <a:ext cx="162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697360" y="461016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697360" y="4711680"/>
                <a:ext cx="162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697360" y="477036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697360" y="487368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697360" y="493092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697360" y="503388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697360" y="5091120"/>
                <a:ext cx="16200" cy="5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473800" y="4711680"/>
                <a:ext cx="1270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367240" y="4646520"/>
                <a:ext cx="120600" cy="123840"/>
              </a:xfrm>
              <a:custGeom>
                <a:avLst/>
                <a:gdLst/>
                <a:ahLst/>
                <a:rect l="l" t="t" r="r" b="b"/>
                <a:pathLst>
                  <a:path w="76" h="78">
                    <a:moveTo>
                      <a:pt x="76" y="0"/>
                    </a:moveTo>
                    <a:lnTo>
                      <a:pt x="0" y="41"/>
                    </a:lnTo>
                    <a:lnTo>
                      <a:pt x="76" y="78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586480" y="4654440"/>
                <a:ext cx="119160" cy="123840"/>
              </a:xfrm>
              <a:custGeom>
                <a:avLst/>
                <a:gdLst/>
                <a:ahLst/>
                <a:rect l="l" t="t" r="r" b="b"/>
                <a:pathLst>
                  <a:path w="75" h="78">
                    <a:moveTo>
                      <a:pt x="0" y="78"/>
                    </a:moveTo>
                    <a:lnTo>
                      <a:pt x="75" y="36"/>
                    </a:lnTo>
                    <a:lnTo>
                      <a:pt x="0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810400" y="4711680"/>
                <a:ext cx="14713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705640" y="4646520"/>
                <a:ext cx="120600" cy="123840"/>
              </a:xfrm>
              <a:custGeom>
                <a:avLst/>
                <a:gdLst/>
                <a:ahLst/>
                <a:rect l="l" t="t" r="r" b="b"/>
                <a:pathLst>
                  <a:path w="76" h="78">
                    <a:moveTo>
                      <a:pt x="76" y="0"/>
                    </a:moveTo>
                    <a:lnTo>
                      <a:pt x="0" y="41"/>
                    </a:lnTo>
                    <a:lnTo>
                      <a:pt x="76" y="78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267680" y="4654440"/>
                <a:ext cx="118800" cy="123840"/>
              </a:xfrm>
              <a:custGeom>
                <a:avLst/>
                <a:gdLst/>
                <a:ahLst/>
                <a:rect l="l" t="t" r="r" b="b"/>
                <a:pathLst>
                  <a:path w="75" h="78">
                    <a:moveTo>
                      <a:pt x="0" y="78"/>
                    </a:moveTo>
                    <a:lnTo>
                      <a:pt x="75" y="36"/>
                    </a:lnTo>
                    <a:lnTo>
                      <a:pt x="0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135400" y="4711680"/>
                <a:ext cx="1270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030640" y="4646520"/>
                <a:ext cx="119160" cy="123840"/>
              </a:xfrm>
              <a:custGeom>
                <a:avLst/>
                <a:gdLst/>
                <a:ahLst/>
                <a:rect l="l" t="t" r="r" b="b"/>
                <a:pathLst>
                  <a:path w="75" h="78">
                    <a:moveTo>
                      <a:pt x="75" y="0"/>
                    </a:moveTo>
                    <a:lnTo>
                      <a:pt x="0" y="41"/>
                    </a:lnTo>
                    <a:lnTo>
                      <a:pt x="75" y="78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248440" y="4654440"/>
                <a:ext cx="118800" cy="123840"/>
              </a:xfrm>
              <a:custGeom>
                <a:avLst/>
                <a:gdLst/>
                <a:ahLst/>
                <a:rect l="l" t="t" r="r" b="b"/>
                <a:pathLst>
                  <a:path w="75" h="78">
                    <a:moveTo>
                      <a:pt x="0" y="78"/>
                    </a:moveTo>
                    <a:lnTo>
                      <a:pt x="75" y="36"/>
                    </a:lnTo>
                    <a:lnTo>
                      <a:pt x="0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5367240" y="1201320"/>
                <a:ext cx="1800" cy="219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1" name=""/>
            <p:cNvSpPr/>
            <p:nvPr/>
          </p:nvSpPr>
          <p:spPr>
            <a:xfrm>
              <a:off x="6023520" y="3962520"/>
              <a:ext cx="26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057280" y="4200480"/>
              <a:ext cx="26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3" name=""/>
            <p:cNvGrpSpPr/>
            <p:nvPr/>
          </p:nvGrpSpPr>
          <p:grpSpPr>
            <a:xfrm>
              <a:off x="5270400" y="2057400"/>
              <a:ext cx="354240" cy="9360"/>
              <a:chOff x="5270400" y="2057400"/>
              <a:chExt cx="354240" cy="9360"/>
            </a:xfrm>
          </p:grpSpPr>
          <p:sp>
            <p:nvSpPr>
              <p:cNvPr id="1894" name=""/>
              <p:cNvSpPr/>
              <p:nvPr/>
            </p:nvSpPr>
            <p:spPr>
              <a:xfrm>
                <a:off x="5270400" y="2057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8" y="0"/>
                    </a:move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288040" y="205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305320" y="205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324400" y="205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342040" y="205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361120" y="205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378400" y="205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397480" y="205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415120" y="205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433840" y="205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451480" y="205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470560" y="2057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487840" y="205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506920" y="2057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524560" y="205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543640" y="2057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560920" y="205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580000" y="2057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597640" y="205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614920" y="205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6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76440" y="4533840"/>
              <a:ext cx="3742920" cy="382680"/>
              <a:chOff x="676440" y="4533840"/>
              <a:chExt cx="3742920" cy="382680"/>
            </a:xfrm>
          </p:grpSpPr>
          <p:sp>
            <p:nvSpPr>
              <p:cNvPr id="1915" name=""/>
              <p:cNvSpPr/>
              <p:nvPr/>
            </p:nvSpPr>
            <p:spPr>
              <a:xfrm>
                <a:off x="686160" y="4533840"/>
                <a:ext cx="3723120" cy="1764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86160" y="4898880"/>
                <a:ext cx="3723120" cy="1764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76440" y="4541760"/>
                <a:ext cx="19440" cy="36504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399560" y="4541760"/>
                <a:ext cx="19800" cy="36504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903240" y="647640"/>
              <a:ext cx="7502400" cy="558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286240" y="39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576760" y="25797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029200" y="27432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5181480" y="266688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D55-5089-44EA-924A-009CCC0007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4" name=""/>
          <p:cNvGrpSpPr/>
          <p:nvPr/>
        </p:nvGrpSpPr>
        <p:grpSpPr>
          <a:xfrm>
            <a:off x="275760" y="320760"/>
            <a:ext cx="8868240" cy="5183280"/>
            <a:chOff x="275760" y="320760"/>
            <a:chExt cx="8868240" cy="5183280"/>
          </a:xfrm>
        </p:grpSpPr>
        <p:sp>
          <p:nvSpPr>
            <p:cNvPr id="1925" name=""/>
            <p:cNvSpPr/>
            <p:nvPr/>
          </p:nvSpPr>
          <p:spPr>
            <a:xfrm>
              <a:off x="689040" y="320760"/>
              <a:ext cx="7316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1640" y="320760"/>
              <a:ext cx="560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ahoma"/>
                </a:rPr>
                <a:t>Barrier Factor for Screened Potent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78280" y="2546280"/>
              <a:ext cx="8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entury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75760" y="3576600"/>
              <a:ext cx="7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Century"/>
                </a:rPr>
                <a:t>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80800" y="4245120"/>
              <a:ext cx="96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Century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78280" y="4718160"/>
              <a:ext cx="8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entury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432360" y="1158840"/>
              <a:ext cx="8183160" cy="4345200"/>
              <a:chOff x="432360" y="1158840"/>
              <a:chExt cx="8183160" cy="4345200"/>
            </a:xfrm>
          </p:grpSpPr>
          <p:sp>
            <p:nvSpPr>
              <p:cNvPr id="1932" name=""/>
              <p:cNvSpPr/>
              <p:nvPr/>
            </p:nvSpPr>
            <p:spPr>
              <a:xfrm>
                <a:off x="457200" y="1600200"/>
                <a:ext cx="3963960" cy="3887640"/>
              </a:xfrm>
              <a:prstGeom prst="rect">
                <a:avLst/>
              </a:prstGeom>
              <a:noFill/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5520" y="1674720"/>
                <a:ext cx="86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fffff"/>
                    </a:solidFill>
                    <a:latin typeface="Tahoma"/>
                  </a:rPr>
                  <a:t>Gam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96160" y="1665360"/>
                <a:ext cx="86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10000"/>
                    </a:solidFill>
                    <a:latin typeface="Tahoma"/>
                  </a:rPr>
                  <a:t>Gam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495080" y="1674720"/>
                <a:ext cx="2359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Integral over b to r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485360" y="1665360"/>
                <a:ext cx="2359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Tahoma"/>
                  </a:rPr>
                  <a:t> </a:t>
                </a:r>
                <a:r>
                  <a:rPr b="1" lang="en-US" sz="1800" spc="-1" strike="noStrike">
                    <a:solidFill>
                      <a:srgbClr val="010000"/>
                    </a:solidFill>
                    <a:latin typeface="Tahoma"/>
                  </a:rPr>
                  <a:t>Integral over b to r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41520" y="21351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ＭＳ 明朝"/>
                    <a:ea typeface="ＭＳ 明朝"/>
                  </a:rPr>
                  <a:t>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21880" y="2244600"/>
                <a:ext cx="10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entury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925560" y="2106720"/>
                <a:ext cx="518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 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= (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496880" y="21351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ＭＳ 明朝"/>
                    <a:ea typeface="ＭＳ 明朝"/>
                  </a:rPr>
                  <a:t>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680120" y="2106720"/>
                <a:ext cx="78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44560" y="2117880"/>
                <a:ext cx="23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entury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947240" y="2106720"/>
                <a:ext cx="246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/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217960" y="2135160"/>
                <a:ext cx="13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ＭＳ 明朝"/>
                    <a:ea typeface="ＭＳ 明朝"/>
                  </a:rPr>
                  <a:t>∫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08400" y="2135160"/>
                <a:ext cx="22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‚l‚r –¾’©"/>
                  </a:rPr>
                  <a:t>(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624760" y="226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‚l‚r –¾’©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07560" y="2135160"/>
                <a:ext cx="31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‚l‚r –¾’©"/>
                  </a:rPr>
                  <a:t>(r)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3174480" y="21225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299760" y="2135160"/>
                <a:ext cx="188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‚l‚r –¾’©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‚l‚r –¾’©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514680" y="2265480"/>
                <a:ext cx="9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‚l‚r –¾’©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597840" y="2135160"/>
                <a:ext cx="78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‚l‚r –¾’©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693960" y="2138400"/>
                <a:ext cx="23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‚l‚r –¾’©"/>
                  </a:rPr>
                  <a:t>1/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938040" y="2135160"/>
                <a:ext cx="249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ff"/>
                    </a:solidFill>
                    <a:latin typeface="‚l‚r –¾’©"/>
                  </a:rPr>
                  <a:t>d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12720" y="2546280"/>
                <a:ext cx="447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    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233000" y="2684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entury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203840" y="2546280"/>
                <a:ext cx="3193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(r) : Screened Potential for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66280" y="2895480"/>
                <a:ext cx="1358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d-d pair in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964160" y="2820960"/>
                <a:ext cx="7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00"/>
                    </a:solidFill>
                    <a:latin typeface="Century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040480" y="2921040"/>
                <a:ext cx="228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TRF or ORF cluster of 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42160" y="3186000"/>
                <a:ext cx="1040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deuter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68360" y="3576600"/>
                <a:ext cx="314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b is important parameter to b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5040" y="3821040"/>
                <a:ext cx="1031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Century"/>
                  </a:rPr>
                  <a:t>estimat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60440" y="4245120"/>
                <a:ext cx="3944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99"/>
                    </a:solidFill>
                    <a:latin typeface="Century"/>
                  </a:rPr>
                  <a:t>b should be far less than 70 p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32360" y="4718160"/>
                <a:ext cx="40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Century"/>
                  </a:rPr>
                  <a:t>r0 is about 5 fm for contact su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32360" y="4992840"/>
                <a:ext cx="3397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cc"/>
                    </a:solidFill>
                    <a:latin typeface="Century"/>
                  </a:rPr>
                  <a:t>reaction of strong inter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498920" y="1158840"/>
                <a:ext cx="4116600" cy="434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7" name=""/>
              <p:cNvGrpSpPr/>
              <p:nvPr/>
            </p:nvGrpSpPr>
            <p:grpSpPr>
              <a:xfrm>
                <a:off x="4414680" y="1463760"/>
                <a:ext cx="4084920" cy="3429000"/>
                <a:chOff x="4414680" y="1463760"/>
                <a:chExt cx="4084920" cy="3429000"/>
              </a:xfrm>
            </p:grpSpPr>
            <p:grpSp>
              <p:nvGrpSpPr>
                <p:cNvPr id="1968" name=""/>
                <p:cNvGrpSpPr/>
                <p:nvPr/>
              </p:nvGrpSpPr>
              <p:grpSpPr>
                <a:xfrm>
                  <a:off x="4414680" y="1463760"/>
                  <a:ext cx="169920" cy="2743200"/>
                  <a:chOff x="4414680" y="1463760"/>
                  <a:chExt cx="169920" cy="2743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479840" y="1630440"/>
                    <a:ext cx="38160" cy="2576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414680" y="1463760"/>
                    <a:ext cx="1699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07">
                        <a:moveTo>
                          <a:pt x="107" y="107"/>
                        </a:moveTo>
                        <a:lnTo>
                          <a:pt x="53" y="0"/>
                        </a:lnTo>
                        <a:lnTo>
                          <a:pt x="0" y="107"/>
                        </a:lnTo>
                        <a:lnTo>
                          <a:pt x="107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1" name=""/>
                <p:cNvGrpSpPr/>
                <p:nvPr/>
              </p:nvGrpSpPr>
              <p:grpSpPr>
                <a:xfrm>
                  <a:off x="4498920" y="4122720"/>
                  <a:ext cx="4000680" cy="169920"/>
                  <a:chOff x="4498920" y="4122720"/>
                  <a:chExt cx="4000680" cy="16992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>
                    <a:off x="4498920" y="4187880"/>
                    <a:ext cx="3834000" cy="38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8329680" y="4122720"/>
                    <a:ext cx="1699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07">
                        <a:moveTo>
                          <a:pt x="0" y="107"/>
                        </a:moveTo>
                        <a:lnTo>
                          <a:pt x="107" y="53"/>
                        </a:lnTo>
                        <a:lnTo>
                          <a:pt x="0" y="0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4" name=""/>
                <p:cNvGrpSpPr/>
                <p:nvPr/>
              </p:nvGrpSpPr>
              <p:grpSpPr>
                <a:xfrm>
                  <a:off x="4813200" y="1577880"/>
                  <a:ext cx="38160" cy="3314880"/>
                  <a:chOff x="4813200" y="1577880"/>
                  <a:chExt cx="38160" cy="331488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813200" y="15778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813200" y="16542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813200" y="17305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4813200" y="18064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4813200" y="18828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4813200" y="19591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4813200" y="20350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4813200" y="21114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4813200" y="21877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4813200" y="22636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4813200" y="23400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4813200" y="24163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4813200" y="24922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4813200" y="25686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4813200" y="26449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4813200" y="27208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4813200" y="27972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4813200" y="28735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4813200" y="29494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4813200" y="30258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813200" y="31021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813200" y="31780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813200" y="32544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4813200" y="33307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4813200" y="34066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4813200" y="34830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813200" y="35593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813200" y="36352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813200" y="37116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4813200" y="37879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4813200" y="38638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4813200" y="39402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4813200" y="40165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4813200" y="40924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4813200" y="41688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4813200" y="42451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4813200" y="43210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4813200" y="43974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4813200" y="44737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4813200" y="45496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4813200" y="46260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4813200" y="4702320"/>
                    <a:ext cx="38160" cy="3780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4813200" y="477828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4813200" y="4854600"/>
                    <a:ext cx="38160" cy="38160"/>
                  </a:xfrm>
                  <a:prstGeom prst="rect">
                    <a:avLst/>
                  </a:prstGeom>
                  <a:solidFill>
                    <a:srgbClr val="8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9" name=""/>
                <p:cNvGrpSpPr/>
                <p:nvPr/>
              </p:nvGrpSpPr>
              <p:grpSpPr>
                <a:xfrm>
                  <a:off x="4830840" y="1579680"/>
                  <a:ext cx="3403440" cy="1644480"/>
                  <a:chOff x="4830840" y="1579680"/>
                  <a:chExt cx="3403440" cy="164448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4830840" y="1579680"/>
                    <a:ext cx="135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73">
                        <a:moveTo>
                          <a:pt x="14" y="0"/>
                        </a:moveTo>
                        <a:lnTo>
                          <a:pt x="0" y="19"/>
                        </a:lnTo>
                        <a:lnTo>
                          <a:pt x="5" y="22"/>
                        </a:lnTo>
                        <a:lnTo>
                          <a:pt x="9" y="24"/>
                        </a:lnTo>
                        <a:lnTo>
                          <a:pt x="14" y="28"/>
                        </a:lnTo>
                        <a:lnTo>
                          <a:pt x="18" y="29"/>
                        </a:lnTo>
                        <a:lnTo>
                          <a:pt x="22" y="30"/>
                        </a:lnTo>
                        <a:lnTo>
                          <a:pt x="25" y="31"/>
                        </a:lnTo>
                        <a:lnTo>
                          <a:pt x="25" y="19"/>
                        </a:lnTo>
                        <a:lnTo>
                          <a:pt x="21" y="30"/>
                        </a:lnTo>
                        <a:lnTo>
                          <a:pt x="24" y="30"/>
                        </a:lnTo>
                        <a:lnTo>
                          <a:pt x="28" y="19"/>
                        </a:lnTo>
                        <a:lnTo>
                          <a:pt x="20" y="28"/>
                        </a:lnTo>
                        <a:lnTo>
                          <a:pt x="23" y="30"/>
                        </a:lnTo>
                        <a:lnTo>
                          <a:pt x="24" y="30"/>
                        </a:lnTo>
                        <a:lnTo>
                          <a:pt x="27" y="33"/>
                        </a:lnTo>
                        <a:lnTo>
                          <a:pt x="30" y="36"/>
                        </a:lnTo>
                        <a:lnTo>
                          <a:pt x="31" y="38"/>
                        </a:lnTo>
                        <a:lnTo>
                          <a:pt x="40" y="29"/>
                        </a:lnTo>
                        <a:lnTo>
                          <a:pt x="29" y="34"/>
                        </a:lnTo>
                        <a:lnTo>
                          <a:pt x="30" y="35"/>
                        </a:lnTo>
                        <a:lnTo>
                          <a:pt x="41" y="31"/>
                        </a:lnTo>
                        <a:lnTo>
                          <a:pt x="29" y="31"/>
                        </a:lnTo>
                        <a:lnTo>
                          <a:pt x="29" y="33"/>
                        </a:lnTo>
                        <a:lnTo>
                          <a:pt x="41" y="33"/>
                        </a:lnTo>
                        <a:lnTo>
                          <a:pt x="32" y="24"/>
                        </a:lnTo>
                        <a:lnTo>
                          <a:pt x="30" y="28"/>
                        </a:lnTo>
                        <a:lnTo>
                          <a:pt x="36" y="22"/>
                        </a:lnTo>
                        <a:lnTo>
                          <a:pt x="35" y="22"/>
                        </a:lnTo>
                        <a:lnTo>
                          <a:pt x="40" y="33"/>
                        </a:lnTo>
                        <a:lnTo>
                          <a:pt x="40" y="21"/>
                        </a:lnTo>
                        <a:lnTo>
                          <a:pt x="38" y="21"/>
                        </a:lnTo>
                        <a:lnTo>
                          <a:pt x="34" y="22"/>
                        </a:lnTo>
                        <a:lnTo>
                          <a:pt x="30" y="25"/>
                        </a:lnTo>
                        <a:lnTo>
                          <a:pt x="27" y="28"/>
                        </a:lnTo>
                        <a:lnTo>
                          <a:pt x="26" y="33"/>
                        </a:lnTo>
                        <a:lnTo>
                          <a:pt x="27" y="38"/>
                        </a:lnTo>
                        <a:lnTo>
                          <a:pt x="30" y="42"/>
                        </a:lnTo>
                        <a:lnTo>
                          <a:pt x="34" y="44"/>
                        </a:lnTo>
                        <a:lnTo>
                          <a:pt x="34" y="44"/>
                        </a:lnTo>
                        <a:lnTo>
                          <a:pt x="36" y="45"/>
                        </a:lnTo>
                        <a:lnTo>
                          <a:pt x="38" y="45"/>
                        </a:lnTo>
                        <a:lnTo>
                          <a:pt x="42" y="46"/>
                        </a:lnTo>
                        <a:lnTo>
                          <a:pt x="47" y="48"/>
                        </a:lnTo>
                        <a:lnTo>
                          <a:pt x="51" y="37"/>
                        </a:lnTo>
                        <a:lnTo>
                          <a:pt x="42" y="44"/>
                        </a:lnTo>
                        <a:lnTo>
                          <a:pt x="54" y="59"/>
                        </a:lnTo>
                        <a:lnTo>
                          <a:pt x="68" y="70"/>
                        </a:lnTo>
                        <a:lnTo>
                          <a:pt x="72" y="73"/>
                        </a:lnTo>
                        <a:lnTo>
                          <a:pt x="71" y="72"/>
                        </a:lnTo>
                        <a:lnTo>
                          <a:pt x="84" y="52"/>
                        </a:lnTo>
                        <a:lnTo>
                          <a:pt x="81" y="51"/>
                        </a:lnTo>
                        <a:lnTo>
                          <a:pt x="77" y="62"/>
                        </a:lnTo>
                        <a:lnTo>
                          <a:pt x="85" y="53"/>
                        </a:lnTo>
                        <a:lnTo>
                          <a:pt x="71" y="42"/>
                        </a:lnTo>
                        <a:lnTo>
                          <a:pt x="61" y="30"/>
                        </a:lnTo>
                        <a:lnTo>
                          <a:pt x="59" y="29"/>
                        </a:lnTo>
                        <a:lnTo>
                          <a:pt x="56" y="26"/>
                        </a:lnTo>
                        <a:lnTo>
                          <a:pt x="55" y="26"/>
                        </a:lnTo>
                        <a:lnTo>
                          <a:pt x="51" y="24"/>
                        </a:lnTo>
                        <a:lnTo>
                          <a:pt x="47" y="23"/>
                        </a:lnTo>
                        <a:lnTo>
                          <a:pt x="45" y="23"/>
                        </a:lnTo>
                        <a:lnTo>
                          <a:pt x="43" y="22"/>
                        </a:lnTo>
                        <a:lnTo>
                          <a:pt x="43" y="22"/>
                        </a:lnTo>
                        <a:lnTo>
                          <a:pt x="43" y="44"/>
                        </a:lnTo>
                        <a:lnTo>
                          <a:pt x="47" y="42"/>
                        </a:lnTo>
                        <a:lnTo>
                          <a:pt x="49" y="38"/>
                        </a:lnTo>
                        <a:lnTo>
                          <a:pt x="50" y="33"/>
                        </a:lnTo>
                        <a:lnTo>
                          <a:pt x="49" y="28"/>
                        </a:lnTo>
                        <a:lnTo>
                          <a:pt x="47" y="25"/>
                        </a:lnTo>
                        <a:lnTo>
                          <a:pt x="38" y="33"/>
                        </a:lnTo>
                        <a:lnTo>
                          <a:pt x="38" y="45"/>
                        </a:lnTo>
                        <a:lnTo>
                          <a:pt x="40" y="45"/>
                        </a:lnTo>
                        <a:lnTo>
                          <a:pt x="44" y="44"/>
                        </a:lnTo>
                        <a:lnTo>
                          <a:pt x="45" y="44"/>
                        </a:lnTo>
                        <a:lnTo>
                          <a:pt x="49" y="41"/>
                        </a:lnTo>
                        <a:lnTo>
                          <a:pt x="52" y="37"/>
                        </a:lnTo>
                        <a:lnTo>
                          <a:pt x="53" y="33"/>
                        </a:lnTo>
                        <a:lnTo>
                          <a:pt x="53" y="33"/>
                        </a:lnTo>
                        <a:lnTo>
                          <a:pt x="53" y="31"/>
                        </a:lnTo>
                        <a:lnTo>
                          <a:pt x="52" y="26"/>
                        </a:lnTo>
                        <a:lnTo>
                          <a:pt x="51" y="25"/>
                        </a:lnTo>
                        <a:lnTo>
                          <a:pt x="48" y="21"/>
                        </a:lnTo>
                        <a:lnTo>
                          <a:pt x="47" y="19"/>
                        </a:lnTo>
                        <a:lnTo>
                          <a:pt x="44" y="16"/>
                        </a:lnTo>
                        <a:lnTo>
                          <a:pt x="39" y="12"/>
                        </a:lnTo>
                        <a:lnTo>
                          <a:pt x="31" y="21"/>
                        </a:lnTo>
                        <a:lnTo>
                          <a:pt x="40" y="13"/>
                        </a:lnTo>
                        <a:lnTo>
                          <a:pt x="37" y="11"/>
                        </a:lnTo>
                        <a:lnTo>
                          <a:pt x="33" y="8"/>
                        </a:lnTo>
                        <a:lnTo>
                          <a:pt x="30" y="8"/>
                        </a:lnTo>
                        <a:lnTo>
                          <a:pt x="25" y="7"/>
                        </a:lnTo>
                        <a:lnTo>
                          <a:pt x="22" y="6"/>
                        </a:lnTo>
                        <a:lnTo>
                          <a:pt x="22" y="18"/>
                        </a:lnTo>
                        <a:lnTo>
                          <a:pt x="27" y="7"/>
                        </a:lnTo>
                        <a:lnTo>
                          <a:pt x="25" y="7"/>
                        </a:lnTo>
                        <a:lnTo>
                          <a:pt x="18" y="2"/>
                        </a:lnTo>
                        <a:lnTo>
                          <a:pt x="13" y="13"/>
                        </a:lnTo>
                        <a:lnTo>
                          <a:pt x="22" y="5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5030640" y="1735200"/>
                    <a:ext cx="1587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62">
                        <a:moveTo>
                          <a:pt x="20" y="0"/>
                        </a:moveTo>
                        <a:lnTo>
                          <a:pt x="0" y="13"/>
                        </a:lnTo>
                        <a:lnTo>
                          <a:pt x="3" y="17"/>
                        </a:lnTo>
                        <a:lnTo>
                          <a:pt x="5" y="20"/>
                        </a:lnTo>
                        <a:lnTo>
                          <a:pt x="7" y="21"/>
                        </a:lnTo>
                        <a:lnTo>
                          <a:pt x="11" y="23"/>
                        </a:lnTo>
                        <a:lnTo>
                          <a:pt x="14" y="24"/>
                        </a:lnTo>
                        <a:lnTo>
                          <a:pt x="18" y="25"/>
                        </a:lnTo>
                        <a:lnTo>
                          <a:pt x="24" y="27"/>
                        </a:lnTo>
                        <a:lnTo>
                          <a:pt x="33" y="30"/>
                        </a:lnTo>
                        <a:lnTo>
                          <a:pt x="39" y="33"/>
                        </a:lnTo>
                        <a:lnTo>
                          <a:pt x="43" y="22"/>
                        </a:lnTo>
                        <a:lnTo>
                          <a:pt x="35" y="31"/>
                        </a:lnTo>
                        <a:lnTo>
                          <a:pt x="41" y="36"/>
                        </a:lnTo>
                        <a:lnTo>
                          <a:pt x="46" y="40"/>
                        </a:lnTo>
                        <a:lnTo>
                          <a:pt x="50" y="43"/>
                        </a:lnTo>
                        <a:lnTo>
                          <a:pt x="57" y="46"/>
                        </a:lnTo>
                        <a:lnTo>
                          <a:pt x="61" y="35"/>
                        </a:lnTo>
                        <a:lnTo>
                          <a:pt x="57" y="46"/>
                        </a:lnTo>
                        <a:lnTo>
                          <a:pt x="62" y="48"/>
                        </a:lnTo>
                        <a:lnTo>
                          <a:pt x="65" y="49"/>
                        </a:lnTo>
                        <a:lnTo>
                          <a:pt x="67" y="50"/>
                        </a:lnTo>
                        <a:lnTo>
                          <a:pt x="69" y="51"/>
                        </a:lnTo>
                        <a:lnTo>
                          <a:pt x="70" y="51"/>
                        </a:lnTo>
                        <a:lnTo>
                          <a:pt x="72" y="53"/>
                        </a:lnTo>
                        <a:lnTo>
                          <a:pt x="76" y="55"/>
                        </a:lnTo>
                        <a:lnTo>
                          <a:pt x="79" y="57"/>
                        </a:lnTo>
                        <a:lnTo>
                          <a:pt x="85" y="47"/>
                        </a:lnTo>
                        <a:lnTo>
                          <a:pt x="77" y="55"/>
                        </a:lnTo>
                        <a:lnTo>
                          <a:pt x="75" y="54"/>
                        </a:lnTo>
                        <a:lnTo>
                          <a:pt x="78" y="57"/>
                        </a:lnTo>
                        <a:lnTo>
                          <a:pt x="81" y="61"/>
                        </a:lnTo>
                        <a:lnTo>
                          <a:pt x="83" y="62"/>
                        </a:lnTo>
                        <a:lnTo>
                          <a:pt x="99" y="45"/>
                        </a:lnTo>
                        <a:lnTo>
                          <a:pt x="98" y="44"/>
                        </a:lnTo>
                        <a:lnTo>
                          <a:pt x="89" y="53"/>
                        </a:lnTo>
                        <a:lnTo>
                          <a:pt x="100" y="48"/>
                        </a:lnTo>
                        <a:lnTo>
                          <a:pt x="95" y="41"/>
                        </a:lnTo>
                        <a:lnTo>
                          <a:pt x="93" y="39"/>
                        </a:lnTo>
                        <a:lnTo>
                          <a:pt x="92" y="37"/>
                        </a:lnTo>
                        <a:lnTo>
                          <a:pt x="85" y="33"/>
                        </a:lnTo>
                        <a:lnTo>
                          <a:pt x="81" y="31"/>
                        </a:lnTo>
                        <a:lnTo>
                          <a:pt x="79" y="29"/>
                        </a:lnTo>
                        <a:lnTo>
                          <a:pt x="78" y="29"/>
                        </a:lnTo>
                        <a:lnTo>
                          <a:pt x="76" y="28"/>
                        </a:lnTo>
                        <a:lnTo>
                          <a:pt x="74" y="27"/>
                        </a:lnTo>
                        <a:lnTo>
                          <a:pt x="71" y="26"/>
                        </a:lnTo>
                        <a:lnTo>
                          <a:pt x="66" y="24"/>
                        </a:lnTo>
                        <a:lnTo>
                          <a:pt x="65" y="24"/>
                        </a:lnTo>
                        <a:lnTo>
                          <a:pt x="59" y="21"/>
                        </a:lnTo>
                        <a:lnTo>
                          <a:pt x="55" y="32"/>
                        </a:lnTo>
                        <a:lnTo>
                          <a:pt x="63" y="23"/>
                        </a:lnTo>
                        <a:lnTo>
                          <a:pt x="58" y="19"/>
                        </a:lnTo>
                        <a:lnTo>
                          <a:pt x="52" y="14"/>
                        </a:lnTo>
                        <a:lnTo>
                          <a:pt x="48" y="11"/>
                        </a:lnTo>
                        <a:lnTo>
                          <a:pt x="41" y="8"/>
                        </a:lnTo>
                        <a:lnTo>
                          <a:pt x="33" y="5"/>
                        </a:lnTo>
                        <a:lnTo>
                          <a:pt x="27" y="3"/>
                        </a:lnTo>
                        <a:lnTo>
                          <a:pt x="23" y="2"/>
                        </a:lnTo>
                        <a:lnTo>
                          <a:pt x="20" y="1"/>
                        </a:lnTo>
                        <a:lnTo>
                          <a:pt x="15" y="12"/>
                        </a:lnTo>
                        <a:lnTo>
                          <a:pt x="24" y="4"/>
                        </a:lnTo>
                        <a:lnTo>
                          <a:pt x="22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5265720" y="1859040"/>
                    <a:ext cx="1494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0">
                        <a:moveTo>
                          <a:pt x="11" y="0"/>
                        </a:moveTo>
                        <a:lnTo>
                          <a:pt x="0" y="21"/>
                        </a:lnTo>
                        <a:lnTo>
                          <a:pt x="31" y="39"/>
                        </a:lnTo>
                        <a:lnTo>
                          <a:pt x="58" y="55"/>
                        </a:lnTo>
                        <a:lnTo>
                          <a:pt x="63" y="44"/>
                        </a:lnTo>
                        <a:lnTo>
                          <a:pt x="54" y="52"/>
                        </a:lnTo>
                        <a:lnTo>
                          <a:pt x="81" y="70"/>
                        </a:lnTo>
                        <a:lnTo>
                          <a:pt x="94" y="51"/>
                        </a:lnTo>
                        <a:lnTo>
                          <a:pt x="71" y="35"/>
                        </a:lnTo>
                        <a:lnTo>
                          <a:pt x="67" y="33"/>
                        </a:lnTo>
                        <a:lnTo>
                          <a:pt x="40" y="17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5491080" y="1998720"/>
                    <a:ext cx="13824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75">
                        <a:moveTo>
                          <a:pt x="14" y="0"/>
                        </a:moveTo>
                        <a:lnTo>
                          <a:pt x="0" y="19"/>
                        </a:lnTo>
                        <a:lnTo>
                          <a:pt x="5" y="22"/>
                        </a:lnTo>
                        <a:lnTo>
                          <a:pt x="12" y="27"/>
                        </a:lnTo>
                        <a:lnTo>
                          <a:pt x="14" y="28"/>
                        </a:lnTo>
                        <a:lnTo>
                          <a:pt x="18" y="31"/>
                        </a:lnTo>
                        <a:lnTo>
                          <a:pt x="22" y="33"/>
                        </a:lnTo>
                        <a:lnTo>
                          <a:pt x="25" y="35"/>
                        </a:lnTo>
                        <a:lnTo>
                          <a:pt x="25" y="35"/>
                        </a:lnTo>
                        <a:lnTo>
                          <a:pt x="31" y="25"/>
                        </a:lnTo>
                        <a:lnTo>
                          <a:pt x="22" y="32"/>
                        </a:lnTo>
                        <a:lnTo>
                          <a:pt x="27" y="40"/>
                        </a:lnTo>
                        <a:lnTo>
                          <a:pt x="35" y="32"/>
                        </a:lnTo>
                        <a:lnTo>
                          <a:pt x="24" y="36"/>
                        </a:lnTo>
                        <a:lnTo>
                          <a:pt x="27" y="40"/>
                        </a:lnTo>
                        <a:lnTo>
                          <a:pt x="28" y="41"/>
                        </a:lnTo>
                        <a:lnTo>
                          <a:pt x="30" y="45"/>
                        </a:lnTo>
                        <a:lnTo>
                          <a:pt x="34" y="48"/>
                        </a:lnTo>
                        <a:lnTo>
                          <a:pt x="35" y="48"/>
                        </a:lnTo>
                        <a:lnTo>
                          <a:pt x="39" y="49"/>
                        </a:lnTo>
                        <a:lnTo>
                          <a:pt x="44" y="48"/>
                        </a:lnTo>
                        <a:lnTo>
                          <a:pt x="44" y="48"/>
                        </a:lnTo>
                        <a:lnTo>
                          <a:pt x="40" y="37"/>
                        </a:lnTo>
                        <a:lnTo>
                          <a:pt x="40" y="49"/>
                        </a:lnTo>
                        <a:lnTo>
                          <a:pt x="42" y="49"/>
                        </a:lnTo>
                        <a:lnTo>
                          <a:pt x="42" y="37"/>
                        </a:lnTo>
                        <a:lnTo>
                          <a:pt x="37" y="48"/>
                        </a:lnTo>
                        <a:lnTo>
                          <a:pt x="41" y="49"/>
                        </a:lnTo>
                        <a:lnTo>
                          <a:pt x="45" y="52"/>
                        </a:lnTo>
                        <a:lnTo>
                          <a:pt x="46" y="52"/>
                        </a:lnTo>
                        <a:lnTo>
                          <a:pt x="56" y="58"/>
                        </a:lnTo>
                        <a:lnTo>
                          <a:pt x="60" y="47"/>
                        </a:lnTo>
                        <a:lnTo>
                          <a:pt x="52" y="56"/>
                        </a:lnTo>
                        <a:lnTo>
                          <a:pt x="60" y="63"/>
                        </a:lnTo>
                        <a:lnTo>
                          <a:pt x="69" y="69"/>
                        </a:lnTo>
                        <a:lnTo>
                          <a:pt x="73" y="72"/>
                        </a:lnTo>
                        <a:lnTo>
                          <a:pt x="80" y="75"/>
                        </a:lnTo>
                        <a:lnTo>
                          <a:pt x="87" y="52"/>
                        </a:lnTo>
                        <a:lnTo>
                          <a:pt x="82" y="50"/>
                        </a:lnTo>
                        <a:lnTo>
                          <a:pt x="77" y="61"/>
                        </a:lnTo>
                        <a:lnTo>
                          <a:pt x="86" y="52"/>
                        </a:lnTo>
                        <a:lnTo>
                          <a:pt x="77" y="46"/>
                        </a:lnTo>
                        <a:lnTo>
                          <a:pt x="69" y="39"/>
                        </a:lnTo>
                        <a:lnTo>
                          <a:pt x="65" y="36"/>
                        </a:lnTo>
                        <a:lnTo>
                          <a:pt x="57" y="31"/>
                        </a:lnTo>
                        <a:lnTo>
                          <a:pt x="51" y="41"/>
                        </a:lnTo>
                        <a:lnTo>
                          <a:pt x="57" y="31"/>
                        </a:lnTo>
                        <a:lnTo>
                          <a:pt x="50" y="27"/>
                        </a:lnTo>
                        <a:lnTo>
                          <a:pt x="46" y="26"/>
                        </a:lnTo>
                        <a:lnTo>
                          <a:pt x="42" y="25"/>
                        </a:lnTo>
                        <a:lnTo>
                          <a:pt x="40" y="25"/>
                        </a:lnTo>
                        <a:lnTo>
                          <a:pt x="35" y="26"/>
                        </a:lnTo>
                        <a:lnTo>
                          <a:pt x="35" y="26"/>
                        </a:lnTo>
                        <a:lnTo>
                          <a:pt x="39" y="25"/>
                        </a:lnTo>
                        <a:lnTo>
                          <a:pt x="39" y="37"/>
                        </a:lnTo>
                        <a:lnTo>
                          <a:pt x="44" y="26"/>
                        </a:lnTo>
                        <a:lnTo>
                          <a:pt x="43" y="26"/>
                        </a:lnTo>
                        <a:lnTo>
                          <a:pt x="47" y="28"/>
                        </a:lnTo>
                        <a:lnTo>
                          <a:pt x="39" y="37"/>
                        </a:lnTo>
                        <a:lnTo>
                          <a:pt x="50" y="32"/>
                        </a:lnTo>
                        <a:lnTo>
                          <a:pt x="49" y="31"/>
                        </a:lnTo>
                        <a:lnTo>
                          <a:pt x="46" y="27"/>
                        </a:lnTo>
                        <a:lnTo>
                          <a:pt x="44" y="23"/>
                        </a:lnTo>
                        <a:lnTo>
                          <a:pt x="41" y="19"/>
                        </a:lnTo>
                        <a:lnTo>
                          <a:pt x="39" y="17"/>
                        </a:lnTo>
                        <a:lnTo>
                          <a:pt x="37" y="15"/>
                        </a:lnTo>
                        <a:lnTo>
                          <a:pt x="34" y="13"/>
                        </a:lnTo>
                        <a:lnTo>
                          <a:pt x="31" y="11"/>
                        </a:lnTo>
                        <a:lnTo>
                          <a:pt x="27" y="9"/>
                        </a:lnTo>
                        <a:lnTo>
                          <a:pt x="23" y="20"/>
                        </a:lnTo>
                        <a:lnTo>
                          <a:pt x="31" y="11"/>
                        </a:lnTo>
                        <a:lnTo>
                          <a:pt x="26" y="8"/>
                        </a:lnTo>
                        <a:lnTo>
                          <a:pt x="22" y="5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5718240" y="2131920"/>
                    <a:ext cx="1522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66">
                        <a:moveTo>
                          <a:pt x="11" y="0"/>
                        </a:moveTo>
                        <a:lnTo>
                          <a:pt x="0" y="21"/>
                        </a:lnTo>
                        <a:lnTo>
                          <a:pt x="15" y="29"/>
                        </a:lnTo>
                        <a:lnTo>
                          <a:pt x="55" y="50"/>
                        </a:lnTo>
                        <a:lnTo>
                          <a:pt x="84" y="66"/>
                        </a:lnTo>
                        <a:lnTo>
                          <a:pt x="96" y="46"/>
                        </a:lnTo>
                        <a:lnTo>
                          <a:pt x="64" y="28"/>
                        </a:lnTo>
                        <a:lnTo>
                          <a:pt x="24" y="7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5951520" y="2260440"/>
                    <a:ext cx="1508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6">
                        <a:moveTo>
                          <a:pt x="11" y="0"/>
                        </a:moveTo>
                        <a:lnTo>
                          <a:pt x="0" y="21"/>
                        </a:lnTo>
                        <a:lnTo>
                          <a:pt x="6" y="25"/>
                        </a:lnTo>
                        <a:lnTo>
                          <a:pt x="10" y="14"/>
                        </a:lnTo>
                        <a:lnTo>
                          <a:pt x="2" y="23"/>
                        </a:lnTo>
                        <a:lnTo>
                          <a:pt x="10" y="30"/>
                        </a:lnTo>
                        <a:lnTo>
                          <a:pt x="19" y="36"/>
                        </a:lnTo>
                        <a:lnTo>
                          <a:pt x="23" y="39"/>
                        </a:lnTo>
                        <a:lnTo>
                          <a:pt x="34" y="44"/>
                        </a:lnTo>
                        <a:lnTo>
                          <a:pt x="37" y="32"/>
                        </a:lnTo>
                        <a:lnTo>
                          <a:pt x="33" y="43"/>
                        </a:lnTo>
                        <a:lnTo>
                          <a:pt x="58" y="53"/>
                        </a:lnTo>
                        <a:lnTo>
                          <a:pt x="82" y="66"/>
                        </a:lnTo>
                        <a:lnTo>
                          <a:pt x="83" y="66"/>
                        </a:lnTo>
                        <a:lnTo>
                          <a:pt x="95" y="46"/>
                        </a:lnTo>
                        <a:lnTo>
                          <a:pt x="91" y="44"/>
                        </a:lnTo>
                        <a:lnTo>
                          <a:pt x="67" y="31"/>
                        </a:lnTo>
                        <a:lnTo>
                          <a:pt x="41" y="21"/>
                        </a:lnTo>
                        <a:lnTo>
                          <a:pt x="41" y="21"/>
                        </a:lnTo>
                        <a:lnTo>
                          <a:pt x="32" y="17"/>
                        </a:lnTo>
                        <a:lnTo>
                          <a:pt x="27" y="28"/>
                        </a:lnTo>
                        <a:lnTo>
                          <a:pt x="36" y="19"/>
                        </a:lnTo>
                        <a:lnTo>
                          <a:pt x="27" y="13"/>
                        </a:lnTo>
                        <a:lnTo>
                          <a:pt x="19" y="6"/>
                        </a:lnTo>
                        <a:lnTo>
                          <a:pt x="15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6181560" y="2390760"/>
                    <a:ext cx="1558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3">
                        <a:moveTo>
                          <a:pt x="13" y="0"/>
                        </a:moveTo>
                        <a:lnTo>
                          <a:pt x="0" y="20"/>
                        </a:lnTo>
                        <a:lnTo>
                          <a:pt x="8" y="25"/>
                        </a:lnTo>
                        <a:lnTo>
                          <a:pt x="18" y="32"/>
                        </a:lnTo>
                        <a:lnTo>
                          <a:pt x="31" y="39"/>
                        </a:lnTo>
                        <a:lnTo>
                          <a:pt x="44" y="43"/>
                        </a:lnTo>
                        <a:lnTo>
                          <a:pt x="57" y="47"/>
                        </a:lnTo>
                        <a:lnTo>
                          <a:pt x="61" y="36"/>
                        </a:lnTo>
                        <a:lnTo>
                          <a:pt x="53" y="45"/>
                        </a:lnTo>
                        <a:lnTo>
                          <a:pt x="66" y="52"/>
                        </a:lnTo>
                        <a:lnTo>
                          <a:pt x="85" y="63"/>
                        </a:lnTo>
                        <a:lnTo>
                          <a:pt x="98" y="44"/>
                        </a:lnTo>
                        <a:lnTo>
                          <a:pt x="79" y="33"/>
                        </a:lnTo>
                        <a:lnTo>
                          <a:pt x="70" y="28"/>
                        </a:lnTo>
                        <a:lnTo>
                          <a:pt x="66" y="25"/>
                        </a:lnTo>
                        <a:lnTo>
                          <a:pt x="53" y="21"/>
                        </a:lnTo>
                        <a:lnTo>
                          <a:pt x="40" y="17"/>
                        </a:lnTo>
                        <a:lnTo>
                          <a:pt x="31" y="12"/>
                        </a:lnTo>
                        <a:lnTo>
                          <a:pt x="17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6423120" y="2505240"/>
                    <a:ext cx="1569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8">
                        <a:moveTo>
                          <a:pt x="11" y="0"/>
                        </a:moveTo>
                        <a:lnTo>
                          <a:pt x="0" y="21"/>
                        </a:lnTo>
                        <a:lnTo>
                          <a:pt x="6" y="25"/>
                        </a:lnTo>
                        <a:lnTo>
                          <a:pt x="11" y="29"/>
                        </a:lnTo>
                        <a:lnTo>
                          <a:pt x="18" y="32"/>
                        </a:lnTo>
                        <a:lnTo>
                          <a:pt x="24" y="33"/>
                        </a:lnTo>
                        <a:lnTo>
                          <a:pt x="36" y="37"/>
                        </a:lnTo>
                        <a:lnTo>
                          <a:pt x="40" y="26"/>
                        </a:lnTo>
                        <a:lnTo>
                          <a:pt x="35" y="37"/>
                        </a:lnTo>
                        <a:lnTo>
                          <a:pt x="42" y="41"/>
                        </a:lnTo>
                        <a:lnTo>
                          <a:pt x="47" y="45"/>
                        </a:lnTo>
                        <a:lnTo>
                          <a:pt x="48" y="45"/>
                        </a:lnTo>
                        <a:lnTo>
                          <a:pt x="57" y="48"/>
                        </a:lnTo>
                        <a:lnTo>
                          <a:pt x="66" y="50"/>
                        </a:lnTo>
                        <a:lnTo>
                          <a:pt x="75" y="53"/>
                        </a:lnTo>
                        <a:lnTo>
                          <a:pt x="80" y="42"/>
                        </a:lnTo>
                        <a:lnTo>
                          <a:pt x="71" y="50"/>
                        </a:lnTo>
                        <a:lnTo>
                          <a:pt x="81" y="56"/>
                        </a:lnTo>
                        <a:lnTo>
                          <a:pt x="85" y="58"/>
                        </a:lnTo>
                        <a:lnTo>
                          <a:pt x="99" y="39"/>
                        </a:lnTo>
                        <a:lnTo>
                          <a:pt x="95" y="37"/>
                        </a:lnTo>
                        <a:lnTo>
                          <a:pt x="88" y="33"/>
                        </a:lnTo>
                        <a:lnTo>
                          <a:pt x="84" y="31"/>
                        </a:lnTo>
                        <a:lnTo>
                          <a:pt x="75" y="28"/>
                        </a:lnTo>
                        <a:lnTo>
                          <a:pt x="66" y="26"/>
                        </a:lnTo>
                        <a:lnTo>
                          <a:pt x="57" y="23"/>
                        </a:lnTo>
                        <a:lnTo>
                          <a:pt x="52" y="34"/>
                        </a:lnTo>
                        <a:lnTo>
                          <a:pt x="58" y="24"/>
                        </a:lnTo>
                        <a:lnTo>
                          <a:pt x="51" y="19"/>
                        </a:lnTo>
                        <a:lnTo>
                          <a:pt x="46" y="16"/>
                        </a:lnTo>
                        <a:lnTo>
                          <a:pt x="45" y="15"/>
                        </a:lnTo>
                        <a:lnTo>
                          <a:pt x="33" y="11"/>
                        </a:lnTo>
                        <a:lnTo>
                          <a:pt x="27" y="10"/>
                        </a:lnTo>
                        <a:lnTo>
                          <a:pt x="22" y="8"/>
                        </a:lnTo>
                        <a:lnTo>
                          <a:pt x="15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6664320" y="2611440"/>
                    <a:ext cx="1555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59">
                        <a:moveTo>
                          <a:pt x="10" y="0"/>
                        </a:moveTo>
                        <a:lnTo>
                          <a:pt x="0" y="22"/>
                        </a:lnTo>
                        <a:lnTo>
                          <a:pt x="20" y="31"/>
                        </a:lnTo>
                        <a:lnTo>
                          <a:pt x="43" y="39"/>
                        </a:lnTo>
                        <a:lnTo>
                          <a:pt x="54" y="43"/>
                        </a:lnTo>
                        <a:lnTo>
                          <a:pt x="65" y="47"/>
                        </a:lnTo>
                        <a:lnTo>
                          <a:pt x="68" y="35"/>
                        </a:lnTo>
                        <a:lnTo>
                          <a:pt x="63" y="46"/>
                        </a:lnTo>
                        <a:lnTo>
                          <a:pt x="70" y="50"/>
                        </a:lnTo>
                        <a:lnTo>
                          <a:pt x="75" y="54"/>
                        </a:lnTo>
                        <a:lnTo>
                          <a:pt x="76" y="54"/>
                        </a:lnTo>
                        <a:lnTo>
                          <a:pt x="89" y="59"/>
                        </a:lnTo>
                        <a:lnTo>
                          <a:pt x="98" y="37"/>
                        </a:lnTo>
                        <a:lnTo>
                          <a:pt x="85" y="32"/>
                        </a:lnTo>
                        <a:lnTo>
                          <a:pt x="80" y="43"/>
                        </a:lnTo>
                        <a:lnTo>
                          <a:pt x="86" y="33"/>
                        </a:lnTo>
                        <a:lnTo>
                          <a:pt x="79" y="28"/>
                        </a:lnTo>
                        <a:lnTo>
                          <a:pt x="74" y="25"/>
                        </a:lnTo>
                        <a:lnTo>
                          <a:pt x="72" y="24"/>
                        </a:lnTo>
                        <a:lnTo>
                          <a:pt x="63" y="21"/>
                        </a:lnTo>
                        <a:lnTo>
                          <a:pt x="52" y="17"/>
                        </a:lnTo>
                        <a:lnTo>
                          <a:pt x="29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6908760" y="2714760"/>
                    <a:ext cx="155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60">
                        <a:moveTo>
                          <a:pt x="11" y="0"/>
                        </a:moveTo>
                        <a:lnTo>
                          <a:pt x="0" y="21"/>
                        </a:lnTo>
                        <a:lnTo>
                          <a:pt x="5" y="25"/>
                        </a:lnTo>
                        <a:lnTo>
                          <a:pt x="11" y="27"/>
                        </a:lnTo>
                        <a:lnTo>
                          <a:pt x="16" y="29"/>
                        </a:lnTo>
                        <a:lnTo>
                          <a:pt x="30" y="32"/>
                        </a:lnTo>
                        <a:lnTo>
                          <a:pt x="43" y="36"/>
                        </a:lnTo>
                        <a:lnTo>
                          <a:pt x="49" y="38"/>
                        </a:lnTo>
                        <a:lnTo>
                          <a:pt x="52" y="40"/>
                        </a:lnTo>
                        <a:lnTo>
                          <a:pt x="76" y="54"/>
                        </a:lnTo>
                        <a:lnTo>
                          <a:pt x="87" y="60"/>
                        </a:lnTo>
                        <a:lnTo>
                          <a:pt x="98" y="39"/>
                        </a:lnTo>
                        <a:lnTo>
                          <a:pt x="85" y="32"/>
                        </a:lnTo>
                        <a:lnTo>
                          <a:pt x="65" y="20"/>
                        </a:lnTo>
                        <a:lnTo>
                          <a:pt x="58" y="16"/>
                        </a:lnTo>
                        <a:lnTo>
                          <a:pt x="52" y="14"/>
                        </a:lnTo>
                        <a:lnTo>
                          <a:pt x="39" y="10"/>
                        </a:lnTo>
                        <a:lnTo>
                          <a:pt x="25" y="7"/>
                        </a:lnTo>
                        <a:lnTo>
                          <a:pt x="20" y="5"/>
                        </a:lnTo>
                        <a:lnTo>
                          <a:pt x="16" y="4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7151760" y="2820960"/>
                    <a:ext cx="1620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52">
                        <a:moveTo>
                          <a:pt x="11" y="0"/>
                        </a:moveTo>
                        <a:lnTo>
                          <a:pt x="0" y="21"/>
                        </a:lnTo>
                        <a:lnTo>
                          <a:pt x="3" y="22"/>
                        </a:lnTo>
                        <a:lnTo>
                          <a:pt x="8" y="26"/>
                        </a:lnTo>
                        <a:lnTo>
                          <a:pt x="8" y="26"/>
                        </a:lnTo>
                        <a:lnTo>
                          <a:pt x="18" y="30"/>
                        </a:lnTo>
                        <a:lnTo>
                          <a:pt x="28" y="33"/>
                        </a:lnTo>
                        <a:lnTo>
                          <a:pt x="52" y="39"/>
                        </a:lnTo>
                        <a:lnTo>
                          <a:pt x="64" y="43"/>
                        </a:lnTo>
                        <a:lnTo>
                          <a:pt x="75" y="46"/>
                        </a:lnTo>
                        <a:lnTo>
                          <a:pt x="85" y="50"/>
                        </a:lnTo>
                        <a:lnTo>
                          <a:pt x="89" y="52"/>
                        </a:lnTo>
                        <a:lnTo>
                          <a:pt x="102" y="32"/>
                        </a:lnTo>
                        <a:lnTo>
                          <a:pt x="94" y="28"/>
                        </a:lnTo>
                        <a:lnTo>
                          <a:pt x="84" y="24"/>
                        </a:lnTo>
                        <a:lnTo>
                          <a:pt x="73" y="21"/>
                        </a:lnTo>
                        <a:lnTo>
                          <a:pt x="61" y="17"/>
                        </a:lnTo>
                        <a:lnTo>
                          <a:pt x="37" y="11"/>
                        </a:lnTo>
                        <a:lnTo>
                          <a:pt x="27" y="8"/>
                        </a:lnTo>
                        <a:lnTo>
                          <a:pt x="18" y="4"/>
                        </a:lnTo>
                        <a:lnTo>
                          <a:pt x="13" y="15"/>
                        </a:lnTo>
                        <a:lnTo>
                          <a:pt x="19" y="5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7399440" y="2916360"/>
                    <a:ext cx="1555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59">
                        <a:moveTo>
                          <a:pt x="10" y="0"/>
                        </a:moveTo>
                        <a:lnTo>
                          <a:pt x="0" y="22"/>
                        </a:lnTo>
                        <a:lnTo>
                          <a:pt x="8" y="26"/>
                        </a:lnTo>
                        <a:lnTo>
                          <a:pt x="9" y="26"/>
                        </a:lnTo>
                        <a:lnTo>
                          <a:pt x="27" y="32"/>
                        </a:lnTo>
                        <a:lnTo>
                          <a:pt x="45" y="38"/>
                        </a:lnTo>
                        <a:lnTo>
                          <a:pt x="49" y="27"/>
                        </a:lnTo>
                        <a:lnTo>
                          <a:pt x="44" y="38"/>
                        </a:lnTo>
                        <a:lnTo>
                          <a:pt x="51" y="42"/>
                        </a:lnTo>
                        <a:lnTo>
                          <a:pt x="56" y="46"/>
                        </a:lnTo>
                        <a:lnTo>
                          <a:pt x="63" y="49"/>
                        </a:lnTo>
                        <a:lnTo>
                          <a:pt x="69" y="50"/>
                        </a:lnTo>
                        <a:lnTo>
                          <a:pt x="81" y="54"/>
                        </a:lnTo>
                        <a:lnTo>
                          <a:pt x="85" y="43"/>
                        </a:lnTo>
                        <a:lnTo>
                          <a:pt x="80" y="54"/>
                        </a:lnTo>
                        <a:lnTo>
                          <a:pt x="87" y="58"/>
                        </a:lnTo>
                        <a:lnTo>
                          <a:pt x="87" y="59"/>
                        </a:lnTo>
                        <a:lnTo>
                          <a:pt x="98" y="38"/>
                        </a:lnTo>
                        <a:lnTo>
                          <a:pt x="96" y="36"/>
                        </a:lnTo>
                        <a:lnTo>
                          <a:pt x="91" y="33"/>
                        </a:lnTo>
                        <a:lnTo>
                          <a:pt x="90" y="32"/>
                        </a:lnTo>
                        <a:lnTo>
                          <a:pt x="78" y="28"/>
                        </a:lnTo>
                        <a:lnTo>
                          <a:pt x="72" y="27"/>
                        </a:lnTo>
                        <a:lnTo>
                          <a:pt x="67" y="25"/>
                        </a:lnTo>
                        <a:lnTo>
                          <a:pt x="60" y="20"/>
                        </a:lnTo>
                        <a:lnTo>
                          <a:pt x="55" y="17"/>
                        </a:lnTo>
                        <a:lnTo>
                          <a:pt x="53" y="16"/>
                        </a:lnTo>
                        <a:lnTo>
                          <a:pt x="36" y="10"/>
                        </a:lnTo>
                        <a:lnTo>
                          <a:pt x="18" y="4"/>
                        </a:lnTo>
                        <a:lnTo>
                          <a:pt x="13" y="15"/>
                        </a:lnTo>
                        <a:lnTo>
                          <a:pt x="18" y="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7643880" y="3019320"/>
                    <a:ext cx="158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1">
                        <a:moveTo>
                          <a:pt x="9" y="0"/>
                        </a:move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36" y="34"/>
                        </a:lnTo>
                        <a:lnTo>
                          <a:pt x="39" y="22"/>
                        </a:lnTo>
                        <a:lnTo>
                          <a:pt x="35" y="33"/>
                        </a:lnTo>
                        <a:lnTo>
                          <a:pt x="92" y="51"/>
                        </a:lnTo>
                        <a:lnTo>
                          <a:pt x="100" y="29"/>
                        </a:lnTo>
                        <a:lnTo>
                          <a:pt x="43" y="11"/>
                        </a:lnTo>
                        <a:lnTo>
                          <a:pt x="43" y="11"/>
                        </a:lnTo>
                        <a:lnTo>
                          <a:pt x="19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7899480" y="3102120"/>
                    <a:ext cx="15696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1">
                        <a:moveTo>
                          <a:pt x="8" y="0"/>
                        </a:move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11" y="26"/>
                        </a:lnTo>
                        <a:lnTo>
                          <a:pt x="48" y="37"/>
                        </a:lnTo>
                        <a:lnTo>
                          <a:pt x="87" y="50"/>
                        </a:lnTo>
                        <a:lnTo>
                          <a:pt x="90" y="38"/>
                        </a:lnTo>
                        <a:lnTo>
                          <a:pt x="86" y="49"/>
                        </a:lnTo>
                        <a:lnTo>
                          <a:pt x="91" y="51"/>
                        </a:lnTo>
                        <a:lnTo>
                          <a:pt x="99" y="29"/>
                        </a:lnTo>
                        <a:lnTo>
                          <a:pt x="94" y="27"/>
                        </a:lnTo>
                        <a:lnTo>
                          <a:pt x="94" y="27"/>
                        </a:lnTo>
                        <a:lnTo>
                          <a:pt x="57" y="15"/>
                        </a:lnTo>
                        <a:lnTo>
                          <a:pt x="18" y="3"/>
                        </a:lnTo>
                        <a:lnTo>
                          <a:pt x="14" y="14"/>
                        </a:lnTo>
                        <a:lnTo>
                          <a:pt x="18" y="3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8158320" y="3173400"/>
                    <a:ext cx="75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2">
                        <a:moveTo>
                          <a:pt x="4" y="0"/>
                        </a:moveTo>
                        <a:lnTo>
                          <a:pt x="0" y="23"/>
                        </a:lnTo>
                        <a:lnTo>
                          <a:pt x="9" y="25"/>
                        </a:lnTo>
                        <a:lnTo>
                          <a:pt x="10" y="25"/>
                        </a:lnTo>
                        <a:lnTo>
                          <a:pt x="21" y="27"/>
                        </a:lnTo>
                        <a:lnTo>
                          <a:pt x="21" y="15"/>
                        </a:lnTo>
                        <a:lnTo>
                          <a:pt x="17" y="26"/>
                        </a:lnTo>
                        <a:lnTo>
                          <a:pt x="27" y="28"/>
                        </a:lnTo>
                        <a:lnTo>
                          <a:pt x="28" y="29"/>
                        </a:lnTo>
                        <a:lnTo>
                          <a:pt x="30" y="29"/>
                        </a:lnTo>
                        <a:lnTo>
                          <a:pt x="34" y="30"/>
                        </a:lnTo>
                        <a:lnTo>
                          <a:pt x="37" y="32"/>
                        </a:lnTo>
                        <a:lnTo>
                          <a:pt x="39" y="32"/>
                        </a:lnTo>
                        <a:lnTo>
                          <a:pt x="48" y="10"/>
                        </a:lnTo>
                        <a:lnTo>
                          <a:pt x="46" y="10"/>
                        </a:lnTo>
                        <a:lnTo>
                          <a:pt x="43" y="8"/>
                        </a:lnTo>
                        <a:lnTo>
                          <a:pt x="39" y="7"/>
                        </a:lnTo>
                        <a:lnTo>
                          <a:pt x="34" y="6"/>
                        </a:lnTo>
                        <a:lnTo>
                          <a:pt x="31" y="17"/>
                        </a:lnTo>
                        <a:lnTo>
                          <a:pt x="35" y="6"/>
                        </a:lnTo>
                        <a:lnTo>
                          <a:pt x="26" y="4"/>
                        </a:lnTo>
                        <a:lnTo>
                          <a:pt x="21" y="3"/>
                        </a:lnTo>
                        <a:lnTo>
                          <a:pt x="13" y="2"/>
                        </a:lnTo>
                        <a:lnTo>
                          <a:pt x="11" y="13"/>
                        </a:lnTo>
                        <a:lnTo>
                          <a:pt x="13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5" name=""/>
                <p:cNvSpPr/>
                <p:nvPr/>
              </p:nvSpPr>
              <p:spPr>
                <a:xfrm>
                  <a:off x="4834080" y="1600200"/>
                  <a:ext cx="3313080" cy="2625840"/>
                </a:xfrm>
                <a:custGeom>
                  <a:avLst/>
                  <a:gdLst/>
                  <a:ahLst/>
                  <a:rect l="l" t="t" r="r" b="b"/>
                  <a:pathLst>
                    <a:path w="2087" h="1654">
                      <a:moveTo>
                        <a:pt x="18" y="0"/>
                      </a:moveTo>
                      <a:lnTo>
                        <a:pt x="0" y="16"/>
                      </a:lnTo>
                      <a:lnTo>
                        <a:pt x="10" y="28"/>
                      </a:lnTo>
                      <a:lnTo>
                        <a:pt x="18" y="19"/>
                      </a:lnTo>
                      <a:lnTo>
                        <a:pt x="7" y="24"/>
                      </a:lnTo>
                      <a:lnTo>
                        <a:pt x="15" y="36"/>
                      </a:lnTo>
                      <a:lnTo>
                        <a:pt x="22" y="48"/>
                      </a:lnTo>
                      <a:lnTo>
                        <a:pt x="28" y="61"/>
                      </a:lnTo>
                      <a:lnTo>
                        <a:pt x="38" y="87"/>
                      </a:lnTo>
                      <a:lnTo>
                        <a:pt x="48" y="114"/>
                      </a:lnTo>
                      <a:lnTo>
                        <a:pt x="54" y="125"/>
                      </a:lnTo>
                      <a:lnTo>
                        <a:pt x="60" y="136"/>
                      </a:lnTo>
                      <a:lnTo>
                        <a:pt x="67" y="146"/>
                      </a:lnTo>
                      <a:lnTo>
                        <a:pt x="74" y="159"/>
                      </a:lnTo>
                      <a:lnTo>
                        <a:pt x="74" y="159"/>
                      </a:lnTo>
                      <a:lnTo>
                        <a:pt x="76" y="164"/>
                      </a:lnTo>
                      <a:lnTo>
                        <a:pt x="79" y="171"/>
                      </a:lnTo>
                      <a:lnTo>
                        <a:pt x="84" y="186"/>
                      </a:lnTo>
                      <a:lnTo>
                        <a:pt x="90" y="202"/>
                      </a:lnTo>
                      <a:lnTo>
                        <a:pt x="94" y="209"/>
                      </a:lnTo>
                      <a:lnTo>
                        <a:pt x="96" y="213"/>
                      </a:lnTo>
                      <a:lnTo>
                        <a:pt x="100" y="218"/>
                      </a:lnTo>
                      <a:lnTo>
                        <a:pt x="101" y="219"/>
                      </a:lnTo>
                      <a:lnTo>
                        <a:pt x="108" y="226"/>
                      </a:lnTo>
                      <a:lnTo>
                        <a:pt x="116" y="218"/>
                      </a:lnTo>
                      <a:lnTo>
                        <a:pt x="105" y="222"/>
                      </a:lnTo>
                      <a:lnTo>
                        <a:pt x="112" y="231"/>
                      </a:lnTo>
                      <a:lnTo>
                        <a:pt x="116" y="240"/>
                      </a:lnTo>
                      <a:lnTo>
                        <a:pt x="119" y="252"/>
                      </a:lnTo>
                      <a:lnTo>
                        <a:pt x="124" y="263"/>
                      </a:lnTo>
                      <a:lnTo>
                        <a:pt x="126" y="268"/>
                      </a:lnTo>
                      <a:lnTo>
                        <a:pt x="129" y="272"/>
                      </a:lnTo>
                      <a:lnTo>
                        <a:pt x="132" y="276"/>
                      </a:lnTo>
                      <a:lnTo>
                        <a:pt x="141" y="268"/>
                      </a:lnTo>
                      <a:lnTo>
                        <a:pt x="132" y="276"/>
                      </a:lnTo>
                      <a:lnTo>
                        <a:pt x="147" y="295"/>
                      </a:lnTo>
                      <a:lnTo>
                        <a:pt x="159" y="313"/>
                      </a:lnTo>
                      <a:lnTo>
                        <a:pt x="168" y="304"/>
                      </a:lnTo>
                      <a:lnTo>
                        <a:pt x="157" y="309"/>
                      </a:lnTo>
                      <a:lnTo>
                        <a:pt x="168" y="327"/>
                      </a:lnTo>
                      <a:lnTo>
                        <a:pt x="181" y="348"/>
                      </a:lnTo>
                      <a:lnTo>
                        <a:pt x="188" y="356"/>
                      </a:lnTo>
                      <a:lnTo>
                        <a:pt x="190" y="360"/>
                      </a:lnTo>
                      <a:lnTo>
                        <a:pt x="198" y="371"/>
                      </a:lnTo>
                      <a:lnTo>
                        <a:pt x="207" y="381"/>
                      </a:lnTo>
                      <a:lnTo>
                        <a:pt x="215" y="373"/>
                      </a:lnTo>
                      <a:lnTo>
                        <a:pt x="204" y="377"/>
                      </a:lnTo>
                      <a:lnTo>
                        <a:pt x="212" y="390"/>
                      </a:lnTo>
                      <a:lnTo>
                        <a:pt x="212" y="391"/>
                      </a:lnTo>
                      <a:lnTo>
                        <a:pt x="216" y="399"/>
                      </a:lnTo>
                      <a:lnTo>
                        <a:pt x="220" y="411"/>
                      </a:lnTo>
                      <a:lnTo>
                        <a:pt x="224" y="422"/>
                      </a:lnTo>
                      <a:lnTo>
                        <a:pt x="226" y="427"/>
                      </a:lnTo>
                      <a:lnTo>
                        <a:pt x="229" y="431"/>
                      </a:lnTo>
                      <a:lnTo>
                        <a:pt x="232" y="435"/>
                      </a:lnTo>
                      <a:lnTo>
                        <a:pt x="241" y="427"/>
                      </a:lnTo>
                      <a:lnTo>
                        <a:pt x="232" y="435"/>
                      </a:lnTo>
                      <a:lnTo>
                        <a:pt x="243" y="450"/>
                      </a:lnTo>
                      <a:lnTo>
                        <a:pt x="252" y="441"/>
                      </a:lnTo>
                      <a:lnTo>
                        <a:pt x="241" y="446"/>
                      </a:lnTo>
                      <a:lnTo>
                        <a:pt x="249" y="460"/>
                      </a:lnTo>
                      <a:lnTo>
                        <a:pt x="255" y="475"/>
                      </a:lnTo>
                      <a:lnTo>
                        <a:pt x="262" y="490"/>
                      </a:lnTo>
                      <a:lnTo>
                        <a:pt x="273" y="485"/>
                      </a:lnTo>
                      <a:lnTo>
                        <a:pt x="262" y="490"/>
                      </a:lnTo>
                      <a:lnTo>
                        <a:pt x="265" y="495"/>
                      </a:lnTo>
                      <a:lnTo>
                        <a:pt x="268" y="501"/>
                      </a:lnTo>
                      <a:lnTo>
                        <a:pt x="271" y="505"/>
                      </a:lnTo>
                      <a:lnTo>
                        <a:pt x="279" y="516"/>
                      </a:lnTo>
                      <a:lnTo>
                        <a:pt x="288" y="527"/>
                      </a:lnTo>
                      <a:lnTo>
                        <a:pt x="297" y="518"/>
                      </a:lnTo>
                      <a:lnTo>
                        <a:pt x="286" y="523"/>
                      </a:lnTo>
                      <a:lnTo>
                        <a:pt x="294" y="535"/>
                      </a:lnTo>
                      <a:lnTo>
                        <a:pt x="296" y="540"/>
                      </a:lnTo>
                      <a:lnTo>
                        <a:pt x="299" y="547"/>
                      </a:lnTo>
                      <a:lnTo>
                        <a:pt x="304" y="562"/>
                      </a:lnTo>
                      <a:lnTo>
                        <a:pt x="310" y="578"/>
                      </a:lnTo>
                      <a:lnTo>
                        <a:pt x="314" y="585"/>
                      </a:lnTo>
                      <a:lnTo>
                        <a:pt x="316" y="589"/>
                      </a:lnTo>
                      <a:lnTo>
                        <a:pt x="320" y="594"/>
                      </a:lnTo>
                      <a:lnTo>
                        <a:pt x="329" y="586"/>
                      </a:lnTo>
                      <a:lnTo>
                        <a:pt x="320" y="594"/>
                      </a:lnTo>
                      <a:lnTo>
                        <a:pt x="335" y="613"/>
                      </a:lnTo>
                      <a:lnTo>
                        <a:pt x="349" y="631"/>
                      </a:lnTo>
                      <a:lnTo>
                        <a:pt x="363" y="649"/>
                      </a:lnTo>
                      <a:lnTo>
                        <a:pt x="377" y="667"/>
                      </a:lnTo>
                      <a:lnTo>
                        <a:pt x="386" y="659"/>
                      </a:lnTo>
                      <a:lnTo>
                        <a:pt x="377" y="667"/>
                      </a:lnTo>
                      <a:lnTo>
                        <a:pt x="384" y="677"/>
                      </a:lnTo>
                      <a:lnTo>
                        <a:pt x="393" y="669"/>
                      </a:lnTo>
                      <a:lnTo>
                        <a:pt x="382" y="673"/>
                      </a:lnTo>
                      <a:lnTo>
                        <a:pt x="388" y="685"/>
                      </a:lnTo>
                      <a:lnTo>
                        <a:pt x="394" y="696"/>
                      </a:lnTo>
                      <a:lnTo>
                        <a:pt x="396" y="700"/>
                      </a:lnTo>
                      <a:lnTo>
                        <a:pt x="402" y="709"/>
                      </a:lnTo>
                      <a:lnTo>
                        <a:pt x="411" y="702"/>
                      </a:lnTo>
                      <a:lnTo>
                        <a:pt x="401" y="709"/>
                      </a:lnTo>
                      <a:lnTo>
                        <a:pt x="423" y="743"/>
                      </a:lnTo>
                      <a:lnTo>
                        <a:pt x="447" y="780"/>
                      </a:lnTo>
                      <a:lnTo>
                        <a:pt x="450" y="784"/>
                      </a:lnTo>
                      <a:lnTo>
                        <a:pt x="475" y="820"/>
                      </a:lnTo>
                      <a:lnTo>
                        <a:pt x="502" y="855"/>
                      </a:lnTo>
                      <a:lnTo>
                        <a:pt x="503" y="856"/>
                      </a:lnTo>
                      <a:lnTo>
                        <a:pt x="505" y="859"/>
                      </a:lnTo>
                      <a:lnTo>
                        <a:pt x="513" y="850"/>
                      </a:lnTo>
                      <a:lnTo>
                        <a:pt x="502" y="855"/>
                      </a:lnTo>
                      <a:lnTo>
                        <a:pt x="504" y="859"/>
                      </a:lnTo>
                      <a:lnTo>
                        <a:pt x="505" y="862"/>
                      </a:lnTo>
                      <a:lnTo>
                        <a:pt x="507" y="866"/>
                      </a:lnTo>
                      <a:lnTo>
                        <a:pt x="510" y="870"/>
                      </a:lnTo>
                      <a:lnTo>
                        <a:pt x="518" y="861"/>
                      </a:lnTo>
                      <a:lnTo>
                        <a:pt x="509" y="869"/>
                      </a:lnTo>
                      <a:lnTo>
                        <a:pt x="511" y="871"/>
                      </a:lnTo>
                      <a:lnTo>
                        <a:pt x="514" y="875"/>
                      </a:lnTo>
                      <a:lnTo>
                        <a:pt x="520" y="881"/>
                      </a:lnTo>
                      <a:lnTo>
                        <a:pt x="526" y="889"/>
                      </a:lnTo>
                      <a:lnTo>
                        <a:pt x="532" y="896"/>
                      </a:lnTo>
                      <a:lnTo>
                        <a:pt x="538" y="903"/>
                      </a:lnTo>
                      <a:lnTo>
                        <a:pt x="543" y="909"/>
                      </a:lnTo>
                      <a:lnTo>
                        <a:pt x="546" y="912"/>
                      </a:lnTo>
                      <a:lnTo>
                        <a:pt x="547" y="914"/>
                      </a:lnTo>
                      <a:lnTo>
                        <a:pt x="549" y="917"/>
                      </a:lnTo>
                      <a:lnTo>
                        <a:pt x="557" y="908"/>
                      </a:lnTo>
                      <a:lnTo>
                        <a:pt x="546" y="913"/>
                      </a:lnTo>
                      <a:lnTo>
                        <a:pt x="547" y="917"/>
                      </a:lnTo>
                      <a:lnTo>
                        <a:pt x="548" y="920"/>
                      </a:lnTo>
                      <a:lnTo>
                        <a:pt x="551" y="924"/>
                      </a:lnTo>
                      <a:lnTo>
                        <a:pt x="552" y="926"/>
                      </a:lnTo>
                      <a:lnTo>
                        <a:pt x="552" y="927"/>
                      </a:lnTo>
                      <a:lnTo>
                        <a:pt x="563" y="938"/>
                      </a:lnTo>
                      <a:lnTo>
                        <a:pt x="573" y="949"/>
                      </a:lnTo>
                      <a:lnTo>
                        <a:pt x="583" y="959"/>
                      </a:lnTo>
                      <a:lnTo>
                        <a:pt x="587" y="965"/>
                      </a:lnTo>
                      <a:lnTo>
                        <a:pt x="596" y="956"/>
                      </a:lnTo>
                      <a:lnTo>
                        <a:pt x="585" y="961"/>
                      </a:lnTo>
                      <a:lnTo>
                        <a:pt x="588" y="967"/>
                      </a:lnTo>
                      <a:lnTo>
                        <a:pt x="595" y="981"/>
                      </a:lnTo>
                      <a:lnTo>
                        <a:pt x="604" y="994"/>
                      </a:lnTo>
                      <a:lnTo>
                        <a:pt x="607" y="998"/>
                      </a:lnTo>
                      <a:lnTo>
                        <a:pt x="617" y="1012"/>
                      </a:lnTo>
                      <a:lnTo>
                        <a:pt x="629" y="1024"/>
                      </a:lnTo>
                      <a:lnTo>
                        <a:pt x="654" y="1049"/>
                      </a:lnTo>
                      <a:lnTo>
                        <a:pt x="679" y="1073"/>
                      </a:lnTo>
                      <a:lnTo>
                        <a:pt x="687" y="1082"/>
                      </a:lnTo>
                      <a:lnTo>
                        <a:pt x="695" y="1091"/>
                      </a:lnTo>
                      <a:lnTo>
                        <a:pt x="710" y="1109"/>
                      </a:lnTo>
                      <a:lnTo>
                        <a:pt x="718" y="1117"/>
                      </a:lnTo>
                      <a:lnTo>
                        <a:pt x="726" y="1125"/>
                      </a:lnTo>
                      <a:lnTo>
                        <a:pt x="736" y="1133"/>
                      </a:lnTo>
                      <a:lnTo>
                        <a:pt x="740" y="1135"/>
                      </a:lnTo>
                      <a:lnTo>
                        <a:pt x="751" y="1142"/>
                      </a:lnTo>
                      <a:lnTo>
                        <a:pt x="756" y="1131"/>
                      </a:lnTo>
                      <a:lnTo>
                        <a:pt x="747" y="1139"/>
                      </a:lnTo>
                      <a:lnTo>
                        <a:pt x="753" y="1146"/>
                      </a:lnTo>
                      <a:lnTo>
                        <a:pt x="757" y="1150"/>
                      </a:lnTo>
                      <a:lnTo>
                        <a:pt x="759" y="1153"/>
                      </a:lnTo>
                      <a:lnTo>
                        <a:pt x="760" y="1155"/>
                      </a:lnTo>
                      <a:lnTo>
                        <a:pt x="761" y="1156"/>
                      </a:lnTo>
                      <a:lnTo>
                        <a:pt x="769" y="1147"/>
                      </a:lnTo>
                      <a:lnTo>
                        <a:pt x="769" y="1135"/>
                      </a:lnTo>
                      <a:lnTo>
                        <a:pt x="765" y="1136"/>
                      </a:lnTo>
                      <a:lnTo>
                        <a:pt x="761" y="1139"/>
                      </a:lnTo>
                      <a:lnTo>
                        <a:pt x="758" y="1143"/>
                      </a:lnTo>
                      <a:lnTo>
                        <a:pt x="757" y="1147"/>
                      </a:lnTo>
                      <a:lnTo>
                        <a:pt x="758" y="1152"/>
                      </a:lnTo>
                      <a:lnTo>
                        <a:pt x="774" y="1136"/>
                      </a:lnTo>
                      <a:lnTo>
                        <a:pt x="774" y="1136"/>
                      </a:lnTo>
                      <a:lnTo>
                        <a:pt x="769" y="1147"/>
                      </a:lnTo>
                      <a:lnTo>
                        <a:pt x="778" y="1139"/>
                      </a:lnTo>
                      <a:lnTo>
                        <a:pt x="780" y="1143"/>
                      </a:lnTo>
                      <a:lnTo>
                        <a:pt x="779" y="1141"/>
                      </a:lnTo>
                      <a:lnTo>
                        <a:pt x="778" y="1139"/>
                      </a:lnTo>
                      <a:lnTo>
                        <a:pt x="767" y="1144"/>
                      </a:lnTo>
                      <a:lnTo>
                        <a:pt x="779" y="1148"/>
                      </a:lnTo>
                      <a:lnTo>
                        <a:pt x="779" y="1144"/>
                      </a:lnTo>
                      <a:lnTo>
                        <a:pt x="776" y="1152"/>
                      </a:lnTo>
                      <a:lnTo>
                        <a:pt x="776" y="1152"/>
                      </a:lnTo>
                      <a:lnTo>
                        <a:pt x="768" y="1143"/>
                      </a:lnTo>
                      <a:lnTo>
                        <a:pt x="773" y="1154"/>
                      </a:lnTo>
                      <a:lnTo>
                        <a:pt x="768" y="1155"/>
                      </a:lnTo>
                      <a:lnTo>
                        <a:pt x="769" y="1155"/>
                      </a:lnTo>
                      <a:lnTo>
                        <a:pt x="769" y="1143"/>
                      </a:lnTo>
                      <a:lnTo>
                        <a:pt x="765" y="1154"/>
                      </a:lnTo>
                      <a:lnTo>
                        <a:pt x="767" y="1155"/>
                      </a:lnTo>
                      <a:lnTo>
                        <a:pt x="770" y="1157"/>
                      </a:lnTo>
                      <a:lnTo>
                        <a:pt x="775" y="1146"/>
                      </a:lnTo>
                      <a:lnTo>
                        <a:pt x="766" y="1155"/>
                      </a:lnTo>
                      <a:lnTo>
                        <a:pt x="772" y="1158"/>
                      </a:lnTo>
                      <a:lnTo>
                        <a:pt x="780" y="1165"/>
                      </a:lnTo>
                      <a:lnTo>
                        <a:pt x="785" y="1169"/>
                      </a:lnTo>
                      <a:lnTo>
                        <a:pt x="790" y="1173"/>
                      </a:lnTo>
                      <a:lnTo>
                        <a:pt x="793" y="1175"/>
                      </a:lnTo>
                      <a:lnTo>
                        <a:pt x="795" y="1177"/>
                      </a:lnTo>
                      <a:lnTo>
                        <a:pt x="803" y="1169"/>
                      </a:lnTo>
                      <a:lnTo>
                        <a:pt x="792" y="1173"/>
                      </a:lnTo>
                      <a:lnTo>
                        <a:pt x="792" y="1174"/>
                      </a:lnTo>
                      <a:lnTo>
                        <a:pt x="803" y="1170"/>
                      </a:lnTo>
                      <a:lnTo>
                        <a:pt x="795" y="1161"/>
                      </a:lnTo>
                      <a:lnTo>
                        <a:pt x="792" y="1165"/>
                      </a:lnTo>
                      <a:lnTo>
                        <a:pt x="791" y="1170"/>
                      </a:lnTo>
                      <a:lnTo>
                        <a:pt x="799" y="1159"/>
                      </a:lnTo>
                      <a:lnTo>
                        <a:pt x="798" y="1159"/>
                      </a:lnTo>
                      <a:lnTo>
                        <a:pt x="803" y="1170"/>
                      </a:lnTo>
                      <a:lnTo>
                        <a:pt x="803" y="1158"/>
                      </a:lnTo>
                      <a:lnTo>
                        <a:pt x="800" y="1158"/>
                      </a:lnTo>
                      <a:lnTo>
                        <a:pt x="800" y="1170"/>
                      </a:lnTo>
                      <a:lnTo>
                        <a:pt x="805" y="1159"/>
                      </a:lnTo>
                      <a:lnTo>
                        <a:pt x="803" y="1158"/>
                      </a:lnTo>
                      <a:lnTo>
                        <a:pt x="803" y="1158"/>
                      </a:lnTo>
                      <a:lnTo>
                        <a:pt x="798" y="1157"/>
                      </a:lnTo>
                      <a:lnTo>
                        <a:pt x="793" y="1158"/>
                      </a:lnTo>
                      <a:lnTo>
                        <a:pt x="790" y="1160"/>
                      </a:lnTo>
                      <a:lnTo>
                        <a:pt x="787" y="1164"/>
                      </a:lnTo>
                      <a:lnTo>
                        <a:pt x="786" y="1169"/>
                      </a:lnTo>
                      <a:lnTo>
                        <a:pt x="787" y="1174"/>
                      </a:lnTo>
                      <a:lnTo>
                        <a:pt x="790" y="1177"/>
                      </a:lnTo>
                      <a:lnTo>
                        <a:pt x="794" y="1180"/>
                      </a:lnTo>
                      <a:lnTo>
                        <a:pt x="794" y="1180"/>
                      </a:lnTo>
                      <a:lnTo>
                        <a:pt x="797" y="1181"/>
                      </a:lnTo>
                      <a:lnTo>
                        <a:pt x="801" y="1183"/>
                      </a:lnTo>
                      <a:lnTo>
                        <a:pt x="806" y="1186"/>
                      </a:lnTo>
                      <a:lnTo>
                        <a:pt x="814" y="1190"/>
                      </a:lnTo>
                      <a:lnTo>
                        <a:pt x="819" y="1179"/>
                      </a:lnTo>
                      <a:lnTo>
                        <a:pt x="810" y="1187"/>
                      </a:lnTo>
                      <a:lnTo>
                        <a:pt x="816" y="1195"/>
                      </a:lnTo>
                      <a:lnTo>
                        <a:pt x="824" y="1203"/>
                      </a:lnTo>
                      <a:lnTo>
                        <a:pt x="825" y="1204"/>
                      </a:lnTo>
                      <a:lnTo>
                        <a:pt x="832" y="1208"/>
                      </a:lnTo>
                      <a:lnTo>
                        <a:pt x="838" y="1211"/>
                      </a:lnTo>
                      <a:lnTo>
                        <a:pt x="850" y="1217"/>
                      </a:lnTo>
                      <a:lnTo>
                        <a:pt x="856" y="1220"/>
                      </a:lnTo>
                      <a:lnTo>
                        <a:pt x="860" y="1222"/>
                      </a:lnTo>
                      <a:lnTo>
                        <a:pt x="863" y="1224"/>
                      </a:lnTo>
                      <a:lnTo>
                        <a:pt x="864" y="1224"/>
                      </a:lnTo>
                      <a:lnTo>
                        <a:pt x="869" y="1213"/>
                      </a:lnTo>
                      <a:lnTo>
                        <a:pt x="860" y="1221"/>
                      </a:lnTo>
                      <a:lnTo>
                        <a:pt x="868" y="1229"/>
                      </a:lnTo>
                      <a:lnTo>
                        <a:pt x="877" y="1237"/>
                      </a:lnTo>
                      <a:lnTo>
                        <a:pt x="897" y="1252"/>
                      </a:lnTo>
                      <a:lnTo>
                        <a:pt x="901" y="1255"/>
                      </a:lnTo>
                      <a:lnTo>
                        <a:pt x="924" y="1269"/>
                      </a:lnTo>
                      <a:lnTo>
                        <a:pt x="948" y="1282"/>
                      </a:lnTo>
                      <a:lnTo>
                        <a:pt x="999" y="1307"/>
                      </a:lnTo>
                      <a:lnTo>
                        <a:pt x="1024" y="1319"/>
                      </a:lnTo>
                      <a:lnTo>
                        <a:pt x="1046" y="1330"/>
                      </a:lnTo>
                      <a:lnTo>
                        <a:pt x="1075" y="1345"/>
                      </a:lnTo>
                      <a:lnTo>
                        <a:pt x="1103" y="1359"/>
                      </a:lnTo>
                      <a:lnTo>
                        <a:pt x="1113" y="1364"/>
                      </a:lnTo>
                      <a:lnTo>
                        <a:pt x="1121" y="1368"/>
                      </a:lnTo>
                      <a:lnTo>
                        <a:pt x="1122" y="1369"/>
                      </a:lnTo>
                      <a:lnTo>
                        <a:pt x="1128" y="1372"/>
                      </a:lnTo>
                      <a:lnTo>
                        <a:pt x="1134" y="1375"/>
                      </a:lnTo>
                      <a:lnTo>
                        <a:pt x="1139" y="1377"/>
                      </a:lnTo>
                      <a:lnTo>
                        <a:pt x="1140" y="1378"/>
                      </a:lnTo>
                      <a:lnTo>
                        <a:pt x="1140" y="1378"/>
                      </a:lnTo>
                      <a:lnTo>
                        <a:pt x="1145" y="1367"/>
                      </a:lnTo>
                      <a:lnTo>
                        <a:pt x="1136" y="1375"/>
                      </a:lnTo>
                      <a:lnTo>
                        <a:pt x="1142" y="1382"/>
                      </a:lnTo>
                      <a:lnTo>
                        <a:pt x="1146" y="1387"/>
                      </a:lnTo>
                      <a:lnTo>
                        <a:pt x="1149" y="1391"/>
                      </a:lnTo>
                      <a:lnTo>
                        <a:pt x="1151" y="1393"/>
                      </a:lnTo>
                      <a:lnTo>
                        <a:pt x="1159" y="1384"/>
                      </a:lnTo>
                      <a:lnTo>
                        <a:pt x="1148" y="1389"/>
                      </a:lnTo>
                      <a:lnTo>
                        <a:pt x="1149" y="1389"/>
                      </a:lnTo>
                      <a:lnTo>
                        <a:pt x="1160" y="1385"/>
                      </a:lnTo>
                      <a:lnTo>
                        <a:pt x="1164" y="1374"/>
                      </a:lnTo>
                      <a:lnTo>
                        <a:pt x="1160" y="1373"/>
                      </a:lnTo>
                      <a:lnTo>
                        <a:pt x="1155" y="1374"/>
                      </a:lnTo>
                      <a:lnTo>
                        <a:pt x="1151" y="1376"/>
                      </a:lnTo>
                      <a:lnTo>
                        <a:pt x="1148" y="1380"/>
                      </a:lnTo>
                      <a:lnTo>
                        <a:pt x="1148" y="1385"/>
                      </a:lnTo>
                      <a:lnTo>
                        <a:pt x="1168" y="1376"/>
                      </a:lnTo>
                      <a:lnTo>
                        <a:pt x="1168" y="1376"/>
                      </a:lnTo>
                      <a:lnTo>
                        <a:pt x="1159" y="1385"/>
                      </a:lnTo>
                      <a:lnTo>
                        <a:pt x="1170" y="1380"/>
                      </a:lnTo>
                      <a:lnTo>
                        <a:pt x="1169" y="1378"/>
                      </a:lnTo>
                      <a:lnTo>
                        <a:pt x="1168" y="1375"/>
                      </a:lnTo>
                      <a:lnTo>
                        <a:pt x="1157" y="1380"/>
                      </a:lnTo>
                      <a:lnTo>
                        <a:pt x="1169" y="1380"/>
                      </a:lnTo>
                      <a:lnTo>
                        <a:pt x="1168" y="1384"/>
                      </a:lnTo>
                      <a:lnTo>
                        <a:pt x="1168" y="1383"/>
                      </a:lnTo>
                      <a:lnTo>
                        <a:pt x="1157" y="1379"/>
                      </a:lnTo>
                      <a:lnTo>
                        <a:pt x="1166" y="1387"/>
                      </a:lnTo>
                      <a:lnTo>
                        <a:pt x="1162" y="1390"/>
                      </a:lnTo>
                      <a:lnTo>
                        <a:pt x="1163" y="1389"/>
                      </a:lnTo>
                      <a:lnTo>
                        <a:pt x="1159" y="1378"/>
                      </a:lnTo>
                      <a:lnTo>
                        <a:pt x="1159" y="1390"/>
                      </a:lnTo>
                      <a:lnTo>
                        <a:pt x="1161" y="1391"/>
                      </a:lnTo>
                      <a:lnTo>
                        <a:pt x="1161" y="1379"/>
                      </a:lnTo>
                      <a:lnTo>
                        <a:pt x="1156" y="1390"/>
                      </a:lnTo>
                      <a:lnTo>
                        <a:pt x="1160" y="1391"/>
                      </a:lnTo>
                      <a:lnTo>
                        <a:pt x="1165" y="1394"/>
                      </a:lnTo>
                      <a:lnTo>
                        <a:pt x="1171" y="1397"/>
                      </a:lnTo>
                      <a:lnTo>
                        <a:pt x="1176" y="1401"/>
                      </a:lnTo>
                      <a:lnTo>
                        <a:pt x="1180" y="1390"/>
                      </a:lnTo>
                      <a:lnTo>
                        <a:pt x="1172" y="1398"/>
                      </a:lnTo>
                      <a:lnTo>
                        <a:pt x="1175" y="1402"/>
                      </a:lnTo>
                      <a:lnTo>
                        <a:pt x="1177" y="1406"/>
                      </a:lnTo>
                      <a:lnTo>
                        <a:pt x="1182" y="1410"/>
                      </a:lnTo>
                      <a:lnTo>
                        <a:pt x="1183" y="1411"/>
                      </a:lnTo>
                      <a:lnTo>
                        <a:pt x="1189" y="1414"/>
                      </a:lnTo>
                      <a:lnTo>
                        <a:pt x="1193" y="1415"/>
                      </a:lnTo>
                      <a:lnTo>
                        <a:pt x="1198" y="1416"/>
                      </a:lnTo>
                      <a:lnTo>
                        <a:pt x="1203" y="1416"/>
                      </a:lnTo>
                      <a:lnTo>
                        <a:pt x="1203" y="1404"/>
                      </a:lnTo>
                      <a:lnTo>
                        <a:pt x="1199" y="1415"/>
                      </a:lnTo>
                      <a:lnTo>
                        <a:pt x="1203" y="1417"/>
                      </a:lnTo>
                      <a:lnTo>
                        <a:pt x="1204" y="1417"/>
                      </a:lnTo>
                      <a:lnTo>
                        <a:pt x="1232" y="1430"/>
                      </a:lnTo>
                      <a:lnTo>
                        <a:pt x="1261" y="1445"/>
                      </a:lnTo>
                      <a:lnTo>
                        <a:pt x="1289" y="1460"/>
                      </a:lnTo>
                      <a:lnTo>
                        <a:pt x="1316" y="1475"/>
                      </a:lnTo>
                      <a:lnTo>
                        <a:pt x="1321" y="1477"/>
                      </a:lnTo>
                      <a:lnTo>
                        <a:pt x="1326" y="1478"/>
                      </a:lnTo>
                      <a:lnTo>
                        <a:pt x="1331" y="1478"/>
                      </a:lnTo>
                      <a:lnTo>
                        <a:pt x="1335" y="1479"/>
                      </a:lnTo>
                      <a:lnTo>
                        <a:pt x="1335" y="1467"/>
                      </a:lnTo>
                      <a:lnTo>
                        <a:pt x="1331" y="1478"/>
                      </a:lnTo>
                      <a:lnTo>
                        <a:pt x="1336" y="1479"/>
                      </a:lnTo>
                      <a:lnTo>
                        <a:pt x="1340" y="1468"/>
                      </a:lnTo>
                      <a:lnTo>
                        <a:pt x="1335" y="1479"/>
                      </a:lnTo>
                      <a:lnTo>
                        <a:pt x="1373" y="1495"/>
                      </a:lnTo>
                      <a:lnTo>
                        <a:pt x="1412" y="1512"/>
                      </a:lnTo>
                      <a:lnTo>
                        <a:pt x="1450" y="1529"/>
                      </a:lnTo>
                      <a:lnTo>
                        <a:pt x="1486" y="1547"/>
                      </a:lnTo>
                      <a:lnTo>
                        <a:pt x="1491" y="1536"/>
                      </a:lnTo>
                      <a:lnTo>
                        <a:pt x="1485" y="1547"/>
                      </a:lnTo>
                      <a:lnTo>
                        <a:pt x="1495" y="1551"/>
                      </a:lnTo>
                      <a:lnTo>
                        <a:pt x="1503" y="1555"/>
                      </a:lnTo>
                      <a:lnTo>
                        <a:pt x="1523" y="1561"/>
                      </a:lnTo>
                      <a:lnTo>
                        <a:pt x="1543" y="1566"/>
                      </a:lnTo>
                      <a:lnTo>
                        <a:pt x="1563" y="1572"/>
                      </a:lnTo>
                      <a:lnTo>
                        <a:pt x="1566" y="1560"/>
                      </a:lnTo>
                      <a:lnTo>
                        <a:pt x="1563" y="1572"/>
                      </a:lnTo>
                      <a:lnTo>
                        <a:pt x="1566" y="1573"/>
                      </a:lnTo>
                      <a:lnTo>
                        <a:pt x="1571" y="1576"/>
                      </a:lnTo>
                      <a:lnTo>
                        <a:pt x="1580" y="1581"/>
                      </a:lnTo>
                      <a:lnTo>
                        <a:pt x="1581" y="1581"/>
                      </a:lnTo>
                      <a:lnTo>
                        <a:pt x="1600" y="1587"/>
                      </a:lnTo>
                      <a:lnTo>
                        <a:pt x="1621" y="1593"/>
                      </a:lnTo>
                      <a:lnTo>
                        <a:pt x="1664" y="1605"/>
                      </a:lnTo>
                      <a:lnTo>
                        <a:pt x="1708" y="1615"/>
                      </a:lnTo>
                      <a:lnTo>
                        <a:pt x="1752" y="1625"/>
                      </a:lnTo>
                      <a:lnTo>
                        <a:pt x="1752" y="1625"/>
                      </a:lnTo>
                      <a:lnTo>
                        <a:pt x="1810" y="1634"/>
                      </a:lnTo>
                      <a:lnTo>
                        <a:pt x="1867" y="1640"/>
                      </a:lnTo>
                      <a:lnTo>
                        <a:pt x="1923" y="1645"/>
                      </a:lnTo>
                      <a:lnTo>
                        <a:pt x="1979" y="1649"/>
                      </a:lnTo>
                      <a:lnTo>
                        <a:pt x="2005" y="1651"/>
                      </a:lnTo>
                      <a:lnTo>
                        <a:pt x="2028" y="1652"/>
                      </a:lnTo>
                      <a:lnTo>
                        <a:pt x="2038" y="1652"/>
                      </a:lnTo>
                      <a:lnTo>
                        <a:pt x="2047" y="1653"/>
                      </a:lnTo>
                      <a:lnTo>
                        <a:pt x="2055" y="1653"/>
                      </a:lnTo>
                      <a:lnTo>
                        <a:pt x="2062" y="1653"/>
                      </a:lnTo>
                      <a:lnTo>
                        <a:pt x="2067" y="1654"/>
                      </a:lnTo>
                      <a:lnTo>
                        <a:pt x="2071" y="1654"/>
                      </a:lnTo>
                      <a:lnTo>
                        <a:pt x="2074" y="1654"/>
                      </a:lnTo>
                      <a:lnTo>
                        <a:pt x="2075" y="1654"/>
                      </a:lnTo>
                      <a:lnTo>
                        <a:pt x="2075" y="1642"/>
                      </a:lnTo>
                      <a:lnTo>
                        <a:pt x="2070" y="1631"/>
                      </a:lnTo>
                      <a:lnTo>
                        <a:pt x="2066" y="1633"/>
                      </a:lnTo>
                      <a:lnTo>
                        <a:pt x="2064" y="1637"/>
                      </a:lnTo>
                      <a:lnTo>
                        <a:pt x="2063" y="1642"/>
                      </a:lnTo>
                      <a:lnTo>
                        <a:pt x="2064" y="1647"/>
                      </a:lnTo>
                      <a:lnTo>
                        <a:pt x="2066" y="1650"/>
                      </a:lnTo>
                      <a:lnTo>
                        <a:pt x="2070" y="1653"/>
                      </a:lnTo>
                      <a:lnTo>
                        <a:pt x="2075" y="1630"/>
                      </a:lnTo>
                      <a:lnTo>
                        <a:pt x="2074" y="1630"/>
                      </a:lnTo>
                      <a:lnTo>
                        <a:pt x="2072" y="1630"/>
                      </a:lnTo>
                      <a:lnTo>
                        <a:pt x="2068" y="1630"/>
                      </a:lnTo>
                      <a:lnTo>
                        <a:pt x="2062" y="1630"/>
                      </a:lnTo>
                      <a:lnTo>
                        <a:pt x="2062" y="1654"/>
                      </a:lnTo>
                      <a:lnTo>
                        <a:pt x="2068" y="1654"/>
                      </a:lnTo>
                      <a:lnTo>
                        <a:pt x="2072" y="1654"/>
                      </a:lnTo>
                      <a:lnTo>
                        <a:pt x="2074" y="1654"/>
                      </a:lnTo>
                      <a:lnTo>
                        <a:pt x="2075" y="1654"/>
                      </a:lnTo>
                      <a:lnTo>
                        <a:pt x="2080" y="1653"/>
                      </a:lnTo>
                      <a:lnTo>
                        <a:pt x="2083" y="1650"/>
                      </a:lnTo>
                      <a:lnTo>
                        <a:pt x="2086" y="1647"/>
                      </a:lnTo>
                      <a:lnTo>
                        <a:pt x="2087" y="1642"/>
                      </a:lnTo>
                      <a:lnTo>
                        <a:pt x="2086" y="1637"/>
                      </a:lnTo>
                      <a:lnTo>
                        <a:pt x="2083" y="1633"/>
                      </a:lnTo>
                      <a:lnTo>
                        <a:pt x="2080" y="1631"/>
                      </a:lnTo>
                      <a:lnTo>
                        <a:pt x="2075" y="1630"/>
                      </a:lnTo>
                      <a:lnTo>
                        <a:pt x="2074" y="1630"/>
                      </a:lnTo>
                      <a:lnTo>
                        <a:pt x="2071" y="1630"/>
                      </a:lnTo>
                      <a:lnTo>
                        <a:pt x="2067" y="1630"/>
                      </a:lnTo>
                      <a:lnTo>
                        <a:pt x="2062" y="1629"/>
                      </a:lnTo>
                      <a:lnTo>
                        <a:pt x="2055" y="1629"/>
                      </a:lnTo>
                      <a:lnTo>
                        <a:pt x="2047" y="1629"/>
                      </a:lnTo>
                      <a:lnTo>
                        <a:pt x="2038" y="1628"/>
                      </a:lnTo>
                      <a:lnTo>
                        <a:pt x="2028" y="1628"/>
                      </a:lnTo>
                      <a:lnTo>
                        <a:pt x="2005" y="1627"/>
                      </a:lnTo>
                      <a:lnTo>
                        <a:pt x="1981" y="1625"/>
                      </a:lnTo>
                      <a:lnTo>
                        <a:pt x="1923" y="1621"/>
                      </a:lnTo>
                      <a:lnTo>
                        <a:pt x="1867" y="1616"/>
                      </a:lnTo>
                      <a:lnTo>
                        <a:pt x="1810" y="1610"/>
                      </a:lnTo>
                      <a:lnTo>
                        <a:pt x="1756" y="1602"/>
                      </a:lnTo>
                      <a:lnTo>
                        <a:pt x="1754" y="1613"/>
                      </a:lnTo>
                      <a:lnTo>
                        <a:pt x="1757" y="1602"/>
                      </a:lnTo>
                      <a:lnTo>
                        <a:pt x="1717" y="1593"/>
                      </a:lnTo>
                      <a:lnTo>
                        <a:pt x="1673" y="1583"/>
                      </a:lnTo>
                      <a:lnTo>
                        <a:pt x="1630" y="1571"/>
                      </a:lnTo>
                      <a:lnTo>
                        <a:pt x="1609" y="1565"/>
                      </a:lnTo>
                      <a:lnTo>
                        <a:pt x="1589" y="1559"/>
                      </a:lnTo>
                      <a:lnTo>
                        <a:pt x="1585" y="1570"/>
                      </a:lnTo>
                      <a:lnTo>
                        <a:pt x="1590" y="1559"/>
                      </a:lnTo>
                      <a:lnTo>
                        <a:pt x="1580" y="1554"/>
                      </a:lnTo>
                      <a:lnTo>
                        <a:pt x="1575" y="1551"/>
                      </a:lnTo>
                      <a:lnTo>
                        <a:pt x="1570" y="1549"/>
                      </a:lnTo>
                      <a:lnTo>
                        <a:pt x="1569" y="1549"/>
                      </a:lnTo>
                      <a:lnTo>
                        <a:pt x="1552" y="1544"/>
                      </a:lnTo>
                      <a:lnTo>
                        <a:pt x="1532" y="1539"/>
                      </a:lnTo>
                      <a:lnTo>
                        <a:pt x="1512" y="1533"/>
                      </a:lnTo>
                      <a:lnTo>
                        <a:pt x="1504" y="1529"/>
                      </a:lnTo>
                      <a:lnTo>
                        <a:pt x="1497" y="1526"/>
                      </a:lnTo>
                      <a:lnTo>
                        <a:pt x="1497" y="1526"/>
                      </a:lnTo>
                      <a:lnTo>
                        <a:pt x="1459" y="1507"/>
                      </a:lnTo>
                      <a:lnTo>
                        <a:pt x="1421" y="1490"/>
                      </a:lnTo>
                      <a:lnTo>
                        <a:pt x="1382" y="1473"/>
                      </a:lnTo>
                      <a:lnTo>
                        <a:pt x="1345" y="1457"/>
                      </a:lnTo>
                      <a:lnTo>
                        <a:pt x="1344" y="1457"/>
                      </a:lnTo>
                      <a:lnTo>
                        <a:pt x="1340" y="1456"/>
                      </a:lnTo>
                      <a:lnTo>
                        <a:pt x="1335" y="1455"/>
                      </a:lnTo>
                      <a:lnTo>
                        <a:pt x="1331" y="1454"/>
                      </a:lnTo>
                      <a:lnTo>
                        <a:pt x="1326" y="1454"/>
                      </a:lnTo>
                      <a:lnTo>
                        <a:pt x="1326" y="1466"/>
                      </a:lnTo>
                      <a:lnTo>
                        <a:pt x="1330" y="1455"/>
                      </a:lnTo>
                      <a:lnTo>
                        <a:pt x="1327" y="1454"/>
                      </a:lnTo>
                      <a:lnTo>
                        <a:pt x="1298" y="1438"/>
                      </a:lnTo>
                      <a:lnTo>
                        <a:pt x="1270" y="1423"/>
                      </a:lnTo>
                      <a:lnTo>
                        <a:pt x="1241" y="1408"/>
                      </a:lnTo>
                      <a:lnTo>
                        <a:pt x="1213" y="1395"/>
                      </a:lnTo>
                      <a:lnTo>
                        <a:pt x="1208" y="1406"/>
                      </a:lnTo>
                      <a:lnTo>
                        <a:pt x="1214" y="1396"/>
                      </a:lnTo>
                      <a:lnTo>
                        <a:pt x="1208" y="1393"/>
                      </a:lnTo>
                      <a:lnTo>
                        <a:pt x="1203" y="1392"/>
                      </a:lnTo>
                      <a:lnTo>
                        <a:pt x="1198" y="1392"/>
                      </a:lnTo>
                      <a:lnTo>
                        <a:pt x="1193" y="1391"/>
                      </a:lnTo>
                      <a:lnTo>
                        <a:pt x="1193" y="1403"/>
                      </a:lnTo>
                      <a:lnTo>
                        <a:pt x="1198" y="1392"/>
                      </a:lnTo>
                      <a:lnTo>
                        <a:pt x="1195" y="1391"/>
                      </a:lnTo>
                      <a:lnTo>
                        <a:pt x="1189" y="1401"/>
                      </a:lnTo>
                      <a:lnTo>
                        <a:pt x="1197" y="1392"/>
                      </a:lnTo>
                      <a:lnTo>
                        <a:pt x="1194" y="1389"/>
                      </a:lnTo>
                      <a:lnTo>
                        <a:pt x="1192" y="1385"/>
                      </a:lnTo>
                      <a:lnTo>
                        <a:pt x="1189" y="1381"/>
                      </a:lnTo>
                      <a:lnTo>
                        <a:pt x="1185" y="1379"/>
                      </a:lnTo>
                      <a:lnTo>
                        <a:pt x="1183" y="1377"/>
                      </a:lnTo>
                      <a:lnTo>
                        <a:pt x="1174" y="1372"/>
                      </a:lnTo>
                      <a:lnTo>
                        <a:pt x="1169" y="1369"/>
                      </a:lnTo>
                      <a:lnTo>
                        <a:pt x="1165" y="1368"/>
                      </a:lnTo>
                      <a:lnTo>
                        <a:pt x="1161" y="1367"/>
                      </a:lnTo>
                      <a:lnTo>
                        <a:pt x="1159" y="1366"/>
                      </a:lnTo>
                      <a:lnTo>
                        <a:pt x="1154" y="1367"/>
                      </a:lnTo>
                      <a:lnTo>
                        <a:pt x="1153" y="1368"/>
                      </a:lnTo>
                      <a:lnTo>
                        <a:pt x="1149" y="1370"/>
                      </a:lnTo>
                      <a:lnTo>
                        <a:pt x="1146" y="1374"/>
                      </a:lnTo>
                      <a:lnTo>
                        <a:pt x="1146" y="1375"/>
                      </a:lnTo>
                      <a:lnTo>
                        <a:pt x="1145" y="1380"/>
                      </a:lnTo>
                      <a:lnTo>
                        <a:pt x="1146" y="1384"/>
                      </a:lnTo>
                      <a:lnTo>
                        <a:pt x="1147" y="1387"/>
                      </a:lnTo>
                      <a:lnTo>
                        <a:pt x="1148" y="1389"/>
                      </a:lnTo>
                      <a:lnTo>
                        <a:pt x="1151" y="1393"/>
                      </a:lnTo>
                      <a:lnTo>
                        <a:pt x="1151" y="1393"/>
                      </a:lnTo>
                      <a:lnTo>
                        <a:pt x="1155" y="1396"/>
                      </a:lnTo>
                      <a:lnTo>
                        <a:pt x="1160" y="1397"/>
                      </a:lnTo>
                      <a:lnTo>
                        <a:pt x="1164" y="1396"/>
                      </a:lnTo>
                      <a:lnTo>
                        <a:pt x="1168" y="1393"/>
                      </a:lnTo>
                      <a:lnTo>
                        <a:pt x="1171" y="1390"/>
                      </a:lnTo>
                      <a:lnTo>
                        <a:pt x="1172" y="1385"/>
                      </a:lnTo>
                      <a:lnTo>
                        <a:pt x="1171" y="1380"/>
                      </a:lnTo>
                      <a:lnTo>
                        <a:pt x="1170" y="1380"/>
                      </a:lnTo>
                      <a:lnTo>
                        <a:pt x="1168" y="1376"/>
                      </a:lnTo>
                      <a:lnTo>
                        <a:pt x="1166" y="1374"/>
                      </a:lnTo>
                      <a:lnTo>
                        <a:pt x="1163" y="1370"/>
                      </a:lnTo>
                      <a:lnTo>
                        <a:pt x="1159" y="1365"/>
                      </a:lnTo>
                      <a:lnTo>
                        <a:pt x="1154" y="1359"/>
                      </a:lnTo>
                      <a:lnTo>
                        <a:pt x="1153" y="1359"/>
                      </a:lnTo>
                      <a:lnTo>
                        <a:pt x="1151" y="1357"/>
                      </a:lnTo>
                      <a:lnTo>
                        <a:pt x="1149" y="1356"/>
                      </a:lnTo>
                      <a:lnTo>
                        <a:pt x="1148" y="1355"/>
                      </a:lnTo>
                      <a:lnTo>
                        <a:pt x="1143" y="1353"/>
                      </a:lnTo>
                      <a:lnTo>
                        <a:pt x="1137" y="1350"/>
                      </a:lnTo>
                      <a:lnTo>
                        <a:pt x="1133" y="1348"/>
                      </a:lnTo>
                      <a:lnTo>
                        <a:pt x="1127" y="1358"/>
                      </a:lnTo>
                      <a:lnTo>
                        <a:pt x="1133" y="1348"/>
                      </a:lnTo>
                      <a:lnTo>
                        <a:pt x="1122" y="1342"/>
                      </a:lnTo>
                      <a:lnTo>
                        <a:pt x="1114" y="1338"/>
                      </a:lnTo>
                      <a:lnTo>
                        <a:pt x="1084" y="1323"/>
                      </a:lnTo>
                      <a:lnTo>
                        <a:pt x="1057" y="1309"/>
                      </a:lnTo>
                      <a:lnTo>
                        <a:pt x="1033" y="1297"/>
                      </a:lnTo>
                      <a:lnTo>
                        <a:pt x="1008" y="1285"/>
                      </a:lnTo>
                      <a:lnTo>
                        <a:pt x="957" y="1260"/>
                      </a:lnTo>
                      <a:lnTo>
                        <a:pt x="933" y="1247"/>
                      </a:lnTo>
                      <a:lnTo>
                        <a:pt x="910" y="1233"/>
                      </a:lnTo>
                      <a:lnTo>
                        <a:pt x="905" y="1244"/>
                      </a:lnTo>
                      <a:lnTo>
                        <a:pt x="914" y="1235"/>
                      </a:lnTo>
                      <a:lnTo>
                        <a:pt x="894" y="1220"/>
                      </a:lnTo>
                      <a:lnTo>
                        <a:pt x="885" y="1212"/>
                      </a:lnTo>
                      <a:lnTo>
                        <a:pt x="878" y="1205"/>
                      </a:lnTo>
                      <a:lnTo>
                        <a:pt x="877" y="1205"/>
                      </a:lnTo>
                      <a:lnTo>
                        <a:pt x="874" y="1202"/>
                      </a:lnTo>
                      <a:lnTo>
                        <a:pt x="872" y="1202"/>
                      </a:lnTo>
                      <a:lnTo>
                        <a:pt x="869" y="1200"/>
                      </a:lnTo>
                      <a:lnTo>
                        <a:pt x="865" y="1198"/>
                      </a:lnTo>
                      <a:lnTo>
                        <a:pt x="859" y="1195"/>
                      </a:lnTo>
                      <a:lnTo>
                        <a:pt x="847" y="1189"/>
                      </a:lnTo>
                      <a:lnTo>
                        <a:pt x="841" y="1186"/>
                      </a:lnTo>
                      <a:lnTo>
                        <a:pt x="837" y="1184"/>
                      </a:lnTo>
                      <a:lnTo>
                        <a:pt x="831" y="1194"/>
                      </a:lnTo>
                      <a:lnTo>
                        <a:pt x="839" y="1185"/>
                      </a:lnTo>
                      <a:lnTo>
                        <a:pt x="833" y="1178"/>
                      </a:lnTo>
                      <a:lnTo>
                        <a:pt x="828" y="1172"/>
                      </a:lnTo>
                      <a:lnTo>
                        <a:pt x="827" y="1171"/>
                      </a:lnTo>
                      <a:lnTo>
                        <a:pt x="825" y="1169"/>
                      </a:lnTo>
                      <a:lnTo>
                        <a:pt x="815" y="1164"/>
                      </a:lnTo>
                      <a:lnTo>
                        <a:pt x="810" y="1161"/>
                      </a:lnTo>
                      <a:lnTo>
                        <a:pt x="806" y="1159"/>
                      </a:lnTo>
                      <a:lnTo>
                        <a:pt x="803" y="1158"/>
                      </a:lnTo>
                      <a:lnTo>
                        <a:pt x="803" y="1158"/>
                      </a:lnTo>
                      <a:lnTo>
                        <a:pt x="798" y="1181"/>
                      </a:lnTo>
                      <a:lnTo>
                        <a:pt x="803" y="1180"/>
                      </a:lnTo>
                      <a:lnTo>
                        <a:pt x="807" y="1177"/>
                      </a:lnTo>
                      <a:lnTo>
                        <a:pt x="809" y="1174"/>
                      </a:lnTo>
                      <a:lnTo>
                        <a:pt x="810" y="1169"/>
                      </a:lnTo>
                      <a:lnTo>
                        <a:pt x="809" y="1164"/>
                      </a:lnTo>
                      <a:lnTo>
                        <a:pt x="807" y="1160"/>
                      </a:lnTo>
                      <a:lnTo>
                        <a:pt x="798" y="1169"/>
                      </a:lnTo>
                      <a:lnTo>
                        <a:pt x="794" y="1180"/>
                      </a:lnTo>
                      <a:lnTo>
                        <a:pt x="794" y="1180"/>
                      </a:lnTo>
                      <a:lnTo>
                        <a:pt x="796" y="1181"/>
                      </a:lnTo>
                      <a:lnTo>
                        <a:pt x="800" y="1182"/>
                      </a:lnTo>
                      <a:lnTo>
                        <a:pt x="803" y="1182"/>
                      </a:lnTo>
                      <a:lnTo>
                        <a:pt x="807" y="1181"/>
                      </a:lnTo>
                      <a:lnTo>
                        <a:pt x="808" y="1181"/>
                      </a:lnTo>
                      <a:lnTo>
                        <a:pt x="812" y="1178"/>
                      </a:lnTo>
                      <a:lnTo>
                        <a:pt x="814" y="1174"/>
                      </a:lnTo>
                      <a:lnTo>
                        <a:pt x="815" y="1170"/>
                      </a:lnTo>
                      <a:lnTo>
                        <a:pt x="814" y="1165"/>
                      </a:lnTo>
                      <a:lnTo>
                        <a:pt x="814" y="1164"/>
                      </a:lnTo>
                      <a:lnTo>
                        <a:pt x="812" y="1160"/>
                      </a:lnTo>
                      <a:lnTo>
                        <a:pt x="810" y="1158"/>
                      </a:lnTo>
                      <a:lnTo>
                        <a:pt x="807" y="1156"/>
                      </a:lnTo>
                      <a:lnTo>
                        <a:pt x="802" y="1152"/>
                      </a:lnTo>
                      <a:lnTo>
                        <a:pt x="794" y="1146"/>
                      </a:lnTo>
                      <a:lnTo>
                        <a:pt x="789" y="1141"/>
                      </a:lnTo>
                      <a:lnTo>
                        <a:pt x="783" y="1138"/>
                      </a:lnTo>
                      <a:lnTo>
                        <a:pt x="779" y="1135"/>
                      </a:lnTo>
                      <a:lnTo>
                        <a:pt x="776" y="1133"/>
                      </a:lnTo>
                      <a:lnTo>
                        <a:pt x="774" y="1132"/>
                      </a:lnTo>
                      <a:lnTo>
                        <a:pt x="769" y="1131"/>
                      </a:lnTo>
                      <a:lnTo>
                        <a:pt x="768" y="1131"/>
                      </a:lnTo>
                      <a:lnTo>
                        <a:pt x="763" y="1132"/>
                      </a:lnTo>
                      <a:lnTo>
                        <a:pt x="759" y="1135"/>
                      </a:lnTo>
                      <a:lnTo>
                        <a:pt x="759" y="1135"/>
                      </a:lnTo>
                      <a:lnTo>
                        <a:pt x="756" y="1139"/>
                      </a:lnTo>
                      <a:lnTo>
                        <a:pt x="755" y="1144"/>
                      </a:lnTo>
                      <a:lnTo>
                        <a:pt x="756" y="1148"/>
                      </a:lnTo>
                      <a:lnTo>
                        <a:pt x="757" y="1150"/>
                      </a:lnTo>
                      <a:lnTo>
                        <a:pt x="758" y="1152"/>
                      </a:lnTo>
                      <a:lnTo>
                        <a:pt x="761" y="1156"/>
                      </a:lnTo>
                      <a:lnTo>
                        <a:pt x="765" y="1158"/>
                      </a:lnTo>
                      <a:lnTo>
                        <a:pt x="765" y="1158"/>
                      </a:lnTo>
                      <a:lnTo>
                        <a:pt x="769" y="1159"/>
                      </a:lnTo>
                      <a:lnTo>
                        <a:pt x="774" y="1158"/>
                      </a:lnTo>
                      <a:lnTo>
                        <a:pt x="778" y="1156"/>
                      </a:lnTo>
                      <a:lnTo>
                        <a:pt x="780" y="1152"/>
                      </a:lnTo>
                      <a:lnTo>
                        <a:pt x="781" y="1147"/>
                      </a:lnTo>
                      <a:lnTo>
                        <a:pt x="780" y="1143"/>
                      </a:lnTo>
                      <a:lnTo>
                        <a:pt x="778" y="1139"/>
                      </a:lnTo>
                      <a:lnTo>
                        <a:pt x="777" y="1138"/>
                      </a:lnTo>
                      <a:lnTo>
                        <a:pt x="776" y="1136"/>
                      </a:lnTo>
                      <a:lnTo>
                        <a:pt x="774" y="1133"/>
                      </a:lnTo>
                      <a:lnTo>
                        <a:pt x="770" y="1129"/>
                      </a:lnTo>
                      <a:lnTo>
                        <a:pt x="765" y="1124"/>
                      </a:lnTo>
                      <a:lnTo>
                        <a:pt x="764" y="1123"/>
                      </a:lnTo>
                      <a:lnTo>
                        <a:pt x="762" y="1121"/>
                      </a:lnTo>
                      <a:lnTo>
                        <a:pt x="749" y="1113"/>
                      </a:lnTo>
                      <a:lnTo>
                        <a:pt x="745" y="1124"/>
                      </a:lnTo>
                      <a:lnTo>
                        <a:pt x="753" y="1116"/>
                      </a:lnTo>
                      <a:lnTo>
                        <a:pt x="743" y="1108"/>
                      </a:lnTo>
                      <a:lnTo>
                        <a:pt x="735" y="1100"/>
                      </a:lnTo>
                      <a:lnTo>
                        <a:pt x="727" y="1092"/>
                      </a:lnTo>
                      <a:lnTo>
                        <a:pt x="712" y="1074"/>
                      </a:lnTo>
                      <a:lnTo>
                        <a:pt x="704" y="1065"/>
                      </a:lnTo>
                      <a:lnTo>
                        <a:pt x="696" y="1056"/>
                      </a:lnTo>
                      <a:lnTo>
                        <a:pt x="671" y="1032"/>
                      </a:lnTo>
                      <a:lnTo>
                        <a:pt x="646" y="1007"/>
                      </a:lnTo>
                      <a:lnTo>
                        <a:pt x="634" y="995"/>
                      </a:lnTo>
                      <a:lnTo>
                        <a:pt x="624" y="981"/>
                      </a:lnTo>
                      <a:lnTo>
                        <a:pt x="615" y="990"/>
                      </a:lnTo>
                      <a:lnTo>
                        <a:pt x="626" y="985"/>
                      </a:lnTo>
                      <a:lnTo>
                        <a:pt x="617" y="972"/>
                      </a:lnTo>
                      <a:lnTo>
                        <a:pt x="610" y="957"/>
                      </a:lnTo>
                      <a:lnTo>
                        <a:pt x="607" y="952"/>
                      </a:lnTo>
                      <a:lnTo>
                        <a:pt x="604" y="948"/>
                      </a:lnTo>
                      <a:lnTo>
                        <a:pt x="600" y="942"/>
                      </a:lnTo>
                      <a:lnTo>
                        <a:pt x="590" y="932"/>
                      </a:lnTo>
                      <a:lnTo>
                        <a:pt x="580" y="921"/>
                      </a:lnTo>
                      <a:lnTo>
                        <a:pt x="570" y="912"/>
                      </a:lnTo>
                      <a:lnTo>
                        <a:pt x="561" y="919"/>
                      </a:lnTo>
                      <a:lnTo>
                        <a:pt x="571" y="912"/>
                      </a:lnTo>
                      <a:lnTo>
                        <a:pt x="568" y="907"/>
                      </a:lnTo>
                      <a:lnTo>
                        <a:pt x="559" y="916"/>
                      </a:lnTo>
                      <a:lnTo>
                        <a:pt x="570" y="911"/>
                      </a:lnTo>
                      <a:lnTo>
                        <a:pt x="569" y="908"/>
                      </a:lnTo>
                      <a:lnTo>
                        <a:pt x="568" y="904"/>
                      </a:lnTo>
                      <a:lnTo>
                        <a:pt x="566" y="900"/>
                      </a:lnTo>
                      <a:lnTo>
                        <a:pt x="564" y="897"/>
                      </a:lnTo>
                      <a:lnTo>
                        <a:pt x="555" y="905"/>
                      </a:lnTo>
                      <a:lnTo>
                        <a:pt x="565" y="898"/>
                      </a:lnTo>
                      <a:lnTo>
                        <a:pt x="560" y="892"/>
                      </a:lnTo>
                      <a:lnTo>
                        <a:pt x="555" y="886"/>
                      </a:lnTo>
                      <a:lnTo>
                        <a:pt x="549" y="879"/>
                      </a:lnTo>
                      <a:lnTo>
                        <a:pt x="543" y="872"/>
                      </a:lnTo>
                      <a:lnTo>
                        <a:pt x="537" y="864"/>
                      </a:lnTo>
                      <a:lnTo>
                        <a:pt x="531" y="858"/>
                      </a:lnTo>
                      <a:lnTo>
                        <a:pt x="528" y="854"/>
                      </a:lnTo>
                      <a:lnTo>
                        <a:pt x="527" y="853"/>
                      </a:lnTo>
                      <a:lnTo>
                        <a:pt x="527" y="853"/>
                      </a:lnTo>
                      <a:lnTo>
                        <a:pt x="524" y="849"/>
                      </a:lnTo>
                      <a:lnTo>
                        <a:pt x="516" y="858"/>
                      </a:lnTo>
                      <a:lnTo>
                        <a:pt x="527" y="853"/>
                      </a:lnTo>
                      <a:lnTo>
                        <a:pt x="526" y="850"/>
                      </a:lnTo>
                      <a:lnTo>
                        <a:pt x="524" y="846"/>
                      </a:lnTo>
                      <a:lnTo>
                        <a:pt x="522" y="842"/>
                      </a:lnTo>
                      <a:lnTo>
                        <a:pt x="520" y="839"/>
                      </a:lnTo>
                      <a:lnTo>
                        <a:pt x="511" y="847"/>
                      </a:lnTo>
                      <a:lnTo>
                        <a:pt x="520" y="840"/>
                      </a:lnTo>
                      <a:lnTo>
                        <a:pt x="492" y="803"/>
                      </a:lnTo>
                      <a:lnTo>
                        <a:pt x="467" y="767"/>
                      </a:lnTo>
                      <a:lnTo>
                        <a:pt x="458" y="775"/>
                      </a:lnTo>
                      <a:lnTo>
                        <a:pt x="469" y="771"/>
                      </a:lnTo>
                      <a:lnTo>
                        <a:pt x="445" y="734"/>
                      </a:lnTo>
                      <a:lnTo>
                        <a:pt x="421" y="696"/>
                      </a:lnTo>
                      <a:lnTo>
                        <a:pt x="421" y="696"/>
                      </a:lnTo>
                      <a:lnTo>
                        <a:pt x="413" y="683"/>
                      </a:lnTo>
                      <a:lnTo>
                        <a:pt x="405" y="692"/>
                      </a:lnTo>
                      <a:lnTo>
                        <a:pt x="416" y="687"/>
                      </a:lnTo>
                      <a:lnTo>
                        <a:pt x="410" y="676"/>
                      </a:lnTo>
                      <a:lnTo>
                        <a:pt x="404" y="664"/>
                      </a:lnTo>
                      <a:lnTo>
                        <a:pt x="401" y="660"/>
                      </a:lnTo>
                      <a:lnTo>
                        <a:pt x="395" y="652"/>
                      </a:lnTo>
                      <a:lnTo>
                        <a:pt x="395" y="651"/>
                      </a:lnTo>
                      <a:lnTo>
                        <a:pt x="380" y="632"/>
                      </a:lnTo>
                      <a:lnTo>
                        <a:pt x="366" y="614"/>
                      </a:lnTo>
                      <a:lnTo>
                        <a:pt x="352" y="596"/>
                      </a:lnTo>
                      <a:lnTo>
                        <a:pt x="338" y="579"/>
                      </a:lnTo>
                      <a:lnTo>
                        <a:pt x="338" y="578"/>
                      </a:lnTo>
                      <a:lnTo>
                        <a:pt x="333" y="572"/>
                      </a:lnTo>
                      <a:lnTo>
                        <a:pt x="325" y="580"/>
                      </a:lnTo>
                      <a:lnTo>
                        <a:pt x="336" y="576"/>
                      </a:lnTo>
                      <a:lnTo>
                        <a:pt x="332" y="569"/>
                      </a:lnTo>
                      <a:lnTo>
                        <a:pt x="326" y="553"/>
                      </a:lnTo>
                      <a:lnTo>
                        <a:pt x="321" y="538"/>
                      </a:lnTo>
                      <a:lnTo>
                        <a:pt x="318" y="531"/>
                      </a:lnTo>
                      <a:lnTo>
                        <a:pt x="314" y="523"/>
                      </a:lnTo>
                      <a:lnTo>
                        <a:pt x="308" y="514"/>
                      </a:lnTo>
                      <a:lnTo>
                        <a:pt x="305" y="510"/>
                      </a:lnTo>
                      <a:lnTo>
                        <a:pt x="296" y="499"/>
                      </a:lnTo>
                      <a:lnTo>
                        <a:pt x="288" y="488"/>
                      </a:lnTo>
                      <a:lnTo>
                        <a:pt x="279" y="496"/>
                      </a:lnTo>
                      <a:lnTo>
                        <a:pt x="290" y="492"/>
                      </a:lnTo>
                      <a:lnTo>
                        <a:pt x="287" y="486"/>
                      </a:lnTo>
                      <a:lnTo>
                        <a:pt x="284" y="481"/>
                      </a:lnTo>
                      <a:lnTo>
                        <a:pt x="284" y="480"/>
                      </a:lnTo>
                      <a:lnTo>
                        <a:pt x="277" y="466"/>
                      </a:lnTo>
                      <a:lnTo>
                        <a:pt x="271" y="451"/>
                      </a:lnTo>
                      <a:lnTo>
                        <a:pt x="263" y="437"/>
                      </a:lnTo>
                      <a:lnTo>
                        <a:pt x="260" y="433"/>
                      </a:lnTo>
                      <a:lnTo>
                        <a:pt x="250" y="420"/>
                      </a:lnTo>
                      <a:lnTo>
                        <a:pt x="250" y="419"/>
                      </a:lnTo>
                      <a:lnTo>
                        <a:pt x="246" y="414"/>
                      </a:lnTo>
                      <a:lnTo>
                        <a:pt x="237" y="422"/>
                      </a:lnTo>
                      <a:lnTo>
                        <a:pt x="248" y="418"/>
                      </a:lnTo>
                      <a:lnTo>
                        <a:pt x="246" y="413"/>
                      </a:lnTo>
                      <a:lnTo>
                        <a:pt x="242" y="402"/>
                      </a:lnTo>
                      <a:lnTo>
                        <a:pt x="238" y="390"/>
                      </a:lnTo>
                      <a:lnTo>
                        <a:pt x="232" y="378"/>
                      </a:lnTo>
                      <a:lnTo>
                        <a:pt x="222" y="384"/>
                      </a:lnTo>
                      <a:lnTo>
                        <a:pt x="233" y="379"/>
                      </a:lnTo>
                      <a:lnTo>
                        <a:pt x="226" y="368"/>
                      </a:lnTo>
                      <a:lnTo>
                        <a:pt x="224" y="364"/>
                      </a:lnTo>
                      <a:lnTo>
                        <a:pt x="215" y="354"/>
                      </a:lnTo>
                      <a:lnTo>
                        <a:pt x="207" y="343"/>
                      </a:lnTo>
                      <a:lnTo>
                        <a:pt x="199" y="352"/>
                      </a:lnTo>
                      <a:lnTo>
                        <a:pt x="210" y="347"/>
                      </a:lnTo>
                      <a:lnTo>
                        <a:pt x="201" y="335"/>
                      </a:lnTo>
                      <a:lnTo>
                        <a:pt x="190" y="318"/>
                      </a:lnTo>
                      <a:lnTo>
                        <a:pt x="179" y="300"/>
                      </a:lnTo>
                      <a:lnTo>
                        <a:pt x="176" y="296"/>
                      </a:lnTo>
                      <a:lnTo>
                        <a:pt x="164" y="278"/>
                      </a:lnTo>
                      <a:lnTo>
                        <a:pt x="150" y="261"/>
                      </a:lnTo>
                      <a:lnTo>
                        <a:pt x="150" y="260"/>
                      </a:lnTo>
                      <a:lnTo>
                        <a:pt x="146" y="255"/>
                      </a:lnTo>
                      <a:lnTo>
                        <a:pt x="137" y="263"/>
                      </a:lnTo>
                      <a:lnTo>
                        <a:pt x="148" y="259"/>
                      </a:lnTo>
                      <a:lnTo>
                        <a:pt x="146" y="254"/>
                      </a:lnTo>
                      <a:lnTo>
                        <a:pt x="141" y="243"/>
                      </a:lnTo>
                      <a:lnTo>
                        <a:pt x="138" y="231"/>
                      </a:lnTo>
                      <a:lnTo>
                        <a:pt x="132" y="219"/>
                      </a:lnTo>
                      <a:lnTo>
                        <a:pt x="127" y="213"/>
                      </a:lnTo>
                      <a:lnTo>
                        <a:pt x="125" y="209"/>
                      </a:lnTo>
                      <a:lnTo>
                        <a:pt x="118" y="202"/>
                      </a:lnTo>
                      <a:lnTo>
                        <a:pt x="109" y="210"/>
                      </a:lnTo>
                      <a:lnTo>
                        <a:pt x="118" y="202"/>
                      </a:lnTo>
                      <a:lnTo>
                        <a:pt x="113" y="196"/>
                      </a:lnTo>
                      <a:lnTo>
                        <a:pt x="105" y="204"/>
                      </a:lnTo>
                      <a:lnTo>
                        <a:pt x="116" y="200"/>
                      </a:lnTo>
                      <a:lnTo>
                        <a:pt x="112" y="193"/>
                      </a:lnTo>
                      <a:lnTo>
                        <a:pt x="106" y="177"/>
                      </a:lnTo>
                      <a:lnTo>
                        <a:pt x="101" y="162"/>
                      </a:lnTo>
                      <a:lnTo>
                        <a:pt x="98" y="155"/>
                      </a:lnTo>
                      <a:lnTo>
                        <a:pt x="94" y="147"/>
                      </a:lnTo>
                      <a:lnTo>
                        <a:pt x="84" y="153"/>
                      </a:lnTo>
                      <a:lnTo>
                        <a:pt x="95" y="148"/>
                      </a:lnTo>
                      <a:lnTo>
                        <a:pt x="89" y="137"/>
                      </a:lnTo>
                      <a:lnTo>
                        <a:pt x="82" y="127"/>
                      </a:lnTo>
                      <a:lnTo>
                        <a:pt x="76" y="116"/>
                      </a:lnTo>
                      <a:lnTo>
                        <a:pt x="70" y="105"/>
                      </a:lnTo>
                      <a:lnTo>
                        <a:pt x="60" y="78"/>
                      </a:lnTo>
                      <a:lnTo>
                        <a:pt x="50" y="52"/>
                      </a:lnTo>
                      <a:lnTo>
                        <a:pt x="44" y="39"/>
                      </a:lnTo>
                      <a:lnTo>
                        <a:pt x="37" y="27"/>
                      </a:lnTo>
                      <a:lnTo>
                        <a:pt x="29" y="15"/>
                      </a:lnTo>
                      <a:lnTo>
                        <a:pt x="27" y="11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899480" y="3521160"/>
                  <a:ext cx="334800" cy="344520"/>
                </a:xfrm>
                <a:prstGeom prst="ellipse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8019000" y="3613320"/>
                  <a:ext cx="78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10000"/>
                      </a:solidFill>
                      <a:latin typeface="Century"/>
                    </a:rPr>
                    <a:t>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8" name=""/>
                <p:cNvGrpSpPr/>
                <p:nvPr/>
              </p:nvGrpSpPr>
              <p:grpSpPr>
                <a:xfrm>
                  <a:off x="6699240" y="3687840"/>
                  <a:ext cx="1200240" cy="122040"/>
                  <a:chOff x="6699240" y="3687840"/>
                  <a:chExt cx="1200240" cy="122040"/>
                </a:xfrm>
              </p:grpSpPr>
              <p:sp>
                <p:nvSpPr>
                  <p:cNvPr id="2039" name=""/>
                  <p:cNvSpPr/>
                  <p:nvPr/>
                </p:nvSpPr>
                <p:spPr>
                  <a:xfrm>
                    <a:off x="6818400" y="3740040"/>
                    <a:ext cx="1081080" cy="19080"/>
                  </a:xfrm>
                  <a:prstGeom prst="rect">
                    <a:avLst/>
                  </a:prstGeom>
                  <a:solidFill>
                    <a:srgbClr val="ff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6699240" y="3687840"/>
                    <a:ext cx="12240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77">
                        <a:moveTo>
                          <a:pt x="77" y="0"/>
                        </a:moveTo>
                        <a:lnTo>
                          <a:pt x="0" y="39"/>
                        </a:lnTo>
                        <a:lnTo>
                          <a:pt x="77" y="77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1" name=""/>
                <p:cNvGrpSpPr/>
                <p:nvPr/>
              </p:nvGrpSpPr>
              <p:grpSpPr>
                <a:xfrm>
                  <a:off x="4765680" y="3687840"/>
                  <a:ext cx="1866960" cy="122040"/>
                  <a:chOff x="4765680" y="3687840"/>
                  <a:chExt cx="1866960" cy="122040"/>
                </a:xfrm>
              </p:grpSpPr>
              <p:sp>
                <p:nvSpPr>
                  <p:cNvPr id="2042" name=""/>
                  <p:cNvSpPr/>
                  <p:nvPr/>
                </p:nvSpPr>
                <p:spPr>
                  <a:xfrm>
                    <a:off x="6556320" y="3740040"/>
                    <a:ext cx="7632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6423120" y="3740040"/>
                    <a:ext cx="7596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6289560" y="3740040"/>
                    <a:ext cx="7632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6156360" y="3740040"/>
                    <a:ext cx="7632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6022800" y="3740040"/>
                    <a:ext cx="7632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5889600" y="3740040"/>
                    <a:ext cx="7632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5756400" y="3740040"/>
                    <a:ext cx="7596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5622840" y="3740040"/>
                    <a:ext cx="7632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5489640" y="3740040"/>
                    <a:ext cx="7596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5356080" y="3740040"/>
                    <a:ext cx="7632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5222880" y="3740040"/>
                    <a:ext cx="7632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5089680" y="3740040"/>
                    <a:ext cx="7596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4956120" y="3740040"/>
                    <a:ext cx="7632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4884840" y="3740040"/>
                    <a:ext cx="14040" cy="190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4765680" y="3687840"/>
                    <a:ext cx="12240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77">
                        <a:moveTo>
                          <a:pt x="77" y="0"/>
                        </a:moveTo>
                        <a:lnTo>
                          <a:pt x="0" y="39"/>
                        </a:lnTo>
                        <a:lnTo>
                          <a:pt x="77" y="77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7" name=""/>
                <p:cNvGrpSpPr/>
                <p:nvPr/>
              </p:nvGrpSpPr>
              <p:grpSpPr>
                <a:xfrm>
                  <a:off x="5202360" y="3406680"/>
                  <a:ext cx="96840" cy="343080"/>
                  <a:chOff x="5202360" y="3406680"/>
                  <a:chExt cx="96840" cy="343080"/>
                </a:xfrm>
              </p:grpSpPr>
              <p:sp>
                <p:nvSpPr>
                  <p:cNvPr id="2058" name=""/>
                  <p:cNvSpPr/>
                  <p:nvPr/>
                </p:nvSpPr>
                <p:spPr>
                  <a:xfrm flipH="1">
                    <a:off x="5250960" y="3406680"/>
                    <a:ext cx="47880" cy="24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5202360" y="3643200"/>
                    <a:ext cx="968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7">
                        <a:moveTo>
                          <a:pt x="0" y="0"/>
                        </a:moveTo>
                        <a:lnTo>
                          <a:pt x="19" y="67"/>
                        </a:lnTo>
                        <a:lnTo>
                          <a:pt x="61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0" name=""/>
                <p:cNvSpPr/>
                <p:nvPr/>
              </p:nvSpPr>
              <p:spPr>
                <a:xfrm>
                  <a:off x="6622920" y="4092480"/>
                  <a:ext cx="1908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61" name=""/>
                <p:cNvGrpSpPr/>
                <p:nvPr/>
              </p:nvGrpSpPr>
              <p:grpSpPr>
                <a:xfrm>
                  <a:off x="6583320" y="4321080"/>
                  <a:ext cx="100080" cy="228600"/>
                  <a:chOff x="6583320" y="4321080"/>
                  <a:chExt cx="100080" cy="22860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 flipV="1">
                    <a:off x="6632640" y="4416480"/>
                    <a:ext cx="1440" cy="133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6583320" y="4321080"/>
                    <a:ext cx="100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2">
                        <a:moveTo>
                          <a:pt x="63" y="62"/>
                        </a:moveTo>
                        <a:lnTo>
                          <a:pt x="31" y="0"/>
                        </a:lnTo>
                        <a:lnTo>
                          <a:pt x="0" y="62"/>
                        </a:lnTo>
                        <a:lnTo>
                          <a:pt x="63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4" name=""/>
              <p:cNvSpPr/>
              <p:nvPr/>
            </p:nvSpPr>
            <p:spPr>
              <a:xfrm>
                <a:off x="5794200" y="1616040"/>
                <a:ext cx="2592720" cy="4590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834520" y="1704960"/>
                <a:ext cx="2558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ahoma"/>
                  </a:rPr>
                  <a:t>Bare Coulomb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6" name=""/>
              <p:cNvGrpSpPr/>
              <p:nvPr/>
            </p:nvGrpSpPr>
            <p:grpSpPr>
              <a:xfrm>
                <a:off x="5413320" y="1844640"/>
                <a:ext cx="380880" cy="104760"/>
                <a:chOff x="5413320" y="1844640"/>
                <a:chExt cx="380880" cy="104760"/>
              </a:xfrm>
            </p:grpSpPr>
            <p:sp>
              <p:nvSpPr>
                <p:cNvPr id="2067" name=""/>
                <p:cNvSpPr/>
                <p:nvPr/>
              </p:nvSpPr>
              <p:spPr>
                <a:xfrm flipH="1">
                  <a:off x="5506920" y="1844640"/>
                  <a:ext cx="287280" cy="5724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5413320" y="1852560"/>
                  <a:ext cx="106560" cy="96840"/>
                </a:xfrm>
                <a:custGeom>
                  <a:avLst/>
                  <a:gdLst/>
                  <a:ahLst/>
                  <a:rect l="l" t="t" r="r" b="b"/>
                  <a:pathLst>
                    <a:path w="67" h="61">
                      <a:moveTo>
                        <a:pt x="55" y="0"/>
                      </a:moveTo>
                      <a:lnTo>
                        <a:pt x="0" y="43"/>
                      </a:lnTo>
                      <a:lnTo>
                        <a:pt x="67" y="61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"/>
              <p:cNvSpPr/>
              <p:nvPr/>
            </p:nvSpPr>
            <p:spPr>
              <a:xfrm>
                <a:off x="6099120" y="3063960"/>
                <a:ext cx="1525680" cy="306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215040" y="3094200"/>
                <a:ext cx="1323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10000"/>
                    </a:solidFill>
                    <a:latin typeface="Tahoma"/>
                  </a:rPr>
                  <a:t>Screened Po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554960" y="3094200"/>
                <a:ext cx="55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10000"/>
                    </a:solidFill>
                    <a:latin typeface="Tahoma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2" name=""/>
              <p:cNvGrpSpPr/>
              <p:nvPr/>
            </p:nvGrpSpPr>
            <p:grpSpPr>
              <a:xfrm>
                <a:off x="5946840" y="3165480"/>
                <a:ext cx="151920" cy="100080"/>
                <a:chOff x="5946840" y="3165480"/>
                <a:chExt cx="151920" cy="100080"/>
              </a:xfrm>
            </p:grpSpPr>
            <p:sp>
              <p:nvSpPr>
                <p:cNvPr id="2073" name=""/>
                <p:cNvSpPr/>
                <p:nvPr/>
              </p:nvSpPr>
              <p:spPr>
                <a:xfrm flipH="1">
                  <a:off x="6041520" y="3216240"/>
                  <a:ext cx="57240" cy="18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5946840" y="3165480"/>
                  <a:ext cx="98280" cy="10008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62" y="0"/>
                      </a:moveTo>
                      <a:lnTo>
                        <a:pt x="0" y="32"/>
                      </a:lnTo>
                      <a:lnTo>
                        <a:pt x="62" y="63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5" name=""/>
              <p:cNvSpPr/>
              <p:nvPr/>
            </p:nvSpPr>
            <p:spPr>
              <a:xfrm>
                <a:off x="6480000" y="4664160"/>
                <a:ext cx="459000" cy="3826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651720" y="4732200"/>
                <a:ext cx="128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99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651200" y="4816440"/>
                <a:ext cx="535320" cy="5349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651200" y="4892760"/>
                <a:ext cx="535320" cy="5349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04560" y="5037120"/>
                <a:ext cx="20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Tahoma"/>
                  </a:rPr>
                  <a:t>r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457200" y="749160"/>
              <a:ext cx="868680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D97-E407-45BC-830A-258F1D92DA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10c6"/>
                </a:solidFill>
                <a:latin typeface="Arial"/>
              </a:rPr>
              <a:t>EQP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1910c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ctronic </a:t>
            </a:r>
            <a:r>
              <a:rPr b="0" lang="en-US" sz="4000" spc="-1" strike="noStrike">
                <a:solidFill>
                  <a:srgbClr val="1910c6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asi-</a:t>
            </a:r>
            <a:r>
              <a:rPr b="0" lang="en-US" sz="4000" spc="-1" strike="noStrike">
                <a:solidFill>
                  <a:srgbClr val="1910c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icle </a:t>
            </a:r>
            <a:r>
              <a:rPr b="0" lang="en-US" sz="4000" spc="-1" strike="noStrike">
                <a:solidFill>
                  <a:srgbClr val="1910c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pansion </a:t>
            </a:r>
            <a:r>
              <a:rPr b="0" lang="en-US" sz="4000" spc="-1" strike="noStrike">
                <a:solidFill>
                  <a:srgbClr val="1910c6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7f7a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10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1910c6"/>
                </a:solidFill>
                <a:latin typeface="Arial"/>
              </a:rPr>
              <a:t>Wave functions of TSC or OSC cluster can be approximated by linear combination of partial wave functions for normal and quasi-molecular states, dde, ddee, dde* and dde*e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D and 8D clusters are composed of dde, ddee, dde*, dde*e*,…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684360" y="1557360"/>
            <a:ext cx="741672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17E-30BB-405E-B26C-7C74168485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189000"/>
            <a:ext cx="8229600" cy="630000"/>
          </a:xfrm>
          <a:prstGeom prst="rect">
            <a:avLst/>
          </a:prstGeom>
          <a:solidFill>
            <a:srgbClr val="fdf83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Results: Experiments vs.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2000" y="998640"/>
          <a:ext cx="8982000" cy="5670360"/>
        </p:xfrm>
        <a:graphic>
          <a:graphicData uri="http://schemas.openxmlformats.org/drawingml/2006/table">
            <a:tbl>
              <a:tblPr/>
              <a:tblGrid>
                <a:gridCol w="2035080"/>
                <a:gridCol w="3952800"/>
                <a:gridCol w="299412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/  Method/ Resu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PET/T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9f9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d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8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agi/beam/310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hashi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/1E+9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d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eV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de*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E+13)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τ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0.1m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Kubre/Electrolysi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+-13MeV/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MeV/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2 +47.6M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Boher/El./24.8keV/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keV/P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MeV/cc by 4d/T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amura/Perm./Cs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ey/NiH/Fission-like P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/TSC + M   4p/TSC + M re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2C6-D7E3-479D-AFB1-7988F1F965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4" name=""/>
          <p:cNvGrpSpPr/>
          <p:nvPr/>
        </p:nvGrpSpPr>
        <p:grpSpPr>
          <a:xfrm>
            <a:off x="800280" y="473040"/>
            <a:ext cx="7545240" cy="5891400"/>
            <a:chOff x="800280" y="473040"/>
            <a:chExt cx="7545240" cy="5891400"/>
          </a:xfrm>
        </p:grpSpPr>
        <p:sp>
          <p:nvSpPr>
            <p:cNvPr id="2085" name=""/>
            <p:cNvSpPr/>
            <p:nvPr/>
          </p:nvSpPr>
          <p:spPr>
            <a:xfrm>
              <a:off x="800280" y="495360"/>
              <a:ext cx="7316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949680" y="473040"/>
              <a:ext cx="293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EQPET: continued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00280" y="1257480"/>
              <a:ext cx="7545240" cy="51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219320" y="1303200"/>
              <a:ext cx="6919920" cy="14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“</a:t>
              </a: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Bosonized” electron wave function </a:t>
              </a:r>
              <a:r>
                <a:rPr b="1" lang="ja-JP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Ψ </a:t>
              </a:r>
              <a:r>
                <a:rPr b="1" lang="ja-JP" sz="1200" spc="-1" strike="noStrike">
                  <a:solidFill>
                    <a:srgbClr val="0000ff"/>
                  </a:solidFill>
                  <a:latin typeface="Century"/>
                </a:rPr>
                <a:t>N </a:t>
              </a: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for N-electrons system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MDx lattice </a:t>
              </a: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will be approximated by a linear combination of normal electron wave function </a:t>
              </a:r>
              <a:r>
                <a:rPr b="1" lang="ja-JP" sz="18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Ψ </a:t>
              </a:r>
              <a:r>
                <a:rPr b="1" lang="ja-JP" sz="1200" spc="-1" strike="noStrike">
                  <a:solidFill>
                    <a:srgbClr val="010000"/>
                  </a:solidFill>
                  <a:latin typeface="Century"/>
                </a:rPr>
                <a:t>(1,1)G </a:t>
              </a: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and quasi-particle wave functions </a:t>
              </a:r>
              <a:r>
                <a:rPr b="1" lang="ja-JP" sz="18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Ψ</a:t>
              </a:r>
              <a:r>
                <a:rPr b="1" lang="ja-JP" sz="1200" spc="-1" strike="noStrike">
                  <a:solidFill>
                    <a:srgbClr val="010000"/>
                  </a:solidFill>
                  <a:latin typeface="Century"/>
                </a:rPr>
                <a:t>(2,2)G </a:t>
              </a:r>
              <a:r>
                <a:rPr b="1" lang="ja-JP" sz="18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Ψ</a:t>
              </a:r>
              <a:r>
                <a:rPr b="1" lang="ja-JP" sz="1200" spc="-1" strike="noStrike">
                  <a:solidFill>
                    <a:srgbClr val="010000"/>
                  </a:solidFill>
                  <a:latin typeface="Century"/>
                </a:rPr>
                <a:t>(4,4)G  </a:t>
              </a: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and </a:t>
              </a:r>
              <a:r>
                <a:rPr b="1" lang="ja-JP" sz="18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Ψ</a:t>
              </a:r>
              <a:r>
                <a:rPr b="1" lang="ja-JP" sz="1200" spc="-1" strike="noStrike">
                  <a:solidFill>
                    <a:srgbClr val="010000"/>
                  </a:solidFill>
                  <a:latin typeface="Century"/>
                </a:rPr>
                <a:t>(8,8)G  </a:t>
              </a: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 a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317240" y="3013200"/>
              <a:ext cx="24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│</a:t>
              </a: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615680" y="310032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765800" y="2987640"/>
              <a:ext cx="46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&gt; =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232000" y="31003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393640" y="3013200"/>
              <a:ext cx="24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│</a:t>
              </a: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718720" y="310032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(1,1)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126600" y="2987640"/>
              <a:ext cx="51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&gt;  +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647880" y="31003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809880" y="3013200"/>
              <a:ext cx="24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│</a:t>
              </a: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134600" y="310032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(2,2)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538880" y="29876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&gt; +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949640" y="31003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111640" y="3013200"/>
              <a:ext cx="24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│</a:t>
              </a: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436360" y="310032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(4,4)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840640" y="29876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&gt; +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251400" y="31003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413400" y="3013200"/>
              <a:ext cx="24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│</a:t>
              </a:r>
              <a:r>
                <a:rPr b="1" lang="en-US" sz="16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38120" y="310032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(8,8)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154280" y="2987640"/>
              <a:ext cx="79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 </a:t>
              </a: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&gt;       (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023840" y="3836880"/>
              <a:ext cx="495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For the time-window of potential deep h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829840" y="3848040"/>
              <a:ext cx="27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1,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013800" y="3836880"/>
              <a:ext cx="186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, effective (tim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992880" y="4111560"/>
              <a:ext cx="693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averaged) screening potential, for a d-d pair in a transient D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141200" y="4386240"/>
              <a:ext cx="4583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cluster of 4-8 deuterons for TRF and OR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60280" y="4386240"/>
              <a:ext cx="114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779520" y="4397400"/>
              <a:ext cx="13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0000"/>
                  </a:solidFill>
                  <a:latin typeface="Century"/>
                </a:rPr>
                <a:t>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98320" y="4386240"/>
              <a:ext cx="87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, can 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177200" y="4660920"/>
              <a:ext cx="146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efined by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348640" y="4660920"/>
              <a:ext cx="515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Century"/>
                </a:rPr>
                <a:t>screened potential of quasi-particle comple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243080" y="54720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379880" y="5584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454040" y="5472000"/>
              <a:ext cx="62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(R) =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081160" y="558468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168640" y="54720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300400" y="55846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s(1,1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66880" y="5472000"/>
              <a:ext cx="62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(R) +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294000" y="558468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381480" y="54720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513240" y="55846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s(2,2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879720" y="5472000"/>
              <a:ext cx="62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(R) +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506840" y="558468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594320" y="54720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726080" y="55846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s(4,4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094360" y="5472000"/>
              <a:ext cx="67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(R)  +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76560" y="558468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864040" y="5472000"/>
              <a:ext cx="13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996160" y="55846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Century"/>
                </a:rPr>
                <a:t>s(8,8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388920" y="5472000"/>
              <a:ext cx="1325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(R)               (9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0280" y="847800"/>
              <a:ext cx="7543800" cy="58680"/>
            </a:xfrm>
            <a:custGeom>
              <a:avLst/>
              <a:gdLst/>
              <a:ahLst/>
              <a:rect l="l" t="t" r="r" b="b"/>
              <a:pathLst>
                <a:path w="4752" h="37">
                  <a:moveTo>
                    <a:pt x="0" y="0"/>
                  </a:moveTo>
                  <a:lnTo>
                    <a:pt x="0" y="36"/>
                  </a:lnTo>
                  <a:lnTo>
                    <a:pt x="4752" y="37"/>
                  </a:lnTo>
                  <a:lnTo>
                    <a:pt x="475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952560" y="2781360"/>
              <a:ext cx="723888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952560" y="3543480"/>
              <a:ext cx="723888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191440" y="2781360"/>
              <a:ext cx="1800" cy="7650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91440" y="3467160"/>
              <a:ext cx="1800" cy="8568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936720" y="2776680"/>
              <a:ext cx="1440" cy="7650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3" name=""/>
            <p:cNvGrpSpPr/>
            <p:nvPr/>
          </p:nvGrpSpPr>
          <p:grpSpPr>
            <a:xfrm>
              <a:off x="914400" y="5251320"/>
              <a:ext cx="7267680" cy="768240"/>
              <a:chOff x="914400" y="5251320"/>
              <a:chExt cx="7267680" cy="768240"/>
            </a:xfrm>
          </p:grpSpPr>
          <p:sp>
            <p:nvSpPr>
              <p:cNvPr id="2144" name=""/>
              <p:cNvSpPr/>
              <p:nvPr/>
            </p:nvSpPr>
            <p:spPr>
              <a:xfrm>
                <a:off x="928800" y="5265360"/>
                <a:ext cx="7238880" cy="18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928800" y="5986080"/>
                <a:ext cx="7238880" cy="18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914400" y="5254200"/>
                <a:ext cx="1440" cy="76536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180280" y="5251320"/>
                <a:ext cx="1800" cy="7650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2BF-B83F-4C5C-BAF9-52CDA93D9B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8" name=""/>
          <p:cNvGrpSpPr/>
          <p:nvPr/>
        </p:nvGrpSpPr>
        <p:grpSpPr>
          <a:xfrm>
            <a:off x="606600" y="73080"/>
            <a:ext cx="7929360" cy="5871960"/>
            <a:chOff x="606600" y="73080"/>
            <a:chExt cx="7929360" cy="5871960"/>
          </a:xfrm>
        </p:grpSpPr>
        <p:sp>
          <p:nvSpPr>
            <p:cNvPr id="2149" name=""/>
            <p:cNvSpPr/>
            <p:nvPr/>
          </p:nvSpPr>
          <p:spPr>
            <a:xfrm>
              <a:off x="606600" y="73080"/>
              <a:ext cx="753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6000" y="152280"/>
              <a:ext cx="293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EQPET: continued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09480" y="838080"/>
              <a:ext cx="7774200" cy="51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038240" y="880920"/>
              <a:ext cx="62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For 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639800" y="88092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d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25360" y="880920"/>
              <a:ext cx="48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* 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74640" y="88092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d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799360" y="880920"/>
              <a:ext cx="149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*e* molec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212000" y="880920"/>
              <a:ext cx="6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85520" y="1320840"/>
              <a:ext cx="701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wave function of a d-d pair (2D) is given by the solution of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986400" y="1595520"/>
              <a:ext cx="113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follow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999080" y="1595520"/>
              <a:ext cx="152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Schroedin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06680" y="1595520"/>
              <a:ext cx="11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equa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036440" y="2035080"/>
              <a:ext cx="30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-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332000" y="20462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399320" y="2035080"/>
              <a:ext cx="30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/(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76960" y="2063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π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143080" y="2035080"/>
              <a:ext cx="15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343240" y="2063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525760" y="20462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657520" y="2063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853360" y="203508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 + 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507840" y="2035080"/>
              <a:ext cx="15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61920" y="2173320"/>
              <a:ext cx="10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765240" y="2035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14720" y="203508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 +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503240" y="2173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582800" y="203508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018040" y="2063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241600" y="2035080"/>
              <a:ext cx="92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   =  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249960" y="2063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462360" y="2035080"/>
              <a:ext cx="155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              (1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21520" y="2914560"/>
              <a:ext cx="607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By Born-Oppenheimer approximation, we assume a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087560" y="3335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284480" y="3354480"/>
              <a:ext cx="5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900440" y="3382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080800" y="3492360"/>
              <a:ext cx="10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183040" y="3354480"/>
              <a:ext cx="30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541600" y="3382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722320" y="3492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849760" y="3354480"/>
              <a:ext cx="226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                          (1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953280" y="4233960"/>
              <a:ext cx="23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Overlapping rate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306960" y="4262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401280" y="4233960"/>
              <a:ext cx="360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(R) at R = r0 gives estimation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146000" y="4233960"/>
              <a:ext cx="113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d-d fu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020600" y="4508640"/>
              <a:ext cx="53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ra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582920" y="453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760760" y="464652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2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929240" y="45086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a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6600" y="501480"/>
              <a:ext cx="7929360" cy="59040"/>
            </a:xfrm>
            <a:custGeom>
              <a:avLst/>
              <a:gdLst/>
              <a:ahLst/>
              <a:rect l="l" t="t" r="r" b="b"/>
              <a:pathLst>
                <a:path w="4995" h="37">
                  <a:moveTo>
                    <a:pt x="0" y="0"/>
                  </a:moveTo>
                  <a:lnTo>
                    <a:pt x="0" y="36"/>
                  </a:lnTo>
                  <a:lnTo>
                    <a:pt x="4995" y="37"/>
                  </a:lnTo>
                  <a:lnTo>
                    <a:pt x="499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58880" y="1901880"/>
              <a:ext cx="7470720" cy="32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58880" y="1901880"/>
              <a:ext cx="3240" cy="460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58880" y="2359080"/>
              <a:ext cx="7470720" cy="32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229600" y="1905120"/>
              <a:ext cx="0" cy="457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758880" y="3273480"/>
              <a:ext cx="4575240" cy="460440"/>
              <a:chOff x="758880" y="3273480"/>
              <a:chExt cx="4575240" cy="460440"/>
            </a:xfrm>
          </p:grpSpPr>
          <p:sp>
            <p:nvSpPr>
              <p:cNvPr id="2204" name=""/>
              <p:cNvSpPr/>
              <p:nvPr/>
            </p:nvSpPr>
            <p:spPr>
              <a:xfrm>
                <a:off x="758880" y="3273480"/>
                <a:ext cx="4575240" cy="324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58880" y="3273480"/>
                <a:ext cx="2880" cy="46044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61760" y="3733920"/>
                <a:ext cx="4572000" cy="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334120" y="3276720"/>
                <a:ext cx="0" cy="45720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762120" y="4876920"/>
              <a:ext cx="5562000" cy="916920"/>
              <a:chOff x="762120" y="4876920"/>
              <a:chExt cx="5562000" cy="916920"/>
            </a:xfrm>
          </p:grpSpPr>
          <p:sp>
            <p:nvSpPr>
              <p:cNvPr id="2209" name=""/>
              <p:cNvSpPr/>
              <p:nvPr/>
            </p:nvSpPr>
            <p:spPr>
              <a:xfrm>
                <a:off x="762120" y="4880160"/>
                <a:ext cx="5562000" cy="144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62120" y="4880160"/>
                <a:ext cx="0" cy="91368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62120" y="5793840"/>
                <a:ext cx="5547960" cy="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306840" y="4876920"/>
                <a:ext cx="3240" cy="916920"/>
              </a:xfrm>
              <a:prstGeom prst="line">
                <a:avLst/>
              </a:prstGeom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990720" y="4906800"/>
              <a:ext cx="4902840" cy="756000"/>
              <a:chOff x="990720" y="4906800"/>
              <a:chExt cx="4902840" cy="756000"/>
            </a:xfrm>
          </p:grpSpPr>
          <p:sp>
            <p:nvSpPr>
              <p:cNvPr id="2214" name=""/>
              <p:cNvSpPr/>
              <p:nvPr/>
            </p:nvSpPr>
            <p:spPr>
              <a:xfrm>
                <a:off x="1459440" y="5388120"/>
                <a:ext cx="4434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   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= G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ＭＳ 明朝"/>
                    <a:ea typeface="ＭＳ 明朝"/>
                  </a:rPr>
                  <a:t>│Χ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Century"/>
                  </a:rPr>
                  <a:t>n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ＭＳ 明朝"/>
                    <a:ea typeface="ＭＳ 明朝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(R)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ＭＳ 明朝"/>
                    <a:ea typeface="ＭＳ 明朝"/>
                  </a:rPr>
                  <a:t>│ 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Century"/>
                  </a:rPr>
                  <a:t>R=r0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ＭＳ 明朝"/>
                    <a:ea typeface="ＭＳ 明朝"/>
                  </a:rPr>
                  <a:t>│Χ 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Century"/>
                  </a:rPr>
                  <a:t>s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(R)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ＭＳ 明朝"/>
                    <a:ea typeface="ＭＳ 明朝"/>
                  </a:rPr>
                  <a:t>│ </a:t>
                </a:r>
                <a:r>
                  <a:rPr b="1" lang="en-US" sz="1200" spc="-1" strike="noStrike">
                    <a:solidFill>
                      <a:srgbClr val="0000ff"/>
                    </a:solidFill>
                    <a:latin typeface="Century"/>
                  </a:rPr>
                  <a:t>R=r0       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Century"/>
                  </a:rPr>
                  <a:t>(1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076560" y="530388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entury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875120" y="530388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entury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7" name=""/>
              <p:cNvGrpSpPr/>
              <p:nvPr/>
            </p:nvGrpSpPr>
            <p:grpSpPr>
              <a:xfrm>
                <a:off x="990720" y="4906800"/>
                <a:ext cx="2886120" cy="427320"/>
                <a:chOff x="990720" y="4906800"/>
                <a:chExt cx="2886120" cy="427320"/>
              </a:xfrm>
            </p:grpSpPr>
            <p:sp>
              <p:nvSpPr>
                <p:cNvPr id="2218" name=""/>
                <p:cNvSpPr/>
                <p:nvPr/>
              </p:nvSpPr>
              <p:spPr>
                <a:xfrm>
                  <a:off x="990720" y="5059440"/>
                  <a:ext cx="28861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ＭＳ 明朝"/>
                      <a:ea typeface="ＭＳ 明朝"/>
                    </a:rPr>
                    <a:t>λ</a:t>
                  </a:r>
                  <a:r>
                    <a:rPr b="1" lang="en-US" sz="1200" spc="-1" strike="noStrike">
                      <a:solidFill>
                        <a:srgbClr val="0000ff"/>
                      </a:solidFill>
                      <a:latin typeface="Century"/>
                    </a:rPr>
                    <a:t>2d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"/>
                    </a:rPr>
                    <a:t>= G</a:t>
                  </a:r>
                  <a:r>
                    <a:rPr b="1" lang="en-US" sz="1200" spc="-1" strike="noStrike">
                      <a:solidFill>
                        <a:srgbClr val="0000ff"/>
                      </a:solidFill>
                      <a:latin typeface="Century"/>
                    </a:rPr>
                    <a:t>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ＭＳ 明朝"/>
                      <a:ea typeface="ＭＳ 明朝"/>
                    </a:rPr>
                    <a:t>│Χ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"/>
                    </a:rPr>
                    <a:t>(R) 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ＭＳ 明朝"/>
                      <a:ea typeface="ＭＳ 明朝"/>
                    </a:rPr>
                    <a:t>│ </a:t>
                  </a:r>
                  <a:r>
                    <a:rPr b="1" lang="en-US" sz="1200" spc="-1" strike="noStrike">
                      <a:solidFill>
                        <a:srgbClr val="0000ff"/>
                      </a:solidFill>
                      <a:latin typeface="Century"/>
                    </a:rPr>
                    <a:t>R=r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2914920" y="490680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Century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4E4-8337-432F-8E02-9EA80A2257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0" name=""/>
          <p:cNvGrpSpPr/>
          <p:nvPr/>
        </p:nvGrpSpPr>
        <p:grpSpPr>
          <a:xfrm>
            <a:off x="762120" y="396720"/>
            <a:ext cx="7619760" cy="6061320"/>
            <a:chOff x="762120" y="396720"/>
            <a:chExt cx="7619760" cy="6061320"/>
          </a:xfrm>
        </p:grpSpPr>
        <p:sp>
          <p:nvSpPr>
            <p:cNvPr id="2221" name=""/>
            <p:cNvSpPr/>
            <p:nvPr/>
          </p:nvSpPr>
          <p:spPr>
            <a:xfrm>
              <a:off x="762120" y="398520"/>
              <a:ext cx="7316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915120" y="396720"/>
              <a:ext cx="289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EQPET: continues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62120" y="1084320"/>
              <a:ext cx="7543800" cy="537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092960" y="1130400"/>
              <a:ext cx="389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Using WKB approximation for th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178600" y="1130400"/>
              <a:ext cx="108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barrier (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322680" y="1268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339600" y="1130400"/>
              <a:ext cx="181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) pene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144080" y="1405080"/>
              <a:ext cx="132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probab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289520" y="1873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│</a:t>
              </a: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653840" y="1982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33760" y="1844640"/>
              <a:ext cx="30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092320" y="1873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274840" y="18558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365560" y="19828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R=r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00360" y="1844640"/>
              <a:ext cx="100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= exp(-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737160" y="1873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917520" y="1982880"/>
              <a:ext cx="10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32000" y="1844640"/>
              <a:ext cx="2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251240" y="19828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390920" y="1844640"/>
              <a:ext cx="217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)                           (1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87720" y="2284560"/>
              <a:ext cx="518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                                              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;Barrier Factor (B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180800" y="2724120"/>
              <a:ext cx="909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where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156040" y="28623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089800" y="272412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is the relative deuteron energy a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672240" y="2752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ＭＳ 明朝"/>
                  <a:ea typeface="ＭＳ 明朝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862320" y="2862360"/>
              <a:ext cx="10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99"/>
                  </a:solidFill>
                  <a:latin typeface="Century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969600" y="2724120"/>
              <a:ext cx="30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ff3399"/>
                  </a:solidFill>
                  <a:latin typeface="Century"/>
                </a:rPr>
                <a:t>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342560" y="2724120"/>
              <a:ext cx="86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3399"/>
                  </a:solidFill>
                  <a:latin typeface="Century"/>
                </a:rPr>
                <a:t>Gam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948600" y="2998800"/>
              <a:ext cx="713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Century"/>
                </a:rPr>
                <a:t>integral for a d-d pair in D-cluster (n-deuterons with electr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121760" y="3273480"/>
              <a:ext cx="203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that is defined a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43080" y="37418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423440" y="3851280"/>
              <a:ext cx="10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538280" y="3713040"/>
              <a:ext cx="2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757520" y="38512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852920" y="3713040"/>
              <a:ext cx="53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 = (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440080" y="37418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622960" y="371304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687400" y="372420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873880" y="3713040"/>
              <a:ext cx="41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/(h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300480" y="37418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483360" y="371304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06840" y="37418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789000" y="3851280"/>
              <a:ext cx="15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r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36960" y="37242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034160" y="3713040"/>
              <a:ext cx="22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65280" y="3851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65360" y="371304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-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94200" y="38512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985280" y="371304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049720" y="372420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282280" y="3713040"/>
              <a:ext cx="113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dR       (1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125720" y="4152960"/>
              <a:ext cx="230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Using astrophysic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215520" y="4152960"/>
              <a:ext cx="343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S-factor for strong inte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502680" y="4152960"/>
              <a:ext cx="6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202400" y="4592520"/>
              <a:ext cx="1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467360" y="4621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│</a:t>
              </a: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831680" y="4730760"/>
              <a:ext cx="10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933920" y="4592520"/>
              <a:ext cx="30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292480" y="4621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475000" y="46036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565720" y="473076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R=r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927160" y="45925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 </a:t>
              </a: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= 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440520" y="473076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2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635280" y="4592520"/>
              <a:ext cx="2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854520" y="4730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948480" y="4592520"/>
              <a:ext cx="30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/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46560" y="4730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69320" y="4592520"/>
              <a:ext cx="148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             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1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029960" y="5073480"/>
              <a:ext cx="421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Consequently we can approxima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44680" y="5073480"/>
              <a:ext cx="78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def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731920" y="5046840"/>
              <a:ext cx="1392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entury"/>
                </a:rPr>
                <a:t>fusion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055280" y="507348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a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243080" y="5548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421280" y="565776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2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10640" y="551988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 </a:t>
              </a:r>
              <a:r>
                <a:rPr b="1" lang="ja-JP" sz="1800" spc="-1" strike="noStrike">
                  <a:solidFill>
                    <a:srgbClr val="0000ff"/>
                  </a:solidFill>
                  <a:latin typeface="Century"/>
                </a:rPr>
                <a:t>= (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00680" y="565776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2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395440" y="5519880"/>
              <a:ext cx="2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614680" y="5657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708640" y="5519880"/>
              <a:ext cx="30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/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006720" y="5657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076200" y="5519880"/>
              <a:ext cx="83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 exp(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932280" y="5548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112640" y="5657760"/>
              <a:ext cx="10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227480" y="5519880"/>
              <a:ext cx="2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(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446720" y="5657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entury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561560" y="5519880"/>
              <a:ext cx="146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))               (1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62120" y="826920"/>
              <a:ext cx="761976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14400" y="1770120"/>
              <a:ext cx="609588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14400" y="1770120"/>
              <a:ext cx="1440" cy="83808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14400" y="2608200"/>
              <a:ext cx="6095880" cy="18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010280" y="1770120"/>
              <a:ext cx="1800" cy="83808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90720" y="3598920"/>
              <a:ext cx="563868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90720" y="3598920"/>
              <a:ext cx="1440" cy="457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990720" y="4056120"/>
              <a:ext cx="563868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629400" y="3598920"/>
              <a:ext cx="1440" cy="457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914400" y="4513320"/>
              <a:ext cx="571500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914400" y="4513320"/>
              <a:ext cx="1440" cy="457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914400" y="4970520"/>
              <a:ext cx="571500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629400" y="4513320"/>
              <a:ext cx="1440" cy="457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914400" y="5413320"/>
              <a:ext cx="5791320" cy="288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900000" y="5427720"/>
              <a:ext cx="28800" cy="533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914400" y="5946840"/>
              <a:ext cx="5791320" cy="284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691320" y="5427720"/>
              <a:ext cx="28440" cy="533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045-2127-4237-AB5F-3FB9186173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"/>
          <p:cNvGrpSpPr/>
          <p:nvPr/>
        </p:nvGrpSpPr>
        <p:grpSpPr>
          <a:xfrm>
            <a:off x="723960" y="533520"/>
            <a:ext cx="7696080" cy="5794200"/>
            <a:chOff x="723960" y="533520"/>
            <a:chExt cx="7696080" cy="5794200"/>
          </a:xfrm>
        </p:grpSpPr>
        <p:sp>
          <p:nvSpPr>
            <p:cNvPr id="2325" name=""/>
            <p:cNvSpPr/>
            <p:nvPr/>
          </p:nvSpPr>
          <p:spPr>
            <a:xfrm>
              <a:off x="800280" y="534960"/>
              <a:ext cx="73166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98840" y="533520"/>
              <a:ext cx="5747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Screened Potential of EQPE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00280" y="1449360"/>
              <a:ext cx="7545240" cy="48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263960" y="1503360"/>
              <a:ext cx="6020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Using the Single Particle Approximation, for e*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54600" y="1494000"/>
              <a:ext cx="6020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Using the Single Particle Approximation, for e*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244160" y="1808280"/>
              <a:ext cx="651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creened potential is given by applying solutions 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234800" y="1798560"/>
              <a:ext cx="651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screened potential is given by applying solutions 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239120" y="2112840"/>
              <a:ext cx="966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Pau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229400" y="2103480"/>
              <a:ext cx="966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3333cc"/>
                  </a:solidFill>
                  <a:latin typeface="Tahoma"/>
                </a:rPr>
                <a:t>Pau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07520" y="2112840"/>
              <a:ext cx="5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197800" y="2103480"/>
              <a:ext cx="5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271600" y="211284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261880" y="210348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410560" y="2112840"/>
              <a:ext cx="77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book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400840" y="2103480"/>
              <a:ext cx="77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ahoma"/>
                </a:rPr>
                <a:t>book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249200" y="3087720"/>
              <a:ext cx="479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F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239840" y="3078000"/>
              <a:ext cx="479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F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731960" y="3087720"/>
              <a:ext cx="47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Tahoma"/>
                </a:rPr>
                <a:t>d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722600" y="3078000"/>
              <a:ext cx="47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00"/>
                  </a:solidFill>
                  <a:latin typeface="Tahoma"/>
                </a:rPr>
                <a:t>d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219400" y="308772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*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210040" y="307800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*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330200" y="357516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Vs(R) 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320840" y="356544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Vs(R) 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393640" y="3575160"/>
              <a:ext cx="33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Tahoma"/>
                </a:rPr>
                <a:t>V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383920" y="3565440"/>
              <a:ext cx="33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00"/>
                  </a:solidFill>
                  <a:latin typeface="Tahoma"/>
                </a:rPr>
                <a:t>V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766600" y="3575160"/>
              <a:ext cx="42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+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757240" y="3565440"/>
              <a:ext cx="42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+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236760" y="358452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230640" y="35784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10000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584880" y="3575160"/>
              <a:ext cx="187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/R + (J + K)/(1 +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575520" y="3565440"/>
              <a:ext cx="187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/R + (J + K)/(1 +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744160" y="3611520"/>
              <a:ext cx="16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ＭＳ Ｐゴシック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734800" y="3602160"/>
              <a:ext cx="16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ＭＳ Ｐゴシック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970240" y="357516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960880" y="356544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249200" y="4549680"/>
              <a:ext cx="479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F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239840" y="4540320"/>
              <a:ext cx="479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F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731960" y="4549680"/>
              <a:ext cx="47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Tahoma"/>
                </a:rPr>
                <a:t>d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722600" y="4540320"/>
              <a:ext cx="47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00"/>
                  </a:solidFill>
                  <a:latin typeface="Tahoma"/>
                </a:rPr>
                <a:t>d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230920" y="4549680"/>
              <a:ext cx="50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*e*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221560" y="4540320"/>
              <a:ext cx="50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*e*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251000" y="50371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241640" y="50277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452600" y="5037120"/>
              <a:ext cx="182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Vs(R) = 2Vh +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443240" y="5027760"/>
              <a:ext cx="182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Vs(R) = 2Vh +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403440" y="50468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397320" y="50403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10000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680280" y="5037120"/>
              <a:ext cx="122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/R + (2J +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670920" y="5027760"/>
              <a:ext cx="122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/R + (2J +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090400" y="5037120"/>
              <a:ext cx="5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080680" y="5027760"/>
              <a:ext cx="5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200200" y="5037120"/>
              <a:ext cx="42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190840" y="5027760"/>
              <a:ext cx="42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715720" y="5073480"/>
              <a:ext cx="16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ＭＳ Ｐゴシック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706000" y="5064120"/>
              <a:ext cx="16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ＭＳ Ｐゴシック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974200" y="5037120"/>
              <a:ext cx="61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 + 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964840" y="5027760"/>
              <a:ext cx="61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K + 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644520" y="5037120"/>
              <a:ext cx="5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635160" y="5027760"/>
              <a:ext cx="5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804000" y="5037120"/>
              <a:ext cx="70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)/(1 +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794280" y="5027760"/>
              <a:ext cx="70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)/(1 +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647840" y="5073480"/>
              <a:ext cx="16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ＭＳ Ｐゴシック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638120" y="5064120"/>
              <a:ext cx="16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ＭＳ Ｐゴシック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861320" y="50468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854840" y="50403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10000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978680" y="503712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968960" y="502776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267920" y="6012000"/>
              <a:ext cx="106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For de*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1258560" y="6002280"/>
              <a:ext cx="106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For de*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360160" y="6012000"/>
              <a:ext cx="33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Tahoma"/>
                </a:rPr>
                <a:t>V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350800" y="6002280"/>
              <a:ext cx="33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00"/>
                  </a:solidFill>
                  <a:latin typeface="Tahoma"/>
                </a:rPr>
                <a:t>V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834640" y="6012000"/>
              <a:ext cx="159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= -13.6(e*/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824920" y="6002280"/>
              <a:ext cx="159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= -13.6(e*/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568760" y="60213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562280" y="60148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10000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725360" y="6012000"/>
              <a:ext cx="106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(m*/m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716000" y="6002280"/>
              <a:ext cx="106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Tahoma"/>
                </a:rPr>
                <a:t>(m*/m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3960" y="963720"/>
              <a:ext cx="7696080" cy="568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00280" y="2897280"/>
              <a:ext cx="754380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00280" y="2897280"/>
              <a:ext cx="1440" cy="11430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00280" y="4040280"/>
              <a:ext cx="754380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344080" y="2897280"/>
              <a:ext cx="1440" cy="11430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00280" y="4421160"/>
              <a:ext cx="754380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00280" y="4421160"/>
              <a:ext cx="1440" cy="11430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0280" y="5564160"/>
              <a:ext cx="754380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344080" y="4421160"/>
              <a:ext cx="1440" cy="11430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3BF-5815-4DEC-B476-727EF05258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1" name=""/>
          <p:cNvGrpSpPr/>
          <p:nvPr/>
        </p:nvGrpSpPr>
        <p:grpSpPr>
          <a:xfrm>
            <a:off x="762120" y="646200"/>
            <a:ext cx="7619760" cy="5564160"/>
            <a:chOff x="762120" y="646200"/>
            <a:chExt cx="7619760" cy="5564160"/>
          </a:xfrm>
        </p:grpSpPr>
        <p:sp>
          <p:nvSpPr>
            <p:cNvPr id="2412" name=""/>
            <p:cNvSpPr/>
            <p:nvPr/>
          </p:nvSpPr>
          <p:spPr>
            <a:xfrm>
              <a:off x="838080" y="646200"/>
              <a:ext cx="7317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963000" y="701640"/>
              <a:ext cx="555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Screening Effect by EQPET Molec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4" name=""/>
            <p:cNvGrpSpPr/>
            <p:nvPr/>
          </p:nvGrpSpPr>
          <p:grpSpPr>
            <a:xfrm>
              <a:off x="911160" y="1471680"/>
              <a:ext cx="7396200" cy="4149720"/>
              <a:chOff x="911160" y="1471680"/>
              <a:chExt cx="7396200" cy="4149720"/>
            </a:xfrm>
          </p:grpSpPr>
          <p:grpSp>
            <p:nvGrpSpPr>
              <p:cNvPr id="2415" name=""/>
              <p:cNvGrpSpPr/>
              <p:nvPr/>
            </p:nvGrpSpPr>
            <p:grpSpPr>
              <a:xfrm>
                <a:off x="911160" y="1471680"/>
                <a:ext cx="7396200" cy="4149720"/>
                <a:chOff x="911160" y="1471680"/>
                <a:chExt cx="7396200" cy="414972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911160" y="1471680"/>
                  <a:ext cx="7396200" cy="414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2332080" y="2276640"/>
                  <a:ext cx="5265720" cy="2341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2332080" y="4282920"/>
                  <a:ext cx="5265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2332080" y="3948120"/>
                  <a:ext cx="5265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2332080" y="3614760"/>
                  <a:ext cx="5265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2332080" y="3279600"/>
                  <a:ext cx="5265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332080" y="2944800"/>
                  <a:ext cx="5265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332080" y="2610000"/>
                  <a:ext cx="5265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2332080" y="2276640"/>
                  <a:ext cx="5265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4091040" y="2276640"/>
                  <a:ext cx="1440" cy="234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838840" y="2276640"/>
                  <a:ext cx="1440" cy="234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7597800" y="2276640"/>
                  <a:ext cx="1440" cy="234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2332080" y="2276640"/>
                  <a:ext cx="5265720" cy="2341440"/>
                </a:xfrm>
                <a:prstGeom prst="rect">
                  <a:avLst/>
                </a:prstGeom>
                <a:noFill/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2332080" y="2276640"/>
                  <a:ext cx="63360" cy="2341440"/>
                </a:xfrm>
                <a:custGeom>
                  <a:avLst/>
                  <a:gdLst/>
                  <a:ahLst/>
                  <a:rect l="l" t="t" r="r" b="b"/>
                  <a:pathLst>
                    <a:path w="6" h="259">
                      <a:moveTo>
                        <a:pt x="0" y="0"/>
                      </a:moveTo>
                      <a:lnTo>
                        <a:pt x="0" y="259"/>
                      </a:lnTo>
                      <a:lnTo>
                        <a:pt x="6" y="259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2332080" y="455436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2332080" y="448164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2332080" y="441792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2332080" y="434664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2332080" y="428292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2332080" y="421956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2332080" y="414828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2332080" y="408456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2332080" y="401148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2332080" y="394812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2332080" y="388476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2332080" y="381312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2332080" y="374976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2332080" y="367668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332080" y="361476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2332080" y="355140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2332080" y="347832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2332080" y="341460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2332080" y="334332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2332080" y="327960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2332080" y="321624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2332080" y="314316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2332080" y="308124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2332080" y="300816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2332080" y="294480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2332080" y="288144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2332080" y="280980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2332080" y="274644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2332080" y="267336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2332080" y="261000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2332080" y="254808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2332080" y="247500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2332080" y="2411280"/>
                  <a:ext cx="6336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2332080" y="234000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2332080" y="227664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2332080" y="4618080"/>
                  <a:ext cx="9504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2332080" y="4282920"/>
                  <a:ext cx="9504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2332080" y="3948120"/>
                  <a:ext cx="9504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2332080" y="3614760"/>
                  <a:ext cx="9504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2332080" y="3279600"/>
                  <a:ext cx="95040" cy="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2332080" y="2944800"/>
                  <a:ext cx="9504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2332080" y="2610000"/>
                  <a:ext cx="9504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2332080" y="2276640"/>
                  <a:ext cx="9504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2332080" y="4618080"/>
                  <a:ext cx="526572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flipV="1">
                  <a:off x="233208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V="1">
                  <a:off x="286056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flipV="1">
                  <a:off x="316872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flipV="1">
                  <a:off x="339084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V="1">
                  <a:off x="356076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V="1">
                  <a:off x="369900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V="1">
                  <a:off x="381492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V="1">
                  <a:off x="392112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flipV="1">
                  <a:off x="400536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flipV="1">
                  <a:off x="409104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flipV="1">
                  <a:off x="461952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V="1">
                  <a:off x="492768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flipV="1">
                  <a:off x="513864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V="1">
                  <a:off x="530856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flipV="1">
                  <a:off x="545616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flipV="1">
                  <a:off x="557388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V="1">
                  <a:off x="566892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flipV="1">
                  <a:off x="576432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flipV="1">
                  <a:off x="583884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V="1">
                  <a:off x="636732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V="1">
                  <a:off x="667548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V="1">
                  <a:off x="689760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V="1">
                  <a:off x="706752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V="1">
                  <a:off x="720576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V="1">
                  <a:off x="732168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V="1">
                  <a:off x="7427880" y="4564080"/>
                  <a:ext cx="180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V="1">
                  <a:off x="751212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V="1">
                  <a:off x="7597800" y="4564080"/>
                  <a:ext cx="1440" cy="54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V="1">
                  <a:off x="2332080" y="4536720"/>
                  <a:ext cx="1440" cy="81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V="1">
                  <a:off x="4091040" y="4536720"/>
                  <a:ext cx="1440" cy="81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flipV="1">
                  <a:off x="5838840" y="4536720"/>
                  <a:ext cx="1440" cy="81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flipV="1">
                  <a:off x="7597800" y="4536720"/>
                  <a:ext cx="1440" cy="810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3274920" y="2430360"/>
                  <a:ext cx="306360" cy="470160"/>
                </a:xfrm>
                <a:custGeom>
                  <a:avLst/>
                  <a:gdLst/>
                  <a:ahLst/>
                  <a:rect l="l" t="t" r="r" b="b"/>
                  <a:pathLst>
                    <a:path w="193" h="296">
                      <a:moveTo>
                        <a:pt x="0" y="0"/>
                      </a:moveTo>
                      <a:lnTo>
                        <a:pt x="46" y="74"/>
                      </a:lnTo>
                      <a:lnTo>
                        <a:pt x="100" y="153"/>
                      </a:lnTo>
                      <a:lnTo>
                        <a:pt x="146" y="227"/>
                      </a:lnTo>
                      <a:lnTo>
                        <a:pt x="193" y="296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3581280" y="2900520"/>
                  <a:ext cx="265320" cy="279360"/>
                </a:xfrm>
                <a:custGeom>
                  <a:avLst/>
                  <a:gdLst/>
                  <a:ahLst/>
                  <a:rect l="l" t="t" r="r" b="b"/>
                  <a:pathLst>
                    <a:path w="167" h="176">
                      <a:moveTo>
                        <a:pt x="0" y="0"/>
                      </a:moveTo>
                      <a:lnTo>
                        <a:pt x="47" y="51"/>
                      </a:lnTo>
                      <a:lnTo>
                        <a:pt x="87" y="97"/>
                      </a:lnTo>
                      <a:lnTo>
                        <a:pt x="127" y="142"/>
                      </a:lnTo>
                      <a:lnTo>
                        <a:pt x="167" y="176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3846600" y="3179880"/>
                  <a:ext cx="244440" cy="180720"/>
                </a:xfrm>
                <a:custGeom>
                  <a:avLst/>
                  <a:gdLst/>
                  <a:ahLst/>
                  <a:rect l="l" t="t" r="r" b="b"/>
                  <a:pathLst>
                    <a:path w="154" h="114">
                      <a:moveTo>
                        <a:pt x="0" y="0"/>
                      </a:moveTo>
                      <a:lnTo>
                        <a:pt x="40" y="34"/>
                      </a:lnTo>
                      <a:lnTo>
                        <a:pt x="80" y="63"/>
                      </a:lnTo>
                      <a:lnTo>
                        <a:pt x="154" y="114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4091040" y="3360600"/>
                  <a:ext cx="210960" cy="127080"/>
                </a:xfrm>
                <a:custGeom>
                  <a:avLst/>
                  <a:gdLst/>
                  <a:ahLst/>
                  <a:rect l="l" t="t" r="r" b="b"/>
                  <a:pathLst>
                    <a:path w="133" h="80">
                      <a:moveTo>
                        <a:pt x="0" y="0"/>
                      </a:moveTo>
                      <a:lnTo>
                        <a:pt x="66" y="46"/>
                      </a:lnTo>
                      <a:lnTo>
                        <a:pt x="133" y="80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4302000" y="3487680"/>
                  <a:ext cx="201600" cy="81000"/>
                </a:xfrm>
                <a:custGeom>
                  <a:avLst/>
                  <a:gdLst/>
                  <a:ahLst/>
                  <a:rect l="l" t="t" r="r" b="b"/>
                  <a:pathLst>
                    <a:path w="127" h="51">
                      <a:moveTo>
                        <a:pt x="0" y="0"/>
                      </a:moveTo>
                      <a:lnTo>
                        <a:pt x="67" y="28"/>
                      </a:lnTo>
                      <a:lnTo>
                        <a:pt x="127" y="51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4503600" y="3568680"/>
                  <a:ext cx="179640" cy="63360"/>
                </a:xfrm>
                <a:custGeom>
                  <a:avLst/>
                  <a:gdLst/>
                  <a:ahLst/>
                  <a:rect l="l" t="t" r="r" b="b"/>
                  <a:pathLst>
                    <a:path w="113" h="40">
                      <a:moveTo>
                        <a:pt x="0" y="0"/>
                      </a:moveTo>
                      <a:lnTo>
                        <a:pt x="60" y="23"/>
                      </a:lnTo>
                      <a:lnTo>
                        <a:pt x="113" y="40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4683240" y="3632040"/>
                  <a:ext cx="169920" cy="36720"/>
                </a:xfrm>
                <a:custGeom>
                  <a:avLst/>
                  <a:gdLst/>
                  <a:ahLst/>
                  <a:rect l="l" t="t" r="r" b="b"/>
                  <a:pathLst>
                    <a:path w="107" h="23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107" y="23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4853160" y="3668760"/>
                  <a:ext cx="158400" cy="270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5011560" y="3695760"/>
                  <a:ext cx="149400" cy="2700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0"/>
                      </a:moveTo>
                      <a:lnTo>
                        <a:pt x="47" y="11"/>
                      </a:lnTo>
                      <a:lnTo>
                        <a:pt x="94" y="17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5160960" y="3722760"/>
                  <a:ext cx="136440" cy="9360"/>
                </a:xfrm>
                <a:custGeom>
                  <a:avLst/>
                  <a:gdLst/>
                  <a:ahLst/>
                  <a:rect l="l" t="t" r="r" b="b"/>
                  <a:pathLst>
                    <a:path w="86" h="6">
                      <a:moveTo>
                        <a:pt x="0" y="0"/>
                      </a:moveTo>
                      <a:lnTo>
                        <a:pt x="46" y="6"/>
                      </a:lnTo>
                      <a:lnTo>
                        <a:pt x="86" y="6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5297400" y="3732120"/>
                  <a:ext cx="138240" cy="7920"/>
                </a:xfrm>
                <a:custGeom>
                  <a:avLst/>
                  <a:gdLst/>
                  <a:ahLst/>
                  <a:rect l="l" t="t" r="r" b="b"/>
                  <a:pathLst>
                    <a:path w="87" h="5">
                      <a:moveTo>
                        <a:pt x="0" y="0"/>
                      </a:moveTo>
                      <a:lnTo>
                        <a:pt x="47" y="5"/>
                      </a:lnTo>
                      <a:lnTo>
                        <a:pt x="87" y="5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5435640" y="3740040"/>
                  <a:ext cx="117360" cy="1800"/>
                </a:xfrm>
                <a:custGeom>
                  <a:avLst/>
                  <a:gdLst/>
                  <a:ahLst/>
                  <a:rect l="l" t="t" r="r" b="b"/>
                  <a:pathLst>
                    <a:path w="74" h="0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5553000" y="3740040"/>
                  <a:ext cx="11592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5668920" y="3732120"/>
                  <a:ext cx="115920" cy="7920"/>
                </a:xfrm>
                <a:custGeom>
                  <a:avLst/>
                  <a:gdLst/>
                  <a:ahLst/>
                  <a:rect l="l" t="t" r="r" b="b"/>
                  <a:pathLst>
                    <a:path w="73" h="5">
                      <a:moveTo>
                        <a:pt x="0" y="5"/>
                      </a:moveTo>
                      <a:lnTo>
                        <a:pt x="40" y="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5784840" y="3732120"/>
                  <a:ext cx="10620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5891040" y="3722760"/>
                  <a:ext cx="106560" cy="9360"/>
                </a:xfrm>
                <a:custGeom>
                  <a:avLst/>
                  <a:gdLst/>
                  <a:ahLst/>
                  <a:rect l="l" t="t" r="r" b="b"/>
                  <a:pathLst>
                    <a:path w="67" h="6">
                      <a:moveTo>
                        <a:pt x="0" y="6"/>
                      </a:moveTo>
                      <a:lnTo>
                        <a:pt x="33" y="0"/>
                      </a:lnTo>
                      <a:lnTo>
                        <a:pt x="67" y="0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5997600" y="3722760"/>
                  <a:ext cx="95400" cy="144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6093000" y="3713040"/>
                  <a:ext cx="83880" cy="9720"/>
                </a:xfrm>
                <a:custGeom>
                  <a:avLst/>
                  <a:gdLst/>
                  <a:ahLst/>
                  <a:rect l="l" t="t" r="r" b="b"/>
                  <a:pathLst>
                    <a:path w="53" h="6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6176880" y="3713040"/>
                  <a:ext cx="95400" cy="1800"/>
                </a:xfrm>
                <a:custGeom>
                  <a:avLst/>
                  <a:gdLst/>
                  <a:ahLst/>
                  <a:rect l="l" t="t" r="r" b="b"/>
                  <a:pathLst>
                    <a:path w="60" h="0">
                      <a:moveTo>
                        <a:pt x="0" y="0"/>
                      </a:moveTo>
                      <a:lnTo>
                        <a:pt x="27" y="0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272280" y="3705120"/>
                  <a:ext cx="85680" cy="7920"/>
                </a:xfrm>
                <a:custGeom>
                  <a:avLst/>
                  <a:gdLst/>
                  <a:ahLst/>
                  <a:rect l="l" t="t" r="r" b="b"/>
                  <a:pathLst>
                    <a:path w="54" h="5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357960" y="3705120"/>
                  <a:ext cx="8424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6442200" y="3705120"/>
                  <a:ext cx="8568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6527880" y="3705120"/>
                  <a:ext cx="7308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6600960" y="3705120"/>
                  <a:ext cx="7452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6675480" y="3705120"/>
                  <a:ext cx="7452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6750000" y="3705120"/>
                  <a:ext cx="6372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813720" y="3705120"/>
                  <a:ext cx="72720" cy="1800"/>
                </a:xfrm>
                <a:custGeom>
                  <a:avLst/>
                  <a:gdLst/>
                  <a:ahLst/>
                  <a:rect l="l" t="t" r="r" b="b"/>
                  <a:pathLst>
                    <a:path w="46" h="0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6886440" y="3705120"/>
                  <a:ext cx="6516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6951600" y="3705120"/>
                  <a:ext cx="6372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015320" y="3705120"/>
                  <a:ext cx="63360" cy="1800"/>
                </a:xfrm>
                <a:prstGeom prst="line">
                  <a:avLst/>
                </a:prstGeom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2914560" y="2475000"/>
                  <a:ext cx="360360" cy="822240"/>
                </a:xfrm>
                <a:custGeom>
                  <a:avLst/>
                  <a:gdLst/>
                  <a:ahLst/>
                  <a:rect l="l" t="t" r="r" b="b"/>
                  <a:pathLst>
                    <a:path w="227" h="518">
                      <a:moveTo>
                        <a:pt x="0" y="0"/>
                      </a:moveTo>
                      <a:lnTo>
                        <a:pt x="60" y="137"/>
                      </a:lnTo>
                      <a:lnTo>
                        <a:pt x="113" y="273"/>
                      </a:lnTo>
                      <a:lnTo>
                        <a:pt x="147" y="342"/>
                      </a:lnTo>
                      <a:lnTo>
                        <a:pt x="173" y="404"/>
                      </a:lnTo>
                      <a:lnTo>
                        <a:pt x="200" y="467"/>
                      </a:lnTo>
                      <a:lnTo>
                        <a:pt x="227" y="518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3274920" y="3297240"/>
                  <a:ext cx="306360" cy="461880"/>
                </a:xfrm>
                <a:custGeom>
                  <a:avLst/>
                  <a:gdLst/>
                  <a:ahLst/>
                  <a:rect l="l" t="t" r="r" b="b"/>
                  <a:pathLst>
                    <a:path w="193" h="291">
                      <a:moveTo>
                        <a:pt x="0" y="0"/>
                      </a:moveTo>
                      <a:lnTo>
                        <a:pt x="26" y="46"/>
                      </a:lnTo>
                      <a:lnTo>
                        <a:pt x="53" y="91"/>
                      </a:lnTo>
                      <a:lnTo>
                        <a:pt x="100" y="165"/>
                      </a:lnTo>
                      <a:lnTo>
                        <a:pt x="146" y="234"/>
                      </a:lnTo>
                      <a:lnTo>
                        <a:pt x="193" y="291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3581280" y="3759120"/>
                  <a:ext cx="265320" cy="279360"/>
                </a:xfrm>
                <a:custGeom>
                  <a:avLst/>
                  <a:gdLst/>
                  <a:ahLst/>
                  <a:rect l="l" t="t" r="r" b="b"/>
                  <a:pathLst>
                    <a:path w="167" h="176">
                      <a:moveTo>
                        <a:pt x="0" y="0"/>
                      </a:moveTo>
                      <a:lnTo>
                        <a:pt x="47" y="51"/>
                      </a:lnTo>
                      <a:lnTo>
                        <a:pt x="87" y="97"/>
                      </a:lnTo>
                      <a:lnTo>
                        <a:pt x="127" y="142"/>
                      </a:lnTo>
                      <a:lnTo>
                        <a:pt x="167" y="176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3846600" y="4038480"/>
                  <a:ext cx="244440" cy="171720"/>
                </a:xfrm>
                <a:custGeom>
                  <a:avLst/>
                  <a:gdLst/>
                  <a:ahLst/>
                  <a:rect l="l" t="t" r="r" b="b"/>
                  <a:pathLst>
                    <a:path w="154" h="108">
                      <a:moveTo>
                        <a:pt x="0" y="0"/>
                      </a:moveTo>
                      <a:lnTo>
                        <a:pt x="40" y="34"/>
                      </a:lnTo>
                      <a:lnTo>
                        <a:pt x="80" y="63"/>
                      </a:lnTo>
                      <a:lnTo>
                        <a:pt x="154" y="108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4091040" y="4210200"/>
                  <a:ext cx="210960" cy="118800"/>
                </a:xfrm>
                <a:custGeom>
                  <a:avLst/>
                  <a:gdLst/>
                  <a:ahLst/>
                  <a:rect l="l" t="t" r="r" b="b"/>
                  <a:pathLst>
                    <a:path w="133" h="75">
                      <a:moveTo>
                        <a:pt x="0" y="0"/>
                      </a:moveTo>
                      <a:lnTo>
                        <a:pt x="66" y="40"/>
                      </a:lnTo>
                      <a:lnTo>
                        <a:pt x="133" y="75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4302000" y="4329000"/>
                  <a:ext cx="201600" cy="71640"/>
                </a:xfrm>
                <a:custGeom>
                  <a:avLst/>
                  <a:gdLst/>
                  <a:ahLst/>
                  <a:rect l="l" t="t" r="r" b="b"/>
                  <a:pathLst>
                    <a:path w="127" h="45">
                      <a:moveTo>
                        <a:pt x="0" y="0"/>
                      </a:moveTo>
                      <a:lnTo>
                        <a:pt x="67" y="28"/>
                      </a:lnTo>
                      <a:lnTo>
                        <a:pt x="127" y="45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4503600" y="4400640"/>
                  <a:ext cx="179640" cy="46080"/>
                </a:xfrm>
                <a:custGeom>
                  <a:avLst/>
                  <a:gdLst/>
                  <a:ahLst/>
                  <a:rect l="l" t="t" r="r" b="b"/>
                  <a:pathLst>
                    <a:path w="113" h="29">
                      <a:moveTo>
                        <a:pt x="0" y="0"/>
                      </a:moveTo>
                      <a:lnTo>
                        <a:pt x="60" y="17"/>
                      </a:lnTo>
                      <a:lnTo>
                        <a:pt x="113" y="29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4683240" y="4446720"/>
                  <a:ext cx="169920" cy="2700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4853160" y="4473720"/>
                  <a:ext cx="158400" cy="792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5011560" y="4473720"/>
                  <a:ext cx="149400" cy="7920"/>
                </a:xfrm>
                <a:custGeom>
                  <a:avLst/>
                  <a:gdLst/>
                  <a:ahLst/>
                  <a:rect l="l" t="t" r="r" b="b"/>
                  <a:pathLst>
                    <a:path w="94" h="5">
                      <a:moveTo>
                        <a:pt x="0" y="5"/>
                      </a:moveTo>
                      <a:lnTo>
                        <a:pt x="47" y="5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V="1">
                  <a:off x="5160960" y="4463640"/>
                  <a:ext cx="136440" cy="972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5297400" y="4454640"/>
                  <a:ext cx="138240" cy="9360"/>
                </a:xfrm>
                <a:custGeom>
                  <a:avLst/>
                  <a:gdLst/>
                  <a:ahLst/>
                  <a:rect l="l" t="t" r="r" b="b"/>
                  <a:pathLst>
                    <a:path w="87" h="6">
                      <a:moveTo>
                        <a:pt x="0" y="6"/>
                      </a:moveTo>
                      <a:lnTo>
                        <a:pt x="47" y="6"/>
                      </a:lnTo>
                      <a:lnTo>
                        <a:pt x="87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5435640" y="4427640"/>
                  <a:ext cx="117360" cy="27000"/>
                </a:xfrm>
                <a:custGeom>
                  <a:avLst/>
                  <a:gdLst/>
                  <a:ahLst/>
                  <a:rect l="l" t="t" r="r" b="b"/>
                  <a:pathLst>
                    <a:path w="74" h="17">
                      <a:moveTo>
                        <a:pt x="0" y="17"/>
                      </a:moveTo>
                      <a:lnTo>
                        <a:pt x="40" y="12"/>
                      </a:lnTo>
                      <a:lnTo>
                        <a:pt x="74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V="1">
                  <a:off x="5553000" y="4400280"/>
                  <a:ext cx="115920" cy="2700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5668920" y="4363920"/>
                  <a:ext cx="115920" cy="36720"/>
                </a:xfrm>
                <a:custGeom>
                  <a:avLst/>
                  <a:gdLst/>
                  <a:ahLst/>
                  <a:rect l="l" t="t" r="r" b="b"/>
                  <a:pathLst>
                    <a:path w="73" h="23">
                      <a:moveTo>
                        <a:pt x="0" y="23"/>
                      </a:moveTo>
                      <a:lnTo>
                        <a:pt x="40" y="12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flipV="1">
                  <a:off x="5784840" y="4336560"/>
                  <a:ext cx="106200" cy="2700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5891040" y="4300560"/>
                  <a:ext cx="106560" cy="36360"/>
                </a:xfrm>
                <a:custGeom>
                  <a:avLst/>
                  <a:gdLst/>
                  <a:ahLst/>
                  <a:rect l="l" t="t" r="r" b="b"/>
                  <a:pathLst>
                    <a:path w="67" h="23">
                      <a:moveTo>
                        <a:pt x="0" y="23"/>
                      </a:moveTo>
                      <a:lnTo>
                        <a:pt x="33" y="12"/>
                      </a:lnTo>
                      <a:lnTo>
                        <a:pt x="67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V="1">
                  <a:off x="5997600" y="4273200"/>
                  <a:ext cx="95400" cy="2700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6093000" y="4238640"/>
                  <a:ext cx="83880" cy="34920"/>
                </a:xfrm>
                <a:custGeom>
                  <a:avLst/>
                  <a:gdLst/>
                  <a:ahLst/>
                  <a:rect l="l" t="t" r="r" b="b"/>
                  <a:pathLst>
                    <a:path w="53" h="22">
                      <a:moveTo>
                        <a:pt x="0" y="22"/>
                      </a:moveTo>
                      <a:lnTo>
                        <a:pt x="27" y="11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176880" y="4210200"/>
                  <a:ext cx="95400" cy="28440"/>
                </a:xfrm>
                <a:custGeom>
                  <a:avLst/>
                  <a:gdLst/>
                  <a:ahLst/>
                  <a:rect l="l" t="t" r="r" b="b"/>
                  <a:pathLst>
                    <a:path w="60" h="18">
                      <a:moveTo>
                        <a:pt x="0" y="18"/>
                      </a:moveTo>
                      <a:lnTo>
                        <a:pt x="27" y="6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flipV="1">
                  <a:off x="6272280" y="4182840"/>
                  <a:ext cx="85680" cy="2700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flipV="1">
                  <a:off x="6357960" y="4155840"/>
                  <a:ext cx="84240" cy="2700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V="1">
                  <a:off x="6442200" y="4138200"/>
                  <a:ext cx="85680" cy="1764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flipV="1">
                  <a:off x="6527880" y="4121280"/>
                  <a:ext cx="73080" cy="1728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flipV="1">
                  <a:off x="6600960" y="4101840"/>
                  <a:ext cx="74520" cy="1908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V="1">
                  <a:off x="6675480" y="4084200"/>
                  <a:ext cx="74520" cy="1764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V="1">
                  <a:off x="6750000" y="4075200"/>
                  <a:ext cx="63720" cy="936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813720" y="4065480"/>
                  <a:ext cx="72720" cy="9720"/>
                </a:xfrm>
                <a:custGeom>
                  <a:avLst/>
                  <a:gdLst/>
                  <a:ahLst/>
                  <a:rect l="l" t="t" r="r" b="b"/>
                  <a:pathLst>
                    <a:path w="46" h="6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V="1">
                  <a:off x="6886440" y="4057560"/>
                  <a:ext cx="65160" cy="792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V="1">
                  <a:off x="6951600" y="4048200"/>
                  <a:ext cx="63720" cy="936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7015320" y="4048200"/>
                  <a:ext cx="63360" cy="144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3232080" y="2394000"/>
                  <a:ext cx="8424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3538440" y="2863800"/>
                  <a:ext cx="85680" cy="73080"/>
                </a:xfrm>
                <a:custGeom>
                  <a:avLst/>
                  <a:gdLst/>
                  <a:ahLst/>
                  <a:rect l="l" t="t" r="r" b="b"/>
                  <a:pathLst>
                    <a:path w="54" h="46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3803760" y="3143160"/>
                  <a:ext cx="85680" cy="73080"/>
                </a:xfrm>
                <a:custGeom>
                  <a:avLst/>
                  <a:gdLst/>
                  <a:ahLst/>
                  <a:rect l="l" t="t" r="r" b="b"/>
                  <a:pathLst>
                    <a:path w="54" h="46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4048200" y="3324240"/>
                  <a:ext cx="84240" cy="73080"/>
                </a:xfrm>
                <a:custGeom>
                  <a:avLst/>
                  <a:gdLst/>
                  <a:ahLst/>
                  <a:rect l="l" t="t" r="r" b="b"/>
                  <a:pathLst>
                    <a:path w="53" h="46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4259160" y="3451320"/>
                  <a:ext cx="85680" cy="73080"/>
                </a:xfrm>
                <a:custGeom>
                  <a:avLst/>
                  <a:gdLst/>
                  <a:ahLst/>
                  <a:rect l="l" t="t" r="r" b="b"/>
                  <a:pathLst>
                    <a:path w="54" h="46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4460760" y="3532320"/>
                  <a:ext cx="85680" cy="72720"/>
                </a:xfrm>
                <a:custGeom>
                  <a:avLst/>
                  <a:gdLst/>
                  <a:ahLst/>
                  <a:rect l="l" t="t" r="r" b="b"/>
                  <a:pathLst>
                    <a:path w="54" h="46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4641840" y="3595680"/>
                  <a:ext cx="84240" cy="73080"/>
                </a:xfrm>
                <a:custGeom>
                  <a:avLst/>
                  <a:gdLst/>
                  <a:ahLst/>
                  <a:rect l="l" t="t" r="r" b="b"/>
                  <a:pathLst>
                    <a:path w="53" h="46">
                      <a:moveTo>
                        <a:pt x="26" y="0"/>
                      </a:moveTo>
                      <a:lnTo>
                        <a:pt x="53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4809960" y="3632040"/>
                  <a:ext cx="86040" cy="73080"/>
                </a:xfrm>
                <a:custGeom>
                  <a:avLst/>
                  <a:gdLst/>
                  <a:ahLst/>
                  <a:rect l="l" t="t" r="r" b="b"/>
                  <a:pathLst>
                    <a:path w="54" h="46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4968720" y="3659040"/>
                  <a:ext cx="86040" cy="73080"/>
                </a:xfrm>
                <a:custGeom>
                  <a:avLst/>
                  <a:gdLst/>
                  <a:ahLst/>
                  <a:rect l="l" t="t" r="r" b="b"/>
                  <a:pathLst>
                    <a:path w="54" h="46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5118120" y="3686040"/>
                  <a:ext cx="84240" cy="73080"/>
                </a:xfrm>
                <a:custGeom>
                  <a:avLst/>
                  <a:gdLst/>
                  <a:ahLst/>
                  <a:rect l="l" t="t" r="r" b="b"/>
                  <a:pathLst>
                    <a:path w="53" h="46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5256360" y="3695760"/>
                  <a:ext cx="8388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6" y="0"/>
                      </a:moveTo>
                      <a:lnTo>
                        <a:pt x="53" y="23"/>
                      </a:lnTo>
                      <a:lnTo>
                        <a:pt x="26" y="45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5392800" y="3705120"/>
                  <a:ext cx="85680" cy="71640"/>
                </a:xfrm>
                <a:custGeom>
                  <a:avLst/>
                  <a:gdLst/>
                  <a:ahLst/>
                  <a:rect l="l" t="t" r="r" b="b"/>
                  <a:pathLst>
                    <a:path w="54" h="45">
                      <a:moveTo>
                        <a:pt x="27" y="0"/>
                      </a:moveTo>
                      <a:lnTo>
                        <a:pt x="54" y="22"/>
                      </a:lnTo>
                      <a:lnTo>
                        <a:pt x="27" y="45"/>
                      </a:lnTo>
                      <a:lnTo>
                        <a:pt x="0" y="22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5510160" y="3705120"/>
                  <a:ext cx="84240" cy="7164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7" y="0"/>
                      </a:moveTo>
                      <a:lnTo>
                        <a:pt x="53" y="22"/>
                      </a:lnTo>
                      <a:lnTo>
                        <a:pt x="27" y="45"/>
                      </a:lnTo>
                      <a:lnTo>
                        <a:pt x="0" y="22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5626080" y="3705120"/>
                  <a:ext cx="85680" cy="71640"/>
                </a:xfrm>
                <a:custGeom>
                  <a:avLst/>
                  <a:gdLst/>
                  <a:ahLst/>
                  <a:rect l="l" t="t" r="r" b="b"/>
                  <a:pathLst>
                    <a:path w="54" h="45">
                      <a:moveTo>
                        <a:pt x="27" y="0"/>
                      </a:moveTo>
                      <a:lnTo>
                        <a:pt x="54" y="22"/>
                      </a:lnTo>
                      <a:lnTo>
                        <a:pt x="27" y="45"/>
                      </a:lnTo>
                      <a:lnTo>
                        <a:pt x="0" y="22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5743440" y="3695760"/>
                  <a:ext cx="8424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6" y="0"/>
                      </a:moveTo>
                      <a:lnTo>
                        <a:pt x="53" y="23"/>
                      </a:lnTo>
                      <a:lnTo>
                        <a:pt x="26" y="45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5848200" y="3695760"/>
                  <a:ext cx="86040" cy="71280"/>
                </a:xfrm>
                <a:custGeom>
                  <a:avLst/>
                  <a:gdLst/>
                  <a:ahLst/>
                  <a:rect l="l" t="t" r="r" b="b"/>
                  <a:pathLst>
                    <a:path w="54" h="45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5954760" y="3686040"/>
                  <a:ext cx="85680" cy="73080"/>
                </a:xfrm>
                <a:custGeom>
                  <a:avLst/>
                  <a:gdLst/>
                  <a:ahLst/>
                  <a:rect l="l" t="t" r="r" b="b"/>
                  <a:pathLst>
                    <a:path w="54" h="46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6049800" y="3686040"/>
                  <a:ext cx="86040" cy="73080"/>
                </a:xfrm>
                <a:custGeom>
                  <a:avLst/>
                  <a:gdLst/>
                  <a:ahLst/>
                  <a:rect l="l" t="t" r="r" b="b"/>
                  <a:pathLst>
                    <a:path w="54" h="46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6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135840" y="3676680"/>
                  <a:ext cx="83880" cy="73080"/>
                </a:xfrm>
                <a:custGeom>
                  <a:avLst/>
                  <a:gdLst/>
                  <a:ahLst/>
                  <a:rect l="l" t="t" r="r" b="b"/>
                  <a:pathLst>
                    <a:path w="53" h="46">
                      <a:moveTo>
                        <a:pt x="26" y="0"/>
                      </a:moveTo>
                      <a:lnTo>
                        <a:pt x="53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6230880" y="3676680"/>
                  <a:ext cx="84240" cy="73080"/>
                </a:xfrm>
                <a:custGeom>
                  <a:avLst/>
                  <a:gdLst/>
                  <a:ahLst/>
                  <a:rect l="l" t="t" r="r" b="b"/>
                  <a:pathLst>
                    <a:path w="53" h="46">
                      <a:moveTo>
                        <a:pt x="26" y="0"/>
                      </a:moveTo>
                      <a:lnTo>
                        <a:pt x="53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315120" y="3668760"/>
                  <a:ext cx="8424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399360" y="3668760"/>
                  <a:ext cx="85680" cy="71280"/>
                </a:xfrm>
                <a:custGeom>
                  <a:avLst/>
                  <a:gdLst/>
                  <a:ahLst/>
                  <a:rect l="l" t="t" r="r" b="b"/>
                  <a:pathLst>
                    <a:path w="54" h="45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485040" y="3668760"/>
                  <a:ext cx="8388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559560" y="3668760"/>
                  <a:ext cx="8424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6" y="0"/>
                      </a:moveTo>
                      <a:lnTo>
                        <a:pt x="53" y="23"/>
                      </a:lnTo>
                      <a:lnTo>
                        <a:pt x="26" y="45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632640" y="3668760"/>
                  <a:ext cx="85680" cy="71280"/>
                </a:xfrm>
                <a:custGeom>
                  <a:avLst/>
                  <a:gdLst/>
                  <a:ahLst/>
                  <a:rect l="l" t="t" r="r" b="b"/>
                  <a:pathLst>
                    <a:path w="54" h="45">
                      <a:moveTo>
                        <a:pt x="27" y="0"/>
                      </a:moveTo>
                      <a:lnTo>
                        <a:pt x="54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707160" y="3668760"/>
                  <a:ext cx="8424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770520" y="3668760"/>
                  <a:ext cx="8424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845400" y="3668760"/>
                  <a:ext cx="8388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6" y="0"/>
                      </a:moveTo>
                      <a:lnTo>
                        <a:pt x="53" y="23"/>
                      </a:lnTo>
                      <a:lnTo>
                        <a:pt x="26" y="45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908760" y="3668760"/>
                  <a:ext cx="8424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972480" y="3668760"/>
                  <a:ext cx="8388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7035840" y="3668760"/>
                  <a:ext cx="84240" cy="71280"/>
                </a:xfrm>
                <a:custGeom>
                  <a:avLst/>
                  <a:gdLst/>
                  <a:ahLst/>
                  <a:rect l="l" t="t" r="r" b="b"/>
                  <a:pathLst>
                    <a:path w="53" h="45">
                      <a:moveTo>
                        <a:pt x="27" y="0"/>
                      </a:moveTo>
                      <a:lnTo>
                        <a:pt x="53" y="23"/>
                      </a:lnTo>
                      <a:lnTo>
                        <a:pt x="27" y="45"/>
                      </a:lnTo>
                      <a:lnTo>
                        <a:pt x="0" y="2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1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2840040" y="2411280"/>
                  <a:ext cx="169920" cy="144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H="1" flipV="1">
                  <a:off x="2851200" y="2421000"/>
                  <a:ext cx="6336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2914560" y="2475000"/>
                  <a:ext cx="6372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2851200" y="2475000"/>
                  <a:ext cx="6336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V="1">
                  <a:off x="2914560" y="2421000"/>
                  <a:ext cx="6372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3200400" y="3233880"/>
                  <a:ext cx="169920" cy="145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 flipV="1">
                  <a:off x="3211560" y="3243240"/>
                  <a:ext cx="6336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3274920" y="3297240"/>
                  <a:ext cx="6372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flipH="1">
                  <a:off x="3211560" y="3297240"/>
                  <a:ext cx="6336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3274920" y="3243240"/>
                  <a:ext cx="6372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3506760" y="3695760"/>
                  <a:ext cx="169920" cy="144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H="1" flipV="1">
                  <a:off x="3517920" y="3705120"/>
                  <a:ext cx="6336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3581280" y="3759120"/>
                  <a:ext cx="6372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3517920" y="3759120"/>
                  <a:ext cx="6336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flipV="1">
                  <a:off x="3581280" y="3705120"/>
                  <a:ext cx="6372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3772080" y="3975120"/>
                  <a:ext cx="169560" cy="146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 flipV="1">
                  <a:off x="3782520" y="3984480"/>
                  <a:ext cx="6372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3846600" y="4038480"/>
                  <a:ext cx="63360" cy="54000"/>
                </a:xfrm>
                <a:prstGeom prst="line">
                  <a:avLst/>
                </a:prstGeom>
                <a:ln w="11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6" name=""/>
              <p:cNvSpPr/>
              <p:nvPr/>
            </p:nvSpPr>
            <p:spPr>
              <a:xfrm flipH="1">
                <a:off x="3782520" y="403848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V="1">
                <a:off x="3846600" y="398448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4016520" y="4148280"/>
                <a:ext cx="16956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 flipV="1">
                <a:off x="4025520" y="4156200"/>
                <a:ext cx="651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4091040" y="421020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H="1">
                <a:off x="4025520" y="4210200"/>
                <a:ext cx="651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4091040" y="4156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227480" y="4265640"/>
                <a:ext cx="1699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 flipV="1">
                <a:off x="4238640" y="427356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4302000" y="43290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>
                <a:off x="4238640" y="43290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4302000" y="4273560"/>
                <a:ext cx="6372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4429080" y="4336920"/>
                <a:ext cx="16992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 flipV="1">
                <a:off x="4440240" y="4346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4503600" y="440064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H="1">
                <a:off x="4440240" y="4400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4503600" y="434664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4610160" y="4383000"/>
                <a:ext cx="16812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 flipV="1">
                <a:off x="4619160" y="4390560"/>
                <a:ext cx="6372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4683240" y="44467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>
                <a:off x="4619160" y="444672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4683240" y="4390560"/>
                <a:ext cx="6336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4778280" y="4410000"/>
                <a:ext cx="1699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 flipV="1">
                <a:off x="4789080" y="4417560"/>
                <a:ext cx="6372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853160" y="44737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H="1">
                <a:off x="4789080" y="447372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4853160" y="4417560"/>
                <a:ext cx="6336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937040" y="4417920"/>
                <a:ext cx="169920" cy="146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 flipV="1">
                <a:off x="4948200" y="4427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5011560" y="4481640"/>
                <a:ext cx="6372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H="1">
                <a:off x="4948200" y="448164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V="1">
                <a:off x="5011560" y="442764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086440" y="4410000"/>
                <a:ext cx="1699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 flipV="1">
                <a:off x="5097600" y="4417560"/>
                <a:ext cx="6336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160960" y="44737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H="1">
                <a:off x="5097600" y="44737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5160960" y="4417560"/>
                <a:ext cx="6336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224320" y="4400640"/>
                <a:ext cx="16848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 flipV="1">
                <a:off x="5234040" y="44100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297400" y="44640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H="1">
                <a:off x="5234040" y="44640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5297400" y="44100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361120" y="4390920"/>
                <a:ext cx="169560" cy="146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 flipV="1">
                <a:off x="5372280" y="4400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435640" y="4454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>
                <a:off x="5372280" y="4454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V="1">
                <a:off x="5435640" y="4400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478480" y="4363920"/>
                <a:ext cx="16992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 flipV="1">
                <a:off x="5489640" y="4373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553000" y="442764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H="1">
                <a:off x="5489640" y="4427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5553000" y="437364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594400" y="4336920"/>
                <a:ext cx="16992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 flipV="1">
                <a:off x="5605560" y="4346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668920" y="440064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5605560" y="4400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5668920" y="434664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711760" y="4300560"/>
                <a:ext cx="168480" cy="146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 flipV="1">
                <a:off x="5721480" y="43099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784840" y="43639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>
                <a:off x="5721480" y="43639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V="1">
                <a:off x="5784840" y="43099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816520" y="4273560"/>
                <a:ext cx="1699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 flipV="1">
                <a:off x="5827680" y="42829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891040" y="433692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 flipH="1">
                <a:off x="5827680" y="433692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V="1">
                <a:off x="5891040" y="428292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923080" y="4238640"/>
                <a:ext cx="1699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 flipV="1">
                <a:off x="5934240" y="424656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5997600" y="430056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>
                <a:off x="5934240" y="430056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5997600" y="424656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018120" y="4210200"/>
                <a:ext cx="169920" cy="145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 flipV="1">
                <a:off x="6028920" y="421956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093000" y="427356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H="1">
                <a:off x="6028920" y="4273560"/>
                <a:ext cx="6372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V="1">
                <a:off x="6093000" y="421956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103800" y="4175280"/>
                <a:ext cx="16848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 flipV="1">
                <a:off x="6113520" y="418320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176880" y="423864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H="1">
                <a:off x="6113520" y="423864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V="1">
                <a:off x="6176880" y="4183200"/>
                <a:ext cx="6372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199200" y="4148280"/>
                <a:ext cx="1681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 flipV="1">
                <a:off x="6208200" y="41562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6272280" y="421020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H="1">
                <a:off x="6208200" y="4210200"/>
                <a:ext cx="6372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V="1">
                <a:off x="6272280" y="4156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283440" y="4121280"/>
                <a:ext cx="1699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 flipV="1">
                <a:off x="6294600" y="4129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357960" y="418320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H="1">
                <a:off x="6294600" y="4183200"/>
                <a:ext cx="63360" cy="5544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V="1">
                <a:off x="6357960" y="4129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367320" y="4092480"/>
                <a:ext cx="169920" cy="146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 flipV="1">
                <a:off x="6378120" y="41022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442200" y="4156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flipH="1">
                <a:off x="6378120" y="41562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V="1">
                <a:off x="6442200" y="4102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453360" y="4075200"/>
                <a:ext cx="16956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 flipV="1">
                <a:off x="6463800" y="408456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527880" y="413856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H="1">
                <a:off x="6463800" y="413856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V="1">
                <a:off x="6527880" y="408456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527880" y="4057560"/>
                <a:ext cx="16812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 flipV="1">
                <a:off x="6536880" y="4065120"/>
                <a:ext cx="6372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600960" y="412128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H="1">
                <a:off x="6536880" y="412128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6600960" y="4065120"/>
                <a:ext cx="6336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600960" y="4038480"/>
                <a:ext cx="16956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 flipV="1">
                <a:off x="6611400" y="40482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675480" y="4102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 flipH="1">
                <a:off x="6611400" y="41022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6675480" y="4048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675480" y="4021200"/>
                <a:ext cx="1699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 flipV="1">
                <a:off x="6686640" y="403056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750000" y="408456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H="1">
                <a:off x="6686640" y="408456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V="1">
                <a:off x="6750000" y="403056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738840" y="4011480"/>
                <a:ext cx="16992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 flipV="1">
                <a:off x="6749640" y="40212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813720" y="4075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flipH="1">
                <a:off x="6749640" y="40752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V="1">
                <a:off x="6813720" y="4021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813720" y="4003560"/>
                <a:ext cx="16956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 flipV="1">
                <a:off x="6823080" y="401148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886440" y="4065480"/>
                <a:ext cx="6516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H="1">
                <a:off x="6823080" y="4065480"/>
                <a:ext cx="63360" cy="558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V="1">
                <a:off x="6886440" y="4011480"/>
                <a:ext cx="651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877080" y="3994200"/>
                <a:ext cx="1699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 flipV="1">
                <a:off x="6886080" y="4003560"/>
                <a:ext cx="651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951600" y="405756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flipH="1">
                <a:off x="6886080" y="4057560"/>
                <a:ext cx="651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V="1">
                <a:off x="6951600" y="400356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940440" y="3984480"/>
                <a:ext cx="16992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 flipV="1">
                <a:off x="6951240" y="39942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015320" y="4048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 flipH="1">
                <a:off x="6951240" y="404820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7015320" y="3994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04160" y="3984480"/>
                <a:ext cx="169920" cy="144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 flipV="1">
                <a:off x="7015320" y="3994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078680" y="4048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H="1">
                <a:off x="7015320" y="4048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V="1">
                <a:off x="7078680" y="399420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542320" y="1625760"/>
                <a:ext cx="35164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Screening Effect of Cooper Pair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501200" y="4508640"/>
                <a:ext cx="489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-30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1501200" y="4175280"/>
                <a:ext cx="489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-20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1501200" y="3840120"/>
                <a:ext cx="489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-10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1940760" y="3505320"/>
                <a:ext cx="137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1627560" y="3171960"/>
                <a:ext cx="4122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10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1627560" y="2836800"/>
                <a:ext cx="4122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20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1627560" y="2502000"/>
                <a:ext cx="4122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30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627560" y="2166840"/>
                <a:ext cx="4122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40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755000" y="4853160"/>
                <a:ext cx="9622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1.00E-03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512160" y="4853160"/>
                <a:ext cx="9622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1.00E-02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261760" y="4853160"/>
                <a:ext cx="9622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1.00E-01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991200" y="4853160"/>
                <a:ext cx="1021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1.00E+0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704400" y="5214960"/>
                <a:ext cx="2367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900" spc="-1" strike="noStrike">
                    <a:solidFill>
                      <a:srgbClr val="000000"/>
                    </a:solidFill>
                    <a:latin typeface="ＭＳ Ｐゴシック"/>
                  </a:rPr>
                  <a:t>R(nm)  :  d-d distanc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rot="16200000">
                <a:off x="311760" y="3306960"/>
                <a:ext cx="1821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900" spc="-1" strike="noStrike">
                    <a:solidFill>
                      <a:srgbClr val="000000"/>
                    </a:solidFill>
                    <a:latin typeface="ＭＳ Ｐゴシック"/>
                  </a:rPr>
                  <a:t>Potential Vs (eV)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154400" y="2222640"/>
                <a:ext cx="340056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238640" y="2411280"/>
                <a:ext cx="392040" cy="1800"/>
              </a:xfrm>
              <a:prstGeom prst="line">
                <a:avLst/>
              </a:prstGeom>
              <a:ln w="11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386240" y="237492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27" y="0"/>
                    </a:moveTo>
                    <a:lnTo>
                      <a:pt x="54" y="23"/>
                    </a:lnTo>
                    <a:lnTo>
                      <a:pt x="27" y="46"/>
                    </a:lnTo>
                    <a:lnTo>
                      <a:pt x="0" y="2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638600" y="2284560"/>
                <a:ext cx="1049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ＭＳ Ｐゴシック"/>
                  </a:rPr>
                  <a:t>ddee(1,1)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911920" y="2411280"/>
                <a:ext cx="392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029280" y="2347920"/>
                <a:ext cx="169920" cy="14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 flipV="1">
                <a:off x="6040440" y="235728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103800" y="241128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H="1">
                <a:off x="6040440" y="2411280"/>
                <a:ext cx="6336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V="1">
                <a:off x="6103800" y="2357280"/>
                <a:ext cx="63720" cy="54000"/>
              </a:xfrm>
              <a:prstGeom prst="line">
                <a:avLst/>
              </a:prstGeom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313680" y="2284560"/>
                <a:ext cx="1046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900" spc="-1" strike="noStrike">
                    <a:solidFill>
                      <a:srgbClr val="000000"/>
                    </a:solidFill>
                    <a:latin typeface="ＭＳ Ｐゴシック"/>
                  </a:rPr>
                  <a:t>dde*(2,2)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911160" y="1471680"/>
                <a:ext cx="7396200" cy="4149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5" name=""/>
            <p:cNvSpPr/>
            <p:nvPr/>
          </p:nvSpPr>
          <p:spPr>
            <a:xfrm>
              <a:off x="762120" y="1074600"/>
              <a:ext cx="761976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600200" y="5751360"/>
              <a:ext cx="19828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90720" y="58579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99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28960" y="585792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99"/>
                  </a:solidFill>
                  <a:latin typeface="Tahoma"/>
                </a:rPr>
                <a:t>b(2,2) = 4 p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9" name=""/>
            <p:cNvGrpSpPr/>
            <p:nvPr/>
          </p:nvGrpSpPr>
          <p:grpSpPr>
            <a:xfrm>
              <a:off x="3279600" y="4684680"/>
              <a:ext cx="147960" cy="1066680"/>
              <a:chOff x="3279600" y="4684680"/>
              <a:chExt cx="147960" cy="1066680"/>
            </a:xfrm>
          </p:grpSpPr>
          <p:sp>
            <p:nvSpPr>
              <p:cNvPr id="2790" name=""/>
              <p:cNvSpPr/>
              <p:nvPr/>
            </p:nvSpPr>
            <p:spPr>
              <a:xfrm>
                <a:off x="3338640" y="4827600"/>
                <a:ext cx="28440" cy="92376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3279600" y="4684680"/>
                <a:ext cx="147960" cy="14616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93" y="92"/>
                    </a:moveTo>
                    <a:lnTo>
                      <a:pt x="46" y="0"/>
                    </a:lnTo>
                    <a:lnTo>
                      <a:pt x="0" y="92"/>
                    </a:lnTo>
                    <a:lnTo>
                      <a:pt x="93" y="92"/>
                    </a:lnTo>
                    <a:close/>
                  </a:path>
                </a:pathLst>
              </a:cu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2" name=""/>
            <p:cNvSpPr/>
            <p:nvPr/>
          </p:nvSpPr>
          <p:spPr>
            <a:xfrm>
              <a:off x="4495680" y="5751360"/>
              <a:ext cx="22878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873680" y="58579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020200" y="5857920"/>
              <a:ext cx="139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ff"/>
                  </a:solidFill>
                  <a:latin typeface="Tahoma"/>
                </a:rPr>
                <a:t>b(1,1) = 20 p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5" name=""/>
            <p:cNvGrpSpPr/>
            <p:nvPr/>
          </p:nvGrpSpPr>
          <p:grpSpPr>
            <a:xfrm>
              <a:off x="4575240" y="4684680"/>
              <a:ext cx="147600" cy="1066680"/>
              <a:chOff x="4575240" y="4684680"/>
              <a:chExt cx="147600" cy="1066680"/>
            </a:xfrm>
          </p:grpSpPr>
          <p:sp>
            <p:nvSpPr>
              <p:cNvPr id="2796" name=""/>
              <p:cNvSpPr/>
              <p:nvPr/>
            </p:nvSpPr>
            <p:spPr>
              <a:xfrm>
                <a:off x="4633920" y="4827600"/>
                <a:ext cx="28440" cy="923760"/>
              </a:xfrm>
              <a:prstGeom prst="rect">
                <a:avLst/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575240" y="4684680"/>
                <a:ext cx="147600" cy="14616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93" y="92"/>
                    </a:moveTo>
                    <a:lnTo>
                      <a:pt x="46" y="0"/>
                    </a:lnTo>
                    <a:lnTo>
                      <a:pt x="0" y="92"/>
                    </a:lnTo>
                    <a:lnTo>
                      <a:pt x="93" y="92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976-5056-4F51-9D5B-816B86072A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8" name=""/>
          <p:cNvGrpSpPr/>
          <p:nvPr/>
        </p:nvGrpSpPr>
        <p:grpSpPr>
          <a:xfrm>
            <a:off x="800280" y="555480"/>
            <a:ext cx="7583400" cy="6186600"/>
            <a:chOff x="800280" y="555480"/>
            <a:chExt cx="7583400" cy="6186600"/>
          </a:xfrm>
        </p:grpSpPr>
        <p:sp>
          <p:nvSpPr>
            <p:cNvPr id="2799" name=""/>
            <p:cNvSpPr/>
            <p:nvPr/>
          </p:nvSpPr>
          <p:spPr>
            <a:xfrm>
              <a:off x="800280" y="568440"/>
              <a:ext cx="731664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3522240" y="568440"/>
              <a:ext cx="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3509640" y="555480"/>
              <a:ext cx="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2" name=""/>
            <p:cNvGrpSpPr/>
            <p:nvPr/>
          </p:nvGrpSpPr>
          <p:grpSpPr>
            <a:xfrm>
              <a:off x="920880" y="609480"/>
              <a:ext cx="6682680" cy="366120"/>
              <a:chOff x="920880" y="609480"/>
              <a:chExt cx="6682680" cy="366120"/>
            </a:xfrm>
          </p:grpSpPr>
          <p:sp>
            <p:nvSpPr>
              <p:cNvPr id="2803" name=""/>
              <p:cNvSpPr/>
              <p:nvPr/>
            </p:nvSpPr>
            <p:spPr>
              <a:xfrm>
                <a:off x="920880" y="609480"/>
                <a:ext cx="2552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Tahoma"/>
                  </a:rPr>
                  <a:t>Screening Effect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537000" y="660600"/>
                <a:ext cx="3175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ff"/>
                    </a:solidFill>
                    <a:latin typeface="Tahoma"/>
                  </a:rPr>
                  <a:t>EQPET Molecule vs. Heav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607800" y="660600"/>
                <a:ext cx="995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6600ff"/>
                    </a:solidFill>
                    <a:latin typeface="Tahoma"/>
                  </a:rPr>
                  <a:t>Ferm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6" name=""/>
            <p:cNvGrpSpPr/>
            <p:nvPr/>
          </p:nvGrpSpPr>
          <p:grpSpPr>
            <a:xfrm>
              <a:off x="909720" y="1598760"/>
              <a:ext cx="3688200" cy="2936880"/>
              <a:chOff x="909720" y="1598760"/>
              <a:chExt cx="3688200" cy="2936880"/>
            </a:xfrm>
          </p:grpSpPr>
          <p:grpSp>
            <p:nvGrpSpPr>
              <p:cNvPr id="2807" name=""/>
              <p:cNvGrpSpPr/>
              <p:nvPr/>
            </p:nvGrpSpPr>
            <p:grpSpPr>
              <a:xfrm>
                <a:off x="909720" y="1598760"/>
                <a:ext cx="3630600" cy="2936880"/>
                <a:chOff x="909720" y="1598760"/>
                <a:chExt cx="3630600" cy="293688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909720" y="1598760"/>
                  <a:ext cx="3630600" cy="2936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1577880" y="2163600"/>
                  <a:ext cx="2630520" cy="1455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1577880" y="3435480"/>
                  <a:ext cx="2630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1577880" y="3257640"/>
                  <a:ext cx="2630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1577880" y="3073320"/>
                  <a:ext cx="26305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1577880" y="2894040"/>
                  <a:ext cx="2630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1577880" y="2709720"/>
                  <a:ext cx="26305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1577880" y="2525760"/>
                  <a:ext cx="2630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1577880" y="2347920"/>
                  <a:ext cx="2630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1577880" y="2163600"/>
                  <a:ext cx="26305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2104920" y="2163600"/>
                  <a:ext cx="1800" cy="145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2629080" y="2163600"/>
                  <a:ext cx="1440" cy="145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3156120" y="2163600"/>
                  <a:ext cx="1440" cy="145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3679920" y="2163600"/>
                  <a:ext cx="1440" cy="145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4208400" y="2163600"/>
                  <a:ext cx="1800" cy="145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1577880" y="2163600"/>
                  <a:ext cx="2630520" cy="1455840"/>
                </a:xfrm>
                <a:prstGeom prst="rect">
                  <a:avLst/>
                </a:prstGeom>
                <a:noFill/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1577880" y="2163600"/>
                  <a:ext cx="46080" cy="1455840"/>
                </a:xfrm>
                <a:custGeom>
                  <a:avLst/>
                  <a:gdLst/>
                  <a:ahLst/>
                  <a:rect l="l" t="t" r="r" b="b"/>
                  <a:pathLst>
                    <a:path w="10" h="245">
                      <a:moveTo>
                        <a:pt x="0" y="0"/>
                      </a:moveTo>
                      <a:lnTo>
                        <a:pt x="0" y="245"/>
                      </a:lnTo>
                      <a:lnTo>
                        <a:pt x="10" y="2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1577880" y="3435480"/>
                  <a:ext cx="46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1577880" y="3257640"/>
                  <a:ext cx="46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1577880" y="3073320"/>
                  <a:ext cx="460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1577880" y="2894040"/>
                  <a:ext cx="46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1577880" y="2709720"/>
                  <a:ext cx="460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1577880" y="2525760"/>
                  <a:ext cx="46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1577880" y="2347920"/>
                  <a:ext cx="46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1577880" y="2163600"/>
                  <a:ext cx="460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1577880" y="3619440"/>
                  <a:ext cx="263052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V="1">
                  <a:off x="157788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V="1">
                  <a:off x="173664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V="1">
                  <a:off x="183024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V="1">
                  <a:off x="189540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V="1">
                  <a:off x="194616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V="1">
                  <a:off x="198900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V="1">
                  <a:off x="202104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V="1">
                  <a:off x="205416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V="1">
                  <a:off x="207792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V="1">
                  <a:off x="210492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V="1">
                  <a:off x="225900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flipV="1">
                  <a:off x="235260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V="1">
                  <a:off x="241776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V="1">
                  <a:off x="247032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V="1">
                  <a:off x="251136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V="1">
                  <a:off x="254952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V="1">
                  <a:off x="257796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V="1">
                  <a:off x="260496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V="1">
                  <a:off x="262908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V="1">
                  <a:off x="278748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flipV="1">
                  <a:off x="288144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V="1">
                  <a:off x="294624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flipV="1">
                  <a:off x="299736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flipV="1">
                  <a:off x="304020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flipV="1">
                  <a:off x="307332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flipV="1">
                  <a:off x="310500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V="1">
                  <a:off x="313380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flipV="1">
                  <a:off x="315612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flipV="1">
                  <a:off x="331632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flipV="1">
                  <a:off x="340848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flipV="1">
                  <a:off x="347508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flipV="1">
                  <a:off x="352584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flipV="1">
                  <a:off x="356400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flipV="1">
                  <a:off x="360036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flipV="1">
                  <a:off x="362916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flipV="1">
                  <a:off x="365616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flipV="1">
                  <a:off x="367992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flipV="1">
                  <a:off x="383868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flipV="1">
                  <a:off x="393228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V="1">
                  <a:off x="399744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V="1">
                  <a:off x="404964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V="1">
                  <a:off x="409104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V="1">
                  <a:off x="412920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V="1">
                  <a:off x="415620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flipV="1">
                  <a:off x="4184640" y="3578400"/>
                  <a:ext cx="144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flipV="1">
                  <a:off x="4208400" y="3578400"/>
                  <a:ext cx="1800" cy="4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flipV="1">
                  <a:off x="1577880" y="3560400"/>
                  <a:ext cx="180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V="1">
                  <a:off x="2104920" y="3560400"/>
                  <a:ext cx="180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V="1">
                  <a:off x="2629080" y="3560400"/>
                  <a:ext cx="144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V="1">
                  <a:off x="3156120" y="3560400"/>
                  <a:ext cx="144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V="1">
                  <a:off x="3679920" y="3560400"/>
                  <a:ext cx="144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flipV="1">
                  <a:off x="4208400" y="3560400"/>
                  <a:ext cx="1800" cy="5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2806560" y="2270160"/>
                  <a:ext cx="101880" cy="452520"/>
                </a:xfrm>
                <a:custGeom>
                  <a:avLst/>
                  <a:gdLst/>
                  <a:ahLst/>
                  <a:rect l="l" t="t" r="r" b="b"/>
                  <a:pathLst>
                    <a:path w="64" h="285">
                      <a:moveTo>
                        <a:pt x="0" y="0"/>
                      </a:moveTo>
                      <a:lnTo>
                        <a:pt x="17" y="75"/>
                      </a:lnTo>
                      <a:lnTo>
                        <a:pt x="32" y="150"/>
                      </a:lnTo>
                      <a:lnTo>
                        <a:pt x="50" y="221"/>
                      </a:lnTo>
                      <a:lnTo>
                        <a:pt x="56" y="255"/>
                      </a:lnTo>
                      <a:lnTo>
                        <a:pt x="64" y="285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2908440" y="2722680"/>
                  <a:ext cx="93600" cy="249120"/>
                </a:xfrm>
                <a:custGeom>
                  <a:avLst/>
                  <a:gdLst/>
                  <a:ahLst/>
                  <a:rect l="l" t="t" r="r" b="b"/>
                  <a:pathLst>
                    <a:path w="59" h="157">
                      <a:moveTo>
                        <a:pt x="0" y="0"/>
                      </a:moveTo>
                      <a:lnTo>
                        <a:pt x="9" y="26"/>
                      </a:lnTo>
                      <a:lnTo>
                        <a:pt x="15" y="49"/>
                      </a:lnTo>
                      <a:lnTo>
                        <a:pt x="30" y="90"/>
                      </a:lnTo>
                      <a:lnTo>
                        <a:pt x="45" y="127"/>
                      </a:lnTo>
                      <a:lnTo>
                        <a:pt x="59" y="157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3002040" y="29718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0"/>
                      </a:moveTo>
                      <a:lnTo>
                        <a:pt x="12" y="30"/>
                      </a:lnTo>
                      <a:lnTo>
                        <a:pt x="27" y="53"/>
                      </a:lnTo>
                      <a:lnTo>
                        <a:pt x="39" y="75"/>
                      </a:lnTo>
                      <a:lnTo>
                        <a:pt x="50" y="94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3081240" y="3121200"/>
                  <a:ext cx="74880" cy="95040"/>
                </a:xfrm>
                <a:custGeom>
                  <a:avLst/>
                  <a:gdLst/>
                  <a:ahLst/>
                  <a:rect l="l" t="t" r="r" b="b"/>
                  <a:pathLst>
                    <a:path w="47" h="60">
                      <a:moveTo>
                        <a:pt x="0" y="0"/>
                      </a:moveTo>
                      <a:lnTo>
                        <a:pt x="12" y="18"/>
                      </a:lnTo>
                      <a:lnTo>
                        <a:pt x="24" y="33"/>
                      </a:lnTo>
                      <a:lnTo>
                        <a:pt x="47" y="6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3156120" y="3216240"/>
                  <a:ext cx="66600" cy="65160"/>
                </a:xfrm>
                <a:custGeom>
                  <a:avLst/>
                  <a:gdLst/>
                  <a:ahLst/>
                  <a:rect l="l" t="t" r="r" b="b"/>
                  <a:pathLst>
                    <a:path w="42" h="41">
                      <a:moveTo>
                        <a:pt x="0" y="0"/>
                      </a:moveTo>
                      <a:lnTo>
                        <a:pt x="21" y="22"/>
                      </a:lnTo>
                      <a:lnTo>
                        <a:pt x="42" y="41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3222720" y="3281400"/>
                  <a:ext cx="6012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0" y="0"/>
                      </a:moveTo>
                      <a:lnTo>
                        <a:pt x="20" y="11"/>
                      </a:lnTo>
                      <a:lnTo>
                        <a:pt x="38" y="22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3282840" y="3316320"/>
                  <a:ext cx="50760" cy="23760"/>
                </a:xfrm>
                <a:custGeom>
                  <a:avLst/>
                  <a:gdLst/>
                  <a:ahLst/>
                  <a:rect l="l" t="t" r="r" b="b"/>
                  <a:pathLst>
                    <a:path w="32" h="15">
                      <a:moveTo>
                        <a:pt x="0" y="0"/>
                      </a:moveTo>
                      <a:lnTo>
                        <a:pt x="18" y="8"/>
                      </a:lnTo>
                      <a:lnTo>
                        <a:pt x="32" y="15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3333600" y="3340080"/>
                  <a:ext cx="52560" cy="1764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0" y="0"/>
                      </a:moveTo>
                      <a:lnTo>
                        <a:pt x="18" y="8"/>
                      </a:lnTo>
                      <a:lnTo>
                        <a:pt x="33" y="11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3386160" y="3357720"/>
                  <a:ext cx="46080" cy="612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3432240" y="3363840"/>
                  <a:ext cx="47520" cy="18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flipV="1">
                  <a:off x="3479760" y="3357360"/>
                  <a:ext cx="41400" cy="612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flipV="1">
                  <a:off x="3521160" y="3346200"/>
                  <a:ext cx="38160" cy="1116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flipV="1">
                  <a:off x="3559320" y="3335040"/>
                  <a:ext cx="36360" cy="1116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flipV="1">
                  <a:off x="3595680" y="3315960"/>
                  <a:ext cx="33480" cy="190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3629160" y="3298680"/>
                  <a:ext cx="36360" cy="17640"/>
                </a:xfrm>
                <a:custGeom>
                  <a:avLst/>
                  <a:gdLst/>
                  <a:ahLst/>
                  <a:rect l="l" t="t" r="r" b="b"/>
                  <a:pathLst>
                    <a:path w="23" h="11">
                      <a:moveTo>
                        <a:pt x="0" y="11"/>
                      </a:moveTo>
                      <a:lnTo>
                        <a:pt x="12" y="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3665520" y="3281400"/>
                  <a:ext cx="28440" cy="1728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11"/>
                      </a:moveTo>
                      <a:lnTo>
                        <a:pt x="9" y="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3693960" y="326376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21" h="11">
                      <a:moveTo>
                        <a:pt x="0" y="11"/>
                      </a:moveTo>
                      <a:lnTo>
                        <a:pt x="9" y="3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3727440" y="3251160"/>
                  <a:ext cx="27000" cy="1260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8"/>
                      </a:moveTo>
                      <a:lnTo>
                        <a:pt x="8" y="4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3754440" y="3227400"/>
                  <a:ext cx="28440" cy="2376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15"/>
                      </a:moveTo>
                      <a:lnTo>
                        <a:pt x="9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3782880" y="3216240"/>
                  <a:ext cx="28800" cy="1116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0" y="7"/>
                      </a:moveTo>
                      <a:lnTo>
                        <a:pt x="9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3811680" y="31971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12"/>
                      </a:moveTo>
                      <a:lnTo>
                        <a:pt x="8" y="4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V="1">
                  <a:off x="3838680" y="3185640"/>
                  <a:ext cx="23760" cy="1116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V="1">
                  <a:off x="3862440" y="3173040"/>
                  <a:ext cx="23760" cy="126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V="1">
                  <a:off x="3886200" y="3161880"/>
                  <a:ext cx="22320" cy="1116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flipV="1">
                  <a:off x="3908520" y="3155760"/>
                  <a:ext cx="23760" cy="612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flipV="1">
                  <a:off x="3932280" y="3149640"/>
                  <a:ext cx="19080" cy="64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V="1">
                  <a:off x="3951360" y="3144600"/>
                  <a:ext cx="23760" cy="46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flipV="1">
                  <a:off x="3975120" y="3138480"/>
                  <a:ext cx="17280" cy="64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 flipV="1">
                  <a:off x="3992400" y="3132000"/>
                  <a:ext cx="24120" cy="64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4016520" y="3132000"/>
                  <a:ext cx="19080" cy="18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flipV="1">
                  <a:off x="4035600" y="3125520"/>
                  <a:ext cx="18720" cy="612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2806560" y="2419200"/>
                  <a:ext cx="101880" cy="452520"/>
                </a:xfrm>
                <a:custGeom>
                  <a:avLst/>
                  <a:gdLst/>
                  <a:ahLst/>
                  <a:rect l="l" t="t" r="r" b="b"/>
                  <a:pathLst>
                    <a:path w="64" h="285">
                      <a:moveTo>
                        <a:pt x="0" y="0"/>
                      </a:moveTo>
                      <a:lnTo>
                        <a:pt x="17" y="75"/>
                      </a:lnTo>
                      <a:lnTo>
                        <a:pt x="32" y="150"/>
                      </a:lnTo>
                      <a:lnTo>
                        <a:pt x="50" y="221"/>
                      </a:lnTo>
                      <a:lnTo>
                        <a:pt x="56" y="255"/>
                      </a:lnTo>
                      <a:lnTo>
                        <a:pt x="64" y="285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2908440" y="2871720"/>
                  <a:ext cx="93600" cy="249480"/>
                </a:xfrm>
                <a:custGeom>
                  <a:avLst/>
                  <a:gdLst/>
                  <a:ahLst/>
                  <a:rect l="l" t="t" r="r" b="b"/>
                  <a:pathLst>
                    <a:path w="59" h="157">
                      <a:moveTo>
                        <a:pt x="0" y="0"/>
                      </a:moveTo>
                      <a:lnTo>
                        <a:pt x="9" y="26"/>
                      </a:lnTo>
                      <a:lnTo>
                        <a:pt x="15" y="48"/>
                      </a:lnTo>
                      <a:lnTo>
                        <a:pt x="30" y="89"/>
                      </a:lnTo>
                      <a:lnTo>
                        <a:pt x="45" y="127"/>
                      </a:lnTo>
                      <a:lnTo>
                        <a:pt x="59" y="157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3002040" y="3121200"/>
                  <a:ext cx="79200" cy="147600"/>
                </a:xfrm>
                <a:custGeom>
                  <a:avLst/>
                  <a:gdLst/>
                  <a:ahLst/>
                  <a:rect l="l" t="t" r="r" b="b"/>
                  <a:pathLst>
                    <a:path w="50" h="93">
                      <a:moveTo>
                        <a:pt x="0" y="0"/>
                      </a:moveTo>
                      <a:lnTo>
                        <a:pt x="12" y="30"/>
                      </a:lnTo>
                      <a:lnTo>
                        <a:pt x="27" y="52"/>
                      </a:lnTo>
                      <a:lnTo>
                        <a:pt x="39" y="75"/>
                      </a:lnTo>
                      <a:lnTo>
                        <a:pt x="50" y="93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3081240" y="3268800"/>
                  <a:ext cx="74880" cy="95040"/>
                </a:xfrm>
                <a:custGeom>
                  <a:avLst/>
                  <a:gdLst/>
                  <a:ahLst/>
                  <a:rect l="l" t="t" r="r" b="b"/>
                  <a:pathLst>
                    <a:path w="47" h="60">
                      <a:moveTo>
                        <a:pt x="0" y="0"/>
                      </a:moveTo>
                      <a:lnTo>
                        <a:pt x="24" y="34"/>
                      </a:lnTo>
                      <a:lnTo>
                        <a:pt x="47" y="6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3156120" y="3363840"/>
                  <a:ext cx="66600" cy="604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0"/>
                      </a:moveTo>
                      <a:lnTo>
                        <a:pt x="21" y="23"/>
                      </a:lnTo>
                      <a:lnTo>
                        <a:pt x="42" y="38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3222720" y="3424320"/>
                  <a:ext cx="60120" cy="41040"/>
                </a:xfrm>
                <a:custGeom>
                  <a:avLst/>
                  <a:gdLst/>
                  <a:ahLst/>
                  <a:rect l="l" t="t" r="r" b="b"/>
                  <a:pathLst>
                    <a:path w="38" h="26">
                      <a:moveTo>
                        <a:pt x="0" y="0"/>
                      </a:moveTo>
                      <a:lnTo>
                        <a:pt x="20" y="15"/>
                      </a:lnTo>
                      <a:lnTo>
                        <a:pt x="38" y="26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3282840" y="3465360"/>
                  <a:ext cx="50760" cy="17640"/>
                </a:xfrm>
                <a:custGeom>
                  <a:avLst/>
                  <a:gdLst/>
                  <a:ahLst/>
                  <a:rect l="l" t="t" r="r" b="b"/>
                  <a:pathLst>
                    <a:path w="32" h="11">
                      <a:moveTo>
                        <a:pt x="0" y="0"/>
                      </a:moveTo>
                      <a:lnTo>
                        <a:pt x="18" y="7"/>
                      </a:lnTo>
                      <a:lnTo>
                        <a:pt x="32" y="11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3333600" y="3483000"/>
                  <a:ext cx="52560" cy="126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3386160" y="3495600"/>
                  <a:ext cx="46080" cy="46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 flipV="1">
                  <a:off x="3432240" y="3495240"/>
                  <a:ext cx="47520" cy="46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V="1">
                  <a:off x="3479760" y="3482640"/>
                  <a:ext cx="41400" cy="126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V="1">
                  <a:off x="3521160" y="3471480"/>
                  <a:ext cx="38160" cy="1116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 flipV="1">
                  <a:off x="3559320" y="3452400"/>
                  <a:ext cx="36360" cy="190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3595680" y="3429000"/>
                  <a:ext cx="33480" cy="23760"/>
                </a:xfrm>
                <a:custGeom>
                  <a:avLst/>
                  <a:gdLst/>
                  <a:ahLst/>
                  <a:rect l="l" t="t" r="r" b="b"/>
                  <a:pathLst>
                    <a:path w="21" h="15">
                      <a:moveTo>
                        <a:pt x="0" y="15"/>
                      </a:moveTo>
                      <a:lnTo>
                        <a:pt x="9" y="8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3629160" y="3411360"/>
                  <a:ext cx="36360" cy="17640"/>
                </a:xfrm>
                <a:custGeom>
                  <a:avLst/>
                  <a:gdLst/>
                  <a:ahLst/>
                  <a:rect l="l" t="t" r="r" b="b"/>
                  <a:pathLst>
                    <a:path w="23" h="11">
                      <a:moveTo>
                        <a:pt x="0" y="11"/>
                      </a:moveTo>
                      <a:lnTo>
                        <a:pt x="12" y="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3665520" y="3387600"/>
                  <a:ext cx="28440" cy="2376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15"/>
                      </a:moveTo>
                      <a:lnTo>
                        <a:pt x="9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3693960" y="3363840"/>
                  <a:ext cx="33480" cy="23760"/>
                </a:xfrm>
                <a:custGeom>
                  <a:avLst/>
                  <a:gdLst/>
                  <a:ahLst/>
                  <a:rect l="l" t="t" r="r" b="b"/>
                  <a:pathLst>
                    <a:path w="21" h="15">
                      <a:moveTo>
                        <a:pt x="0" y="15"/>
                      </a:moveTo>
                      <a:lnTo>
                        <a:pt x="9" y="8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flipV="1">
                  <a:off x="3727440" y="3340080"/>
                  <a:ext cx="27000" cy="2376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flipV="1">
                  <a:off x="3754440" y="3316320"/>
                  <a:ext cx="28440" cy="2376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V="1">
                  <a:off x="3782880" y="3298320"/>
                  <a:ext cx="28800" cy="1764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V="1">
                  <a:off x="3811680" y="3281400"/>
                  <a:ext cx="27000" cy="172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flipV="1">
                  <a:off x="3838680" y="3263400"/>
                  <a:ext cx="23760" cy="1764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V="1">
                  <a:off x="3862440" y="3250800"/>
                  <a:ext cx="23760" cy="126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3886200" y="323388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11"/>
                      </a:moveTo>
                      <a:lnTo>
                        <a:pt x="5" y="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3908520" y="3227400"/>
                  <a:ext cx="23760" cy="648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0" y="4"/>
                      </a:moveTo>
                      <a:lnTo>
                        <a:pt x="9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V="1">
                  <a:off x="3932280" y="3215880"/>
                  <a:ext cx="19080" cy="1116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3951360" y="320364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8"/>
                      </a:moveTo>
                      <a:lnTo>
                        <a:pt x="6" y="4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3975120" y="3203640"/>
                  <a:ext cx="17280" cy="1440"/>
                </a:xfrm>
                <a:custGeom>
                  <a:avLst/>
                  <a:gdLst/>
                  <a:ahLst/>
                  <a:rect l="l" t="t" r="r" b="b"/>
                  <a:pathLst>
                    <a:path w="11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V="1">
                  <a:off x="3992400" y="3197160"/>
                  <a:ext cx="24120" cy="64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 flipV="1">
                  <a:off x="4016520" y="3192120"/>
                  <a:ext cx="19080" cy="46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V="1">
                  <a:off x="4035600" y="3186000"/>
                  <a:ext cx="18720" cy="64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2787480" y="224640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2890800" y="2698920"/>
                  <a:ext cx="3672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1" y="0"/>
                      </a:moveTo>
                      <a:lnTo>
                        <a:pt x="23" y="15"/>
                      </a:lnTo>
                      <a:lnTo>
                        <a:pt x="11" y="30"/>
                      </a:lnTo>
                      <a:lnTo>
                        <a:pt x="0" y="1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2984400" y="2948040"/>
                  <a:ext cx="3672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1" y="0"/>
                      </a:moveTo>
                      <a:lnTo>
                        <a:pt x="23" y="15"/>
                      </a:lnTo>
                      <a:lnTo>
                        <a:pt x="11" y="30"/>
                      </a:lnTo>
                      <a:lnTo>
                        <a:pt x="0" y="1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3063960" y="3097080"/>
                  <a:ext cx="36360" cy="4788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1" y="0"/>
                      </a:moveTo>
                      <a:lnTo>
                        <a:pt x="23" y="15"/>
                      </a:lnTo>
                      <a:lnTo>
                        <a:pt x="11" y="30"/>
                      </a:lnTo>
                      <a:lnTo>
                        <a:pt x="0" y="1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3138480" y="3192480"/>
                  <a:ext cx="3636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1" y="0"/>
                      </a:moveTo>
                      <a:lnTo>
                        <a:pt x="23" y="15"/>
                      </a:lnTo>
                      <a:lnTo>
                        <a:pt x="11" y="30"/>
                      </a:lnTo>
                      <a:lnTo>
                        <a:pt x="0" y="1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3203640" y="3257640"/>
                  <a:ext cx="3636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2" y="0"/>
                      </a:moveTo>
                      <a:lnTo>
                        <a:pt x="23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3263760" y="329256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3316320" y="3316320"/>
                  <a:ext cx="3636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1" y="0"/>
                      </a:moveTo>
                      <a:lnTo>
                        <a:pt x="23" y="15"/>
                      </a:lnTo>
                      <a:lnTo>
                        <a:pt x="11" y="30"/>
                      </a:lnTo>
                      <a:lnTo>
                        <a:pt x="0" y="1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3367080" y="333540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3" h="29">
                      <a:moveTo>
                        <a:pt x="12" y="0"/>
                      </a:moveTo>
                      <a:lnTo>
                        <a:pt x="23" y="14"/>
                      </a:lnTo>
                      <a:lnTo>
                        <a:pt x="12" y="29"/>
                      </a:lnTo>
                      <a:lnTo>
                        <a:pt x="0" y="1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3413160" y="334008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3460680" y="3340080"/>
                  <a:ext cx="3672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2" y="0"/>
                      </a:moveTo>
                      <a:lnTo>
                        <a:pt x="23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3502080" y="3335400"/>
                  <a:ext cx="38160" cy="4608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12" y="0"/>
                      </a:moveTo>
                      <a:lnTo>
                        <a:pt x="24" y="14"/>
                      </a:lnTo>
                      <a:lnTo>
                        <a:pt x="12" y="29"/>
                      </a:lnTo>
                      <a:lnTo>
                        <a:pt x="0" y="1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3540240" y="3322800"/>
                  <a:ext cx="3636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2" y="0"/>
                      </a:moveTo>
                      <a:lnTo>
                        <a:pt x="23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3576600" y="3311640"/>
                  <a:ext cx="38160" cy="4608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29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3610080" y="329256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3648240" y="3274920"/>
                  <a:ext cx="36360" cy="4788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1" y="0"/>
                      </a:moveTo>
                      <a:lnTo>
                        <a:pt x="23" y="15"/>
                      </a:lnTo>
                      <a:lnTo>
                        <a:pt x="11" y="30"/>
                      </a:lnTo>
                      <a:lnTo>
                        <a:pt x="0" y="1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3675240" y="3257640"/>
                  <a:ext cx="3780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3708360" y="3240000"/>
                  <a:ext cx="36720" cy="4788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2" y="0"/>
                      </a:moveTo>
                      <a:lnTo>
                        <a:pt x="23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3735360" y="322740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3763800" y="320364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3792600" y="3192480"/>
                  <a:ext cx="3636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2" y="0"/>
                      </a:moveTo>
                      <a:lnTo>
                        <a:pt x="23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3819600" y="317340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3843360" y="316224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3867120" y="3149640"/>
                  <a:ext cx="3672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2" y="0"/>
                      </a:moveTo>
                      <a:lnTo>
                        <a:pt x="23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3890880" y="3138480"/>
                  <a:ext cx="3672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1" y="0"/>
                      </a:moveTo>
                      <a:lnTo>
                        <a:pt x="23" y="15"/>
                      </a:lnTo>
                      <a:lnTo>
                        <a:pt x="11" y="30"/>
                      </a:lnTo>
                      <a:lnTo>
                        <a:pt x="0" y="1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3913200" y="3132000"/>
                  <a:ext cx="38160" cy="4788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3932280" y="312588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3956040" y="3121200"/>
                  <a:ext cx="3636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2" y="0"/>
                      </a:moveTo>
                      <a:lnTo>
                        <a:pt x="23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3975120" y="3114720"/>
                  <a:ext cx="3636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1" y="0"/>
                      </a:moveTo>
                      <a:lnTo>
                        <a:pt x="23" y="15"/>
                      </a:lnTo>
                      <a:lnTo>
                        <a:pt x="11" y="30"/>
                      </a:lnTo>
                      <a:lnTo>
                        <a:pt x="0" y="1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3997440" y="3108240"/>
                  <a:ext cx="38160" cy="4788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4016520" y="3108240"/>
                  <a:ext cx="37800" cy="4788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2" y="0"/>
                      </a:moveTo>
                      <a:lnTo>
                        <a:pt x="24" y="15"/>
                      </a:lnTo>
                      <a:lnTo>
                        <a:pt x="12" y="30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4035600" y="310356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3" h="29">
                      <a:moveTo>
                        <a:pt x="12" y="0"/>
                      </a:moveTo>
                      <a:lnTo>
                        <a:pt x="23" y="14"/>
                      </a:lnTo>
                      <a:lnTo>
                        <a:pt x="12" y="29"/>
                      </a:lnTo>
                      <a:lnTo>
                        <a:pt x="0" y="1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2787480" y="2395440"/>
                  <a:ext cx="38160" cy="47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2890800" y="2847960"/>
                  <a:ext cx="36720" cy="460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2984400" y="3097080"/>
                  <a:ext cx="36720" cy="47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3063960" y="3244680"/>
                  <a:ext cx="36360" cy="47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3138480" y="3340080"/>
                  <a:ext cx="363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3203640" y="3400560"/>
                  <a:ext cx="363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3263760" y="3441600"/>
                  <a:ext cx="38160" cy="47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3316320" y="3459240"/>
                  <a:ext cx="363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3367080" y="3471840"/>
                  <a:ext cx="363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3413160" y="3476520"/>
                  <a:ext cx="38160" cy="47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3460680" y="3471840"/>
                  <a:ext cx="3672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3502080" y="3459240"/>
                  <a:ext cx="381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3540240" y="3448080"/>
                  <a:ext cx="363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3576600" y="3429000"/>
                  <a:ext cx="381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3610080" y="3405240"/>
                  <a:ext cx="381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3648240" y="3387600"/>
                  <a:ext cx="36360" cy="47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3675240" y="3363840"/>
                  <a:ext cx="3780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3708360" y="3340080"/>
                  <a:ext cx="3672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3735360" y="3316320"/>
                  <a:ext cx="381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3763800" y="3292560"/>
                  <a:ext cx="381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3792600" y="3274920"/>
                  <a:ext cx="36360" cy="47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3819600" y="3257640"/>
                  <a:ext cx="381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3843360" y="3240000"/>
                  <a:ext cx="38160" cy="47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3867120" y="3227400"/>
                  <a:ext cx="3672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3890880" y="3209760"/>
                  <a:ext cx="36720" cy="4788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3913200" y="3203640"/>
                  <a:ext cx="381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3932280" y="3192480"/>
                  <a:ext cx="381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3956040" y="3179880"/>
                  <a:ext cx="36360" cy="47520"/>
                </a:xfrm>
                <a:prstGeom prst="rect">
                  <a:avLst/>
                </a:prstGeom>
                <a:solidFill>
                  <a:srgbClr val="ff0000"/>
                </a:solidFill>
                <a:ln w="46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8" name=""/>
              <p:cNvSpPr/>
              <p:nvPr/>
            </p:nvSpPr>
            <p:spPr>
              <a:xfrm>
                <a:off x="3975120" y="3179880"/>
                <a:ext cx="36360" cy="4752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997440" y="3173400"/>
                <a:ext cx="38160" cy="4752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16520" y="3168720"/>
                <a:ext cx="37800" cy="4752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035600" y="3162240"/>
                <a:ext cx="36360" cy="4752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2232360" y="1706400"/>
                <a:ext cx="1210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dde* Potent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1179720" y="3543480"/>
                <a:ext cx="365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-4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1179720" y="3357720"/>
                <a:ext cx="365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-3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1179720" y="3179880"/>
                <a:ext cx="365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-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1179720" y="2995560"/>
                <a:ext cx="365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-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1388520" y="28177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1235520" y="263376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1235520" y="244944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1235520" y="227016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1235520" y="208584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1376640" y="378612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1499400" y="399420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1905120" y="378612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026440" y="399420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2427480" y="378612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550600" y="399420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955960" y="378612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077640" y="399420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478320" y="378612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601440" y="399420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940200" y="3786120"/>
                <a:ext cx="657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+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168440" y="399420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2241360" y="4249800"/>
                <a:ext cx="1611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R(nm): d-d dist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rot="16200000">
                <a:off x="416880" y="2781000"/>
                <a:ext cx="1344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Potential Vs (eV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2890800" y="2044800"/>
                <a:ext cx="137340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2932200" y="2181240"/>
                <a:ext cx="15408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2989440" y="215748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11" y="0"/>
                    </a:moveTo>
                    <a:lnTo>
                      <a:pt x="23" y="15"/>
                    </a:lnTo>
                    <a:lnTo>
                      <a:pt x="11" y="30"/>
                    </a:lnTo>
                    <a:lnTo>
                      <a:pt x="0" y="1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3095640" y="2085840"/>
                <a:ext cx="55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e*(2,2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3571920" y="2181240"/>
                <a:ext cx="155520" cy="1440"/>
              </a:xfrm>
              <a:prstGeom prst="line">
                <a:avLst/>
              </a:prstGeom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3629160" y="2157480"/>
                <a:ext cx="36360" cy="4752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3728880" y="2085840"/>
                <a:ext cx="659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e*(10,1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909720" y="1598760"/>
                <a:ext cx="3630600" cy="2936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4" name=""/>
            <p:cNvGrpSpPr/>
            <p:nvPr/>
          </p:nvGrpSpPr>
          <p:grpSpPr>
            <a:xfrm>
              <a:off x="4646520" y="1604880"/>
              <a:ext cx="3624480" cy="2890800"/>
              <a:chOff x="4646520" y="1604880"/>
              <a:chExt cx="3624480" cy="2890800"/>
            </a:xfrm>
          </p:grpSpPr>
          <p:grpSp>
            <p:nvGrpSpPr>
              <p:cNvPr id="3045" name=""/>
              <p:cNvGrpSpPr/>
              <p:nvPr/>
            </p:nvGrpSpPr>
            <p:grpSpPr>
              <a:xfrm>
                <a:off x="4646520" y="1604880"/>
                <a:ext cx="3624480" cy="2890800"/>
                <a:chOff x="4646520" y="1604880"/>
                <a:chExt cx="3624480" cy="2890800"/>
              </a:xfrm>
            </p:grpSpPr>
            <p:sp>
              <p:nvSpPr>
                <p:cNvPr id="3046" name=""/>
                <p:cNvSpPr/>
                <p:nvPr/>
              </p:nvSpPr>
              <p:spPr>
                <a:xfrm>
                  <a:off x="4646520" y="1604880"/>
                  <a:ext cx="3624480" cy="289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5413320" y="2173320"/>
                  <a:ext cx="2505240" cy="1419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5413320" y="3436920"/>
                  <a:ext cx="2505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5413320" y="3274920"/>
                  <a:ext cx="2505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5413320" y="3119400"/>
                  <a:ext cx="2505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5413320" y="2963880"/>
                  <a:ext cx="2505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5413320" y="2801880"/>
                  <a:ext cx="250524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5413320" y="2646360"/>
                  <a:ext cx="2505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5413320" y="2490840"/>
                  <a:ext cx="2505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5413320" y="2328840"/>
                  <a:ext cx="2505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5413320" y="2173320"/>
                  <a:ext cx="25052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5915160" y="2173320"/>
                  <a:ext cx="1440" cy="1419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6416640" y="2173320"/>
                  <a:ext cx="1800" cy="1419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6913440" y="2173320"/>
                  <a:ext cx="1800" cy="1419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416720" y="2173320"/>
                  <a:ext cx="1800" cy="1419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918560" y="2173320"/>
                  <a:ext cx="1440" cy="1419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5413320" y="2173320"/>
                  <a:ext cx="2505240" cy="1419120"/>
                </a:xfrm>
                <a:prstGeom prst="rect">
                  <a:avLst/>
                </a:prstGeom>
                <a:noFill/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5413320" y="2173320"/>
                  <a:ext cx="36720" cy="1419120"/>
                </a:xfrm>
                <a:custGeom>
                  <a:avLst/>
                  <a:gdLst/>
                  <a:ahLst/>
                  <a:rect l="l" t="t" r="r" b="b"/>
                  <a:pathLst>
                    <a:path w="7" h="228">
                      <a:moveTo>
                        <a:pt x="0" y="0"/>
                      </a:moveTo>
                      <a:lnTo>
                        <a:pt x="0" y="228"/>
                      </a:lnTo>
                      <a:lnTo>
                        <a:pt x="7" y="22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5413320" y="356220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5413320" y="353052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5413320" y="349884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5413320" y="346860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5413320" y="343692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5413320" y="340668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5413320" y="337500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5413320" y="333684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5413320" y="330660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5413320" y="327492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5413320" y="324468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5413320" y="321300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5413320" y="318132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5413320" y="315108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413320" y="311940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413320" y="308772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5413320" y="305748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5413320" y="302580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5413320" y="299556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5413320" y="296388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5413320" y="293220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5413320" y="290196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5413320" y="286380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5413320" y="283356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5413320" y="280188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5413320" y="277020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5413320" y="273996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5413320" y="270828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5413320" y="267660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5413320" y="264636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5413320" y="261468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5413320" y="258444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5413320" y="255276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5413320" y="252108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5413320" y="249084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5413320" y="245916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413320" y="2427120"/>
                  <a:ext cx="3672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413320" y="239076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5413320" y="235908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5413320" y="232884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5413320" y="229716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5413320" y="226548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5413320" y="223524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5413320" y="220356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5413320" y="2173320"/>
                  <a:ext cx="3672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5413320" y="3592440"/>
                  <a:ext cx="4608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5413320" y="3436920"/>
                  <a:ext cx="4608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5413320" y="3274920"/>
                  <a:ext cx="4608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5413320" y="3119400"/>
                  <a:ext cx="4608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413320" y="2963880"/>
                  <a:ext cx="4608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5413320" y="2801880"/>
                  <a:ext cx="4608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5413320" y="2646360"/>
                  <a:ext cx="4608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5413320" y="2490840"/>
                  <a:ext cx="4608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5413320" y="2328840"/>
                  <a:ext cx="4608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5413320" y="2173320"/>
                  <a:ext cx="4608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5413320" y="3592440"/>
                  <a:ext cx="250524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 flipV="1">
                  <a:off x="541332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V="1">
                  <a:off x="556272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 flipV="1">
                  <a:off x="565164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 flipV="1">
                  <a:off x="571356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flipV="1">
                  <a:off x="576576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flipV="1">
                  <a:off x="580068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flipV="1">
                  <a:off x="583740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 flipV="1">
                  <a:off x="586260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 flipV="1">
                  <a:off x="588960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 flipV="1">
                  <a:off x="591516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 flipV="1">
                  <a:off x="606600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 flipV="1">
                  <a:off x="615312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 flipV="1">
                  <a:off x="621504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 flipV="1">
                  <a:off x="626256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 flipV="1">
                  <a:off x="630396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 flipV="1">
                  <a:off x="633888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V="1">
                  <a:off x="636588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 flipV="1">
                  <a:off x="639144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V="1">
                  <a:off x="641664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V="1">
                  <a:off x="656748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V="1">
                  <a:off x="665496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V="1">
                  <a:off x="671688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 flipV="1">
                  <a:off x="676440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V="1">
                  <a:off x="680544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V="1">
                  <a:off x="683568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 flipV="1">
                  <a:off x="686736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 flipV="1">
                  <a:off x="689292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 flipV="1">
                  <a:off x="691344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 flipV="1">
                  <a:off x="706896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 flipV="1">
                  <a:off x="715788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 flipV="1">
                  <a:off x="721980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 flipV="1">
                  <a:off x="726588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flipV="1">
                  <a:off x="730728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flipV="1">
                  <a:off x="733896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flipV="1">
                  <a:off x="736920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flipV="1">
                  <a:off x="739620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 flipV="1">
                  <a:off x="741672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 flipV="1">
                  <a:off x="756612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 flipV="1">
                  <a:off x="765504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 flipV="1">
                  <a:off x="771696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 flipV="1">
                  <a:off x="776772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 flipV="1">
                  <a:off x="780876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 flipV="1">
                  <a:off x="784080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 flipV="1">
                  <a:off x="787248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 flipV="1">
                  <a:off x="7897680" y="3549240"/>
                  <a:ext cx="180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 flipV="1">
                  <a:off x="7918560" y="3549240"/>
                  <a:ext cx="1440" cy="42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flipV="1">
                  <a:off x="5413320" y="3537000"/>
                  <a:ext cx="1800" cy="55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 flipV="1">
                  <a:off x="5915160" y="3537000"/>
                  <a:ext cx="1440" cy="55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flipV="1">
                  <a:off x="6416640" y="3537000"/>
                  <a:ext cx="1800" cy="55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 flipV="1">
                  <a:off x="6913440" y="3537000"/>
                  <a:ext cx="1800" cy="55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 flipV="1">
                  <a:off x="7416720" y="3537000"/>
                  <a:ext cx="1800" cy="55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 flipV="1">
                  <a:off x="7918560" y="3537000"/>
                  <a:ext cx="1440" cy="55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6132600" y="2371680"/>
                  <a:ext cx="185760" cy="486000"/>
                </a:xfrm>
                <a:custGeom>
                  <a:avLst/>
                  <a:gdLst/>
                  <a:ahLst/>
                  <a:rect l="l" t="t" r="r" b="b"/>
                  <a:pathLst>
                    <a:path w="117" h="306">
                      <a:moveTo>
                        <a:pt x="0" y="0"/>
                      </a:moveTo>
                      <a:lnTo>
                        <a:pt x="16" y="39"/>
                      </a:lnTo>
                      <a:lnTo>
                        <a:pt x="29" y="83"/>
                      </a:lnTo>
                      <a:lnTo>
                        <a:pt x="62" y="165"/>
                      </a:lnTo>
                      <a:lnTo>
                        <a:pt x="75" y="204"/>
                      </a:lnTo>
                      <a:lnTo>
                        <a:pt x="91" y="243"/>
                      </a:lnTo>
                      <a:lnTo>
                        <a:pt x="104" y="279"/>
                      </a:lnTo>
                      <a:lnTo>
                        <a:pt x="117" y="306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6318360" y="2857680"/>
                  <a:ext cx="145800" cy="174600"/>
                </a:xfrm>
                <a:custGeom>
                  <a:avLst/>
                  <a:gdLst/>
                  <a:ahLst/>
                  <a:rect l="l" t="t" r="r" b="b"/>
                  <a:pathLst>
                    <a:path w="92" h="110">
                      <a:moveTo>
                        <a:pt x="0" y="0"/>
                      </a:moveTo>
                      <a:lnTo>
                        <a:pt x="13" y="24"/>
                      </a:lnTo>
                      <a:lnTo>
                        <a:pt x="27" y="43"/>
                      </a:lnTo>
                      <a:lnTo>
                        <a:pt x="36" y="59"/>
                      </a:lnTo>
                      <a:lnTo>
                        <a:pt x="49" y="71"/>
                      </a:lnTo>
                      <a:lnTo>
                        <a:pt x="72" y="90"/>
                      </a:lnTo>
                      <a:lnTo>
                        <a:pt x="92" y="11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6464160" y="3032280"/>
                  <a:ext cx="119160" cy="74520"/>
                </a:xfrm>
                <a:custGeom>
                  <a:avLst/>
                  <a:gdLst/>
                  <a:ahLst/>
                  <a:rect l="l" t="t" r="r" b="b"/>
                  <a:pathLst>
                    <a:path w="75" h="47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39" y="28"/>
                      </a:lnTo>
                      <a:lnTo>
                        <a:pt x="75" y="47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6583320" y="3106800"/>
                  <a:ext cx="98640" cy="44280"/>
                </a:xfrm>
                <a:custGeom>
                  <a:avLst/>
                  <a:gdLst/>
                  <a:ahLst/>
                  <a:rect l="l" t="t" r="r" b="b"/>
                  <a:pathLst>
                    <a:path w="62" h="28">
                      <a:moveTo>
                        <a:pt x="0" y="0"/>
                      </a:moveTo>
                      <a:lnTo>
                        <a:pt x="32" y="16"/>
                      </a:lnTo>
                      <a:lnTo>
                        <a:pt x="62" y="28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6681960" y="3151080"/>
                  <a:ext cx="87120" cy="1764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0" y="0"/>
                      </a:moveTo>
                      <a:lnTo>
                        <a:pt x="29" y="8"/>
                      </a:lnTo>
                      <a:lnTo>
                        <a:pt x="55" y="11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6769080" y="3168720"/>
                  <a:ext cx="77760" cy="126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6846840" y="3181320"/>
                  <a:ext cx="66600" cy="64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6913440" y="3187800"/>
                  <a:ext cx="63720" cy="612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6977160" y="3193920"/>
                  <a:ext cx="55440" cy="18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7032600" y="3187800"/>
                  <a:ext cx="57240" cy="6120"/>
                </a:xfrm>
                <a:custGeom>
                  <a:avLst/>
                  <a:gdLst/>
                  <a:ahLst/>
                  <a:rect l="l" t="t" r="r" b="b"/>
                  <a:pathLst>
                    <a:path w="36" h="4">
                      <a:moveTo>
                        <a:pt x="0" y="4"/>
                      </a:moveTo>
                      <a:lnTo>
                        <a:pt x="20" y="4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7089840" y="3181320"/>
                  <a:ext cx="47520" cy="6480"/>
                </a:xfrm>
                <a:custGeom>
                  <a:avLst/>
                  <a:gdLst/>
                  <a:ahLst/>
                  <a:rect l="l" t="t" r="r" b="b"/>
                  <a:pathLst>
                    <a:path w="30" h="4">
                      <a:moveTo>
                        <a:pt x="0" y="4"/>
                      </a:moveTo>
                      <a:lnTo>
                        <a:pt x="17" y="0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 flipV="1">
                  <a:off x="7137360" y="3174840"/>
                  <a:ext cx="46080" cy="64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 flipV="1">
                  <a:off x="7183440" y="3168360"/>
                  <a:ext cx="41400" cy="612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 flipV="1">
                  <a:off x="7224840" y="3157200"/>
                  <a:ext cx="36360" cy="1116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7261200" y="3144960"/>
                  <a:ext cx="41400" cy="12600"/>
                </a:xfrm>
                <a:custGeom>
                  <a:avLst/>
                  <a:gdLst/>
                  <a:ahLst/>
                  <a:rect l="l" t="t" r="r" b="b"/>
                  <a:pathLst>
                    <a:path w="26" h="8">
                      <a:moveTo>
                        <a:pt x="0" y="8"/>
                      </a:moveTo>
                      <a:lnTo>
                        <a:pt x="13" y="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7302600" y="3132000"/>
                  <a:ext cx="30240" cy="1296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0" y="8"/>
                      </a:moveTo>
                      <a:lnTo>
                        <a:pt x="10" y="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7332840" y="3119400"/>
                  <a:ext cx="36360" cy="12600"/>
                </a:xfrm>
                <a:custGeom>
                  <a:avLst/>
                  <a:gdLst/>
                  <a:ahLst/>
                  <a:rect l="l" t="t" r="r" b="b"/>
                  <a:pathLst>
                    <a:path w="23" h="8">
                      <a:moveTo>
                        <a:pt x="0" y="8"/>
                      </a:moveTo>
                      <a:lnTo>
                        <a:pt x="10" y="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 flipV="1">
                  <a:off x="7369200" y="3106440"/>
                  <a:ext cx="31680" cy="126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7400880" y="3087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12"/>
                      </a:moveTo>
                      <a:lnTo>
                        <a:pt x="10" y="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 flipV="1">
                  <a:off x="7431120" y="3076200"/>
                  <a:ext cx="31680" cy="1116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 flipV="1">
                  <a:off x="7462800" y="3063600"/>
                  <a:ext cx="25560" cy="126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 flipV="1">
                  <a:off x="7488360" y="3051000"/>
                  <a:ext cx="27000" cy="1296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 flipV="1">
                  <a:off x="7515360" y="3038040"/>
                  <a:ext cx="25200" cy="126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 flipV="1">
                  <a:off x="7540560" y="3025440"/>
                  <a:ext cx="25560" cy="126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 flipV="1">
                  <a:off x="7566120" y="3012840"/>
                  <a:ext cx="20520" cy="126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 flipV="1">
                  <a:off x="7586640" y="3006720"/>
                  <a:ext cx="27000" cy="64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 flipV="1">
                  <a:off x="7613640" y="3000240"/>
                  <a:ext cx="20520" cy="64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 flipV="1">
                  <a:off x="7634160" y="2995200"/>
                  <a:ext cx="20880" cy="46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 flipV="1">
                  <a:off x="7655040" y="2989080"/>
                  <a:ext cx="20520" cy="612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 flipV="1">
                  <a:off x="7675560" y="2982960"/>
                  <a:ext cx="20520" cy="64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 flipV="1">
                  <a:off x="7696080" y="2976480"/>
                  <a:ext cx="20880" cy="648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7716960" y="2976480"/>
                  <a:ext cx="15840" cy="180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7732800" y="2970360"/>
                  <a:ext cx="20520" cy="6120"/>
                </a:xfrm>
                <a:custGeom>
                  <a:avLst/>
                  <a:gdLst/>
                  <a:ahLst/>
                  <a:rect l="l" t="t" r="r" b="b"/>
                  <a:pathLst>
                    <a:path w="13" h="4">
                      <a:moveTo>
                        <a:pt x="0" y="4"/>
                      </a:moveTo>
                      <a:lnTo>
                        <a:pt x="6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7753320" y="2970360"/>
                  <a:ext cx="14400" cy="1440"/>
                </a:xfrm>
                <a:prstGeom prst="line">
                  <a:avLst/>
                </a:prstGeom>
                <a:ln w="46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6132600" y="2602080"/>
                  <a:ext cx="185760" cy="492120"/>
                </a:xfrm>
                <a:custGeom>
                  <a:avLst/>
                  <a:gdLst/>
                  <a:ahLst/>
                  <a:rect l="l" t="t" r="r" b="b"/>
                  <a:pathLst>
                    <a:path w="117" h="310">
                      <a:moveTo>
                        <a:pt x="0" y="0"/>
                      </a:moveTo>
                      <a:lnTo>
                        <a:pt x="16" y="40"/>
                      </a:lnTo>
                      <a:lnTo>
                        <a:pt x="29" y="83"/>
                      </a:lnTo>
                      <a:lnTo>
                        <a:pt x="62" y="169"/>
                      </a:lnTo>
                      <a:lnTo>
                        <a:pt x="75" y="208"/>
                      </a:lnTo>
                      <a:lnTo>
                        <a:pt x="91" y="248"/>
                      </a:lnTo>
                      <a:lnTo>
                        <a:pt x="104" y="283"/>
                      </a:lnTo>
                      <a:lnTo>
                        <a:pt x="117" y="31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6318360" y="3094200"/>
                  <a:ext cx="145800" cy="168120"/>
                </a:xfrm>
                <a:custGeom>
                  <a:avLst/>
                  <a:gdLst/>
                  <a:ahLst/>
                  <a:rect l="l" t="t" r="r" b="b"/>
                  <a:pathLst>
                    <a:path w="92" h="106">
                      <a:moveTo>
                        <a:pt x="0" y="0"/>
                      </a:moveTo>
                      <a:lnTo>
                        <a:pt x="13" y="24"/>
                      </a:lnTo>
                      <a:lnTo>
                        <a:pt x="23" y="40"/>
                      </a:lnTo>
                      <a:lnTo>
                        <a:pt x="36" y="55"/>
                      </a:lnTo>
                      <a:lnTo>
                        <a:pt x="49" y="67"/>
                      </a:lnTo>
                      <a:lnTo>
                        <a:pt x="72" y="87"/>
                      </a:lnTo>
                      <a:lnTo>
                        <a:pt x="92" y="106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6464160" y="3262320"/>
                  <a:ext cx="119160" cy="81000"/>
                </a:xfrm>
                <a:custGeom>
                  <a:avLst/>
                  <a:gdLst/>
                  <a:ahLst/>
                  <a:rect l="l" t="t" r="r" b="b"/>
                  <a:pathLst>
                    <a:path w="75" h="51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39" y="32"/>
                      </a:lnTo>
                      <a:lnTo>
                        <a:pt x="75" y="51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6583320" y="3343320"/>
                  <a:ext cx="98640" cy="38160"/>
                </a:xfrm>
                <a:custGeom>
                  <a:avLst/>
                  <a:gdLst/>
                  <a:ahLst/>
                  <a:rect l="l" t="t" r="r" b="b"/>
                  <a:pathLst>
                    <a:path w="62" h="24">
                      <a:moveTo>
                        <a:pt x="0" y="0"/>
                      </a:moveTo>
                      <a:lnTo>
                        <a:pt x="32" y="16"/>
                      </a:lnTo>
                      <a:lnTo>
                        <a:pt x="62" y="24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6681960" y="3381480"/>
                  <a:ext cx="87120" cy="19080"/>
                </a:xfrm>
                <a:custGeom>
                  <a:avLst/>
                  <a:gdLst/>
                  <a:ahLst/>
                  <a:rect l="l" t="t" r="r" b="b"/>
                  <a:pathLst>
                    <a:path w="55" h="12">
                      <a:moveTo>
                        <a:pt x="0" y="0"/>
                      </a:moveTo>
                      <a:lnTo>
                        <a:pt x="29" y="8"/>
                      </a:lnTo>
                      <a:lnTo>
                        <a:pt x="55" y="12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6769080" y="3400560"/>
                  <a:ext cx="77760" cy="126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6846840" y="3413160"/>
                  <a:ext cx="66600" cy="46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6913440" y="3417840"/>
                  <a:ext cx="63720" cy="18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6977160" y="3417840"/>
                  <a:ext cx="55440" cy="18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7032600" y="3413160"/>
                  <a:ext cx="57240" cy="4680"/>
                </a:xfrm>
                <a:custGeom>
                  <a:avLst/>
                  <a:gdLst/>
                  <a:ahLst/>
                  <a:rect l="l" t="t" r="r" b="b"/>
                  <a:pathLst>
                    <a:path w="36" h="3">
                      <a:moveTo>
                        <a:pt x="0" y="3"/>
                      </a:moveTo>
                      <a:lnTo>
                        <a:pt x="20" y="3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7089840" y="3406680"/>
                  <a:ext cx="47520" cy="6480"/>
                </a:xfrm>
                <a:custGeom>
                  <a:avLst/>
                  <a:gdLst/>
                  <a:ahLst/>
                  <a:rect l="l" t="t" r="r" b="b"/>
                  <a:pathLst>
                    <a:path w="30" h="4">
                      <a:moveTo>
                        <a:pt x="0" y="4"/>
                      </a:moveTo>
                      <a:lnTo>
                        <a:pt x="17" y="4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 flipV="1">
                  <a:off x="7137360" y="3393720"/>
                  <a:ext cx="46080" cy="126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7183440" y="3375000"/>
                  <a:ext cx="41400" cy="190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0" y="12"/>
                      </a:moveTo>
                      <a:lnTo>
                        <a:pt x="13" y="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7224840" y="3362400"/>
                  <a:ext cx="36360" cy="12600"/>
                </a:xfrm>
                <a:custGeom>
                  <a:avLst/>
                  <a:gdLst/>
                  <a:ahLst/>
                  <a:rect l="l" t="t" r="r" b="b"/>
                  <a:pathLst>
                    <a:path w="23" h="8">
                      <a:moveTo>
                        <a:pt x="0" y="8"/>
                      </a:moveTo>
                      <a:lnTo>
                        <a:pt x="10" y="4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7261200" y="3336840"/>
                  <a:ext cx="414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6">
                      <a:moveTo>
                        <a:pt x="0" y="16"/>
                      </a:moveTo>
                      <a:lnTo>
                        <a:pt x="13" y="8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7302600" y="331956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19" h="11">
                      <a:moveTo>
                        <a:pt x="0" y="11"/>
                      </a:moveTo>
                      <a:lnTo>
                        <a:pt x="10" y="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7332840" y="3300480"/>
                  <a:ext cx="36360" cy="1908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0" y="12"/>
                      </a:moveTo>
                      <a:lnTo>
                        <a:pt x="10" y="8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7369200" y="3274920"/>
                  <a:ext cx="31680" cy="2556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0" y="16"/>
                      </a:moveTo>
                      <a:lnTo>
                        <a:pt x="10" y="8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 flipV="1">
                  <a:off x="7400880" y="3255480"/>
                  <a:ext cx="30240" cy="190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 flipV="1">
                  <a:off x="7431120" y="3232080"/>
                  <a:ext cx="31680" cy="2376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 flipV="1">
                  <a:off x="7462800" y="3206880"/>
                  <a:ext cx="25560" cy="252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V="1">
                  <a:off x="7488360" y="3187440"/>
                  <a:ext cx="27000" cy="190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 flipV="1">
                  <a:off x="7515360" y="3168360"/>
                  <a:ext cx="25200" cy="190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 flipV="1">
                  <a:off x="7540560" y="3150720"/>
                  <a:ext cx="25560" cy="1764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 flipV="1">
                  <a:off x="7566120" y="3138120"/>
                  <a:ext cx="20520" cy="126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7586640" y="3119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12"/>
                      </a:moveTo>
                      <a:lnTo>
                        <a:pt x="7" y="4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 flipV="1">
                  <a:off x="7613640" y="3106440"/>
                  <a:ext cx="20520" cy="126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 flipV="1">
                  <a:off x="7634160" y="3100320"/>
                  <a:ext cx="20880" cy="64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 flipV="1">
                  <a:off x="7655040" y="3087360"/>
                  <a:ext cx="20520" cy="1260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 flipV="1">
                  <a:off x="7675560" y="3082680"/>
                  <a:ext cx="20520" cy="46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 flipV="1">
                  <a:off x="7696080" y="3076560"/>
                  <a:ext cx="20880" cy="64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 flipV="1">
                  <a:off x="7716960" y="3070080"/>
                  <a:ext cx="15840" cy="648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7732800" y="3070080"/>
                  <a:ext cx="20520" cy="180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 flipV="1">
                  <a:off x="7753320" y="3063600"/>
                  <a:ext cx="14400" cy="6120"/>
                </a:xfrm>
                <a:prstGeom prst="line">
                  <a:avLst/>
                </a:prstGeom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6111720" y="2346480"/>
                  <a:ext cx="41400" cy="50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3" y="0"/>
                      </a:moveTo>
                      <a:lnTo>
                        <a:pt x="26" y="16"/>
                      </a:lnTo>
                      <a:lnTo>
                        <a:pt x="13" y="32"/>
                      </a:lnTo>
                      <a:lnTo>
                        <a:pt x="0" y="1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6297480" y="2833560"/>
                  <a:ext cx="41400" cy="4932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13" y="0"/>
                      </a:moveTo>
                      <a:lnTo>
                        <a:pt x="26" y="15"/>
                      </a:lnTo>
                      <a:lnTo>
                        <a:pt x="13" y="31"/>
                      </a:lnTo>
                      <a:lnTo>
                        <a:pt x="0" y="1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6443640" y="3006720"/>
                  <a:ext cx="41400" cy="50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3" y="0"/>
                      </a:moveTo>
                      <a:lnTo>
                        <a:pt x="26" y="16"/>
                      </a:lnTo>
                      <a:lnTo>
                        <a:pt x="13" y="32"/>
                      </a:lnTo>
                      <a:lnTo>
                        <a:pt x="0" y="1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6562800" y="3083040"/>
                  <a:ext cx="41040" cy="4896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13" y="0"/>
                      </a:moveTo>
                      <a:lnTo>
                        <a:pt x="26" y="15"/>
                      </a:lnTo>
                      <a:lnTo>
                        <a:pt x="13" y="31"/>
                      </a:lnTo>
                      <a:lnTo>
                        <a:pt x="0" y="1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6661080" y="3125880"/>
                  <a:ext cx="41400" cy="4896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13" y="0"/>
                      </a:moveTo>
                      <a:lnTo>
                        <a:pt x="26" y="16"/>
                      </a:lnTo>
                      <a:lnTo>
                        <a:pt x="13" y="31"/>
                      </a:lnTo>
                      <a:lnTo>
                        <a:pt x="0" y="1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6748560" y="3144960"/>
                  <a:ext cx="41040" cy="4896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13" y="0"/>
                      </a:moveTo>
                      <a:lnTo>
                        <a:pt x="26" y="15"/>
                      </a:lnTo>
                      <a:lnTo>
                        <a:pt x="13" y="31"/>
                      </a:lnTo>
                      <a:lnTo>
                        <a:pt x="0" y="1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46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6" name=""/>
              <p:cNvSpPr/>
              <p:nvPr/>
            </p:nvSpPr>
            <p:spPr>
              <a:xfrm>
                <a:off x="6826320" y="3157560"/>
                <a:ext cx="4104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892920" y="3164040"/>
                <a:ext cx="41400" cy="4896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6954840" y="316872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14" y="0"/>
                    </a:moveTo>
                    <a:lnTo>
                      <a:pt x="27" y="16"/>
                    </a:lnTo>
                    <a:lnTo>
                      <a:pt x="14" y="32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012080" y="316872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2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068960" y="3164040"/>
                <a:ext cx="41400" cy="4896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116840" y="3157560"/>
                <a:ext cx="4104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162920" y="3151080"/>
                <a:ext cx="4104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203960" y="3144960"/>
                <a:ext cx="41400" cy="4896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240680" y="3132000"/>
                <a:ext cx="4104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1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281720" y="311940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1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311960" y="31068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13" y="0"/>
                    </a:moveTo>
                    <a:lnTo>
                      <a:pt x="27" y="16"/>
                    </a:lnTo>
                    <a:lnTo>
                      <a:pt x="13" y="32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348680" y="309420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2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380360" y="3083040"/>
                <a:ext cx="41040" cy="4896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410600" y="3063960"/>
                <a:ext cx="41040" cy="4896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7442280" y="3051000"/>
                <a:ext cx="4104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1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467480" y="303840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1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494480" y="302580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2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520040" y="301320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2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545240" y="300024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2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566120" y="2989440"/>
                <a:ext cx="41040" cy="4896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593120" y="2982960"/>
                <a:ext cx="4104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613640" y="2976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5"/>
                    </a:lnTo>
                    <a:lnTo>
                      <a:pt x="13" y="31"/>
                    </a:lnTo>
                    <a:lnTo>
                      <a:pt x="0" y="1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634160" y="2970360"/>
                <a:ext cx="41400" cy="4896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1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655040" y="2963880"/>
                <a:ext cx="4104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1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675560" y="295740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1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696080" y="2951280"/>
                <a:ext cx="41400" cy="48960"/>
              </a:xfrm>
              <a:custGeom>
                <a:avLst/>
                <a:gdLst/>
                <a:ahLst/>
                <a:rect l="l" t="t" r="r" b="b"/>
                <a:pathLst>
                  <a:path w="26" h="31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1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710480" y="2951280"/>
                <a:ext cx="42840" cy="4896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14" y="0"/>
                    </a:moveTo>
                    <a:lnTo>
                      <a:pt x="27" y="16"/>
                    </a:lnTo>
                    <a:lnTo>
                      <a:pt x="14" y="31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732800" y="294480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2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746840" y="294480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13" y="0"/>
                    </a:moveTo>
                    <a:lnTo>
                      <a:pt x="26" y="16"/>
                    </a:lnTo>
                    <a:lnTo>
                      <a:pt x="13" y="32"/>
                    </a:lnTo>
                    <a:lnTo>
                      <a:pt x="0" y="1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6111720" y="257796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297480" y="307008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443640" y="323856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562800" y="3319560"/>
                <a:ext cx="41040" cy="489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6661080" y="3355920"/>
                <a:ext cx="41400" cy="507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6748560" y="3375000"/>
                <a:ext cx="410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826320" y="3387600"/>
                <a:ext cx="410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892920" y="339408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954840" y="3394080"/>
                <a:ext cx="428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012080" y="3394080"/>
                <a:ext cx="410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068960" y="338760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116840" y="3381480"/>
                <a:ext cx="41040" cy="489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162920" y="3368520"/>
                <a:ext cx="410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203960" y="3349800"/>
                <a:ext cx="41400" cy="507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240680" y="3336840"/>
                <a:ext cx="41040" cy="507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281720" y="331308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311960" y="3294000"/>
                <a:ext cx="428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348680" y="3274920"/>
                <a:ext cx="41040" cy="507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380360" y="3249720"/>
                <a:ext cx="41040" cy="507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410600" y="3232080"/>
                <a:ext cx="410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442280" y="3206880"/>
                <a:ext cx="41040" cy="489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467480" y="3181320"/>
                <a:ext cx="41400" cy="507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494480" y="3164040"/>
                <a:ext cx="41400" cy="489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520040" y="3144960"/>
                <a:ext cx="41400" cy="489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545240" y="3125880"/>
                <a:ext cx="41400" cy="489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566120" y="3112920"/>
                <a:ext cx="41040" cy="511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593120" y="3094200"/>
                <a:ext cx="41040" cy="507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613640" y="3083040"/>
                <a:ext cx="41400" cy="489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634160" y="307656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655040" y="3063960"/>
                <a:ext cx="41040" cy="4896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675560" y="305748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696080" y="305100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710480" y="3044880"/>
                <a:ext cx="428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732800" y="3044880"/>
                <a:ext cx="410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746840" y="3038400"/>
                <a:ext cx="4140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955120" y="1711440"/>
                <a:ext cx="1210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dde* Potent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925880" y="3517920"/>
                <a:ext cx="46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-5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925880" y="3362400"/>
                <a:ext cx="46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-4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925880" y="3200400"/>
                <a:ext cx="46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-3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925880" y="3044880"/>
                <a:ext cx="46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-2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925880" y="2889360"/>
                <a:ext cx="46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-1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219280" y="2727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4983480" y="257184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4983480" y="241632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4983480" y="225432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3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4983480" y="2097000"/>
                <a:ext cx="40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4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202360" y="375444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326920" y="396072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704200" y="375444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828760" y="396072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205680" y="375444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32040" y="396072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702480" y="375444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828840" y="396072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204320" y="3754440"/>
                <a:ext cx="51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330320" y="396072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685280" y="3754440"/>
                <a:ext cx="555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1.00E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832160" y="396072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989680" y="4216320"/>
                <a:ext cx="1611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R(nm): d-d dist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rot="16200000">
                <a:off x="4155480" y="2768400"/>
                <a:ext cx="1344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ＭＳ Ｐゴシック"/>
                  </a:rPr>
                  <a:t>Potential Vs (eV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370560" y="2097000"/>
                <a:ext cx="1536840" cy="243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416640" y="2235240"/>
                <a:ext cx="17136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478560" y="220968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14" y="0"/>
                    </a:moveTo>
                    <a:lnTo>
                      <a:pt x="27" y="16"/>
                    </a:lnTo>
                    <a:lnTo>
                      <a:pt x="14" y="31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80"/>
              </a:solidFill>
              <a:ln w="4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596280" y="2141640"/>
                <a:ext cx="55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e*(4,4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101000" y="2235240"/>
                <a:ext cx="169920" cy="1440"/>
              </a:xfrm>
              <a:prstGeom prst="line">
                <a:avLst/>
              </a:prstGeom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162920" y="2209680"/>
                <a:ext cx="41040" cy="49320"/>
              </a:xfrm>
              <a:prstGeom prst="rect">
                <a:avLst/>
              </a:prstGeom>
              <a:solidFill>
                <a:srgbClr val="ff00ff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265880" y="2141640"/>
                <a:ext cx="76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ＭＳ Ｐゴシック"/>
                  </a:rPr>
                  <a:t>e*(100,1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4646520" y="1604880"/>
                <a:ext cx="3624480" cy="2890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3" name=""/>
            <p:cNvSpPr/>
            <p:nvPr/>
          </p:nvSpPr>
          <p:spPr>
            <a:xfrm>
              <a:off x="800280" y="996840"/>
              <a:ext cx="754380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1066680" y="5105520"/>
              <a:ext cx="7317000" cy="114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335240" y="5280120"/>
              <a:ext cx="603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ff"/>
                  </a:solidFill>
                  <a:latin typeface="Tahoma"/>
                </a:rPr>
                <a:t>Cooper pair (single particle) works as strong as mass 1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182000" y="5280120"/>
              <a:ext cx="857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00ff"/>
                  </a:solidFill>
                  <a:latin typeface="Tahoma"/>
                </a:rPr>
                <a:t>ferm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1789920" y="5610240"/>
              <a:ext cx="512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ff"/>
                  </a:solidFill>
                  <a:latin typeface="Tahoma"/>
                </a:rPr>
                <a:t>Pairing of e*(2,2)s works as strong as mass 1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6777000" y="5610240"/>
              <a:ext cx="857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6600ff"/>
                  </a:solidFill>
                  <a:latin typeface="Tahoma"/>
                </a:rPr>
                <a:t>ferm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600880" y="4683240"/>
              <a:ext cx="213516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967000" y="472752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6095880" y="4727520"/>
              <a:ext cx="127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ff"/>
                  </a:solidFill>
                  <a:latin typeface="Tahoma"/>
                </a:rPr>
                <a:t>b(4,4) = 360 f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6213600" y="4454640"/>
              <a:ext cx="147600" cy="228600"/>
              <a:chOff x="6213600" y="4454640"/>
              <a:chExt cx="147600" cy="228600"/>
            </a:xfrm>
          </p:grpSpPr>
          <p:sp>
            <p:nvSpPr>
              <p:cNvPr id="3353" name=""/>
              <p:cNvSpPr/>
              <p:nvPr/>
            </p:nvSpPr>
            <p:spPr>
              <a:xfrm>
                <a:off x="6272280" y="4597560"/>
                <a:ext cx="28440" cy="85680"/>
              </a:xfrm>
              <a:prstGeom prst="rect">
                <a:avLst/>
              </a:pr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213600" y="4454640"/>
                <a:ext cx="14760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93" y="92"/>
                    </a:moveTo>
                    <a:lnTo>
                      <a:pt x="46" y="0"/>
                    </a:lnTo>
                    <a:lnTo>
                      <a:pt x="0" y="92"/>
                    </a:lnTo>
                    <a:lnTo>
                      <a:pt x="93" y="92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5" name=""/>
            <p:cNvSpPr/>
            <p:nvPr/>
          </p:nvSpPr>
          <p:spPr>
            <a:xfrm>
              <a:off x="1835280" y="6093000"/>
              <a:ext cx="5761080" cy="6490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ahoma"/>
                </a:rPr>
                <a:t>　</a:t>
              </a:r>
              <a:r>
                <a:rPr b="0" lang="ja-JP" sz="2400" spc="-1" strike="noStrike">
                  <a:solidFill>
                    <a:srgbClr val="ff0303"/>
                  </a:solidFill>
                  <a:latin typeface="Tahoma"/>
                </a:rPr>
                <a:t>e*(4,4)&lt;</a:t>
              </a:r>
              <a:r>
                <a:rPr b="0" lang="el-GR" sz="2400" spc="-1" strike="noStrike">
                  <a:solidFill>
                    <a:srgbClr val="ff0303"/>
                  </a:solidFill>
                  <a:latin typeface="Tahoma"/>
                  <a:ea typeface="Tahoma"/>
                </a:rPr>
                <a:t>μ</a:t>
              </a:r>
              <a:r>
                <a:rPr b="0" lang="ja-JP" sz="2400" spc="-1" strike="noStrike">
                  <a:solidFill>
                    <a:srgbClr val="ff0303"/>
                  </a:solidFill>
                  <a:latin typeface="Tahoma"/>
                  <a:ea typeface="Tahoma"/>
                </a:rPr>
                <a:t>(208,1)&lt;e*(8,8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4C2-804D-453F-B22F-5BAF9987FF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f83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ing Energy of EQPET Molecu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7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8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8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8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830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de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e*e*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e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e*e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a0836"/>
                          </a:solidFill>
                          <a:latin typeface="Arial"/>
                        </a:rPr>
                        <a:t>4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,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a0836"/>
                          </a:solidFill>
                          <a:latin typeface="Arial"/>
                        </a:rPr>
                        <a:t>22,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8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7,5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8" name=""/>
          <p:cNvSpPr/>
          <p:nvPr/>
        </p:nvSpPr>
        <p:spPr>
          <a:xfrm>
            <a:off x="476280" y="6264360"/>
            <a:ext cx="6570720" cy="41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 6)              9,600                             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2097000" y="6264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3762360" y="6264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381640" y="6264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DAB-5518-465C-A421-13D8EAC8F4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f83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rameters of dde* pot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3" name=""/>
          <p:cNvGraphicFramePr/>
          <p:nvPr/>
        </p:nvGraphicFramePr>
        <p:xfrm>
          <a:off x="457200" y="1600200"/>
          <a:ext cx="8480520" cy="3719520"/>
        </p:xfrm>
        <a:graphic>
          <a:graphicData uri="http://schemas.openxmlformats.org/drawingml/2006/table">
            <a:tbl>
              <a:tblPr/>
              <a:tblGrid>
                <a:gridCol w="2292480"/>
                <a:gridCol w="1947600"/>
                <a:gridCol w="1765440"/>
                <a:gridCol w="247500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*(m, Z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N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s) (p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 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 1)x2; 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 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59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,4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4" name=""/>
          <p:cNvSpPr/>
          <p:nvPr/>
        </p:nvSpPr>
        <p:spPr>
          <a:xfrm>
            <a:off x="2727360" y="54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2683440" y="5427720"/>
            <a:ext cx="13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6687000" y="5383080"/>
            <a:ext cx="11973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FD0-ABFF-4C0D-A222-346BEEEBAA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df83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am-Solid-Target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4648320" y="1223640"/>
            <a:ext cx="4038480" cy="490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ormation of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EQPE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lecule dde*(2,2) with 50% anti-parallel spin arrangement for two electr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 (Screening E) = 360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9900cc"/>
                </a:solidFill>
                <a:latin typeface="Arial"/>
              </a:rPr>
              <a:t>Exp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with 1-10 keV D+ beam to PdDx, by </a:t>
            </a:r>
            <a:r>
              <a:rPr b="0" lang="ja-JP" sz="2400" spc="-1" strike="noStrike">
                <a:solidFill>
                  <a:srgbClr val="9900cc"/>
                </a:solidFill>
                <a:latin typeface="Arial"/>
              </a:rPr>
              <a:t>Kasag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200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SPS 71(2002)28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ja-JP" sz="1800" spc="-1" strike="noStrike">
                <a:solidFill>
                  <a:srgbClr val="9900cc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9900cc"/>
                </a:solidFill>
                <a:latin typeface="Arial"/>
              </a:rPr>
              <a:t> = 310 +- 30 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1107000" y="2124000"/>
            <a:ext cx="3241440" cy="3791160"/>
            <a:chOff x="1107000" y="2124000"/>
            <a:chExt cx="3241440" cy="3791160"/>
          </a:xfrm>
        </p:grpSpPr>
        <p:sp>
          <p:nvSpPr>
            <p:cNvPr id="3370" name=""/>
            <p:cNvSpPr/>
            <p:nvPr/>
          </p:nvSpPr>
          <p:spPr>
            <a:xfrm>
              <a:off x="1241280" y="2933640"/>
              <a:ext cx="540000" cy="53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1422360" y="3114720"/>
              <a:ext cx="135000" cy="135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57720" y="3159000"/>
              <a:ext cx="134640" cy="135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H="1">
              <a:off x="1871640" y="3203640"/>
              <a:ext cx="1395360" cy="0"/>
            </a:xfrm>
            <a:prstGeom prst="line">
              <a:avLst/>
            </a:prstGeom>
            <a:ln w="38160">
              <a:solidFill>
                <a:srgbClr val="fa083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422360" y="3384720"/>
              <a:ext cx="135000" cy="134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57720" y="2889360"/>
              <a:ext cx="134640" cy="13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1107000" y="239544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D(d+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2864880" y="212400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y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H="1">
              <a:off x="3446280" y="2438280"/>
              <a:ext cx="9036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268440" y="338616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446640" y="3338640"/>
              <a:ext cx="9036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1332000" y="2664000"/>
              <a:ext cx="135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1601640" y="3878280"/>
              <a:ext cx="314640" cy="765000"/>
            </a:xfrm>
            <a:prstGeom prst="downArrow">
              <a:avLst>
                <a:gd name="adj1" fmla="val 50000"/>
                <a:gd name="adj2" fmla="val 6078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1557360" y="5094360"/>
              <a:ext cx="135000" cy="135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1736640" y="5094360"/>
              <a:ext cx="135000" cy="135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1601640" y="4959360"/>
              <a:ext cx="223920" cy="13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1285920" y="5319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242360" y="5275440"/>
              <a:ext cx="118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dde*(2,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1107360" y="554688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PET molec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49A-5450-4B76-8632-4E29113816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63600"/>
          </a:xfrm>
          <a:prstGeom prst="rect">
            <a:avLst/>
          </a:prstGeom>
          <a:solidFill>
            <a:srgbClr val="fdf83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D Fusion Rate by Takahash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3D]/[2D]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≈ 1E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+ beam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≈ 1 micro-amp ≈ 2E13 d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Assuming dde*(2,2) life time </a:t>
            </a:r>
            <a:r>
              <a:rPr b="0" lang="el-GR" sz="2800" spc="-1" strike="noStrike">
                <a:solidFill>
                  <a:srgbClr val="000000"/>
                </a:solidFill>
                <a:latin typeface="ＭＳ Ｐゴシック"/>
                <a:ea typeface="Arial"/>
              </a:rPr>
              <a:t>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&lt; 1 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[Density of dde*(2,2)] ≈ 2E13x</a:t>
            </a:r>
            <a:r>
              <a:rPr b="0" lang="el-GR" sz="28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τ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 in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Takahashi exp. paper (Physics Letters A 255(1999)89-97) on 3D concluded; 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1E+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close d-d pair density in TiDx target (1 micron ran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We see considerable agreement,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0" lang="el-GR" sz="2800" spc="-1" strike="noStrike">
                <a:solidFill>
                  <a:srgbClr val="333399"/>
                </a:solidFill>
                <a:latin typeface="ＭＳ Ｐゴシック"/>
                <a:ea typeface="Arial"/>
              </a:rPr>
              <a:t>τ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  <a:ea typeface="Arial"/>
              </a:rPr>
              <a:t>≈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  <a:ea typeface="Arial"/>
              </a:rPr>
              <a:t> 0.1 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A3B-93E8-4302-A766-271F25DD8F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Experimental Result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NS Research suggest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303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0303"/>
                </a:solidFill>
                <a:latin typeface="Arial"/>
              </a:rPr>
              <a:t>COLD FUSION” of known fusion reactions by hydrogen isotopes is NOT the C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910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10c6"/>
                </a:solidFill>
                <a:latin typeface="Arial"/>
              </a:rPr>
              <a:t>We should consider NEW NUCLEAR REACTIONS in Condensed Mat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9E4-5572-4E2B-96D2-A48197847B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1" name=""/>
          <p:cNvGrpSpPr/>
          <p:nvPr/>
        </p:nvGrpSpPr>
        <p:grpSpPr>
          <a:xfrm>
            <a:off x="685800" y="542880"/>
            <a:ext cx="7772400" cy="5630760"/>
            <a:chOff x="685800" y="542880"/>
            <a:chExt cx="7772400" cy="5630760"/>
          </a:xfrm>
        </p:grpSpPr>
        <p:sp>
          <p:nvSpPr>
            <p:cNvPr id="3392" name=""/>
            <p:cNvSpPr/>
            <p:nvPr/>
          </p:nvSpPr>
          <p:spPr>
            <a:xfrm>
              <a:off x="762120" y="762120"/>
              <a:ext cx="731664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3" name=""/>
            <p:cNvGrpSpPr/>
            <p:nvPr/>
          </p:nvGrpSpPr>
          <p:grpSpPr>
            <a:xfrm>
              <a:off x="850320" y="542880"/>
              <a:ext cx="6182640" cy="677520"/>
              <a:chOff x="850320" y="542880"/>
              <a:chExt cx="6182640" cy="677520"/>
            </a:xfrm>
          </p:grpSpPr>
          <p:sp>
            <p:nvSpPr>
              <p:cNvPr id="3394" name=""/>
              <p:cNvSpPr/>
              <p:nvPr/>
            </p:nvSpPr>
            <p:spPr>
              <a:xfrm>
                <a:off x="911880" y="542880"/>
                <a:ext cx="226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Tahoma"/>
                  </a:rPr>
                  <a:t>Scaling of PEF (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237840" y="542880"/>
                <a:ext cx="674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6600ff"/>
                    </a:solidFill>
                    <a:latin typeface="Tahoma"/>
                  </a:rPr>
                  <a:t>P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952440" y="542880"/>
                <a:ext cx="3080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Tahoma"/>
                  </a:rPr>
                  <a:t> </a:t>
                </a:r>
                <a:r>
                  <a:rPr b="1" lang="en-US" sz="2400" spc="-1" strike="noStrike">
                    <a:solidFill>
                      <a:srgbClr val="6600ff"/>
                    </a:solidFill>
                    <a:latin typeface="Tahoma"/>
                  </a:rPr>
                  <a:t>Exchange Force) f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850320" y="854280"/>
                <a:ext cx="2280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ff"/>
                    </a:solidFill>
                    <a:latin typeface="Tahoma"/>
                  </a:rPr>
                  <a:t>Nuclear Fus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62120" y="1600200"/>
              <a:ext cx="7545240" cy="44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117800" y="1646280"/>
              <a:ext cx="269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Two Body Interaction: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773160" y="1646280"/>
              <a:ext cx="39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P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214160" y="1646280"/>
              <a:ext cx="25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469760" y="16462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entury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1581480" y="2085840"/>
              <a:ext cx="460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n  +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092320" y="2114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278800" y="209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370240" y="208584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2478240" y="2114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2657520" y="2085840"/>
              <a:ext cx="20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197720" y="2525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317960" y="2525760"/>
              <a:ext cx="44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u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739880" y="2525760"/>
              <a:ext cx="21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) 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1950120" y="2525760"/>
              <a:ext cx="15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088720" y="252576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Century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221560" y="2525760"/>
              <a:ext cx="12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Century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343600" y="2525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)  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603160" y="2525760"/>
              <a:ext cx="44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u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031200" y="2525760"/>
              <a:ext cx="7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109320" y="25542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538080" y="252576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 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: u ; up qu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209600" y="3006720"/>
              <a:ext cx="75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   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p  +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021040" y="3035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205720" y="2994120"/>
              <a:ext cx="5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10000"/>
                  </a:solidFill>
                  <a:latin typeface="Century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262960" y="297972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383200" y="30146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ＭＳ 明朝"/>
                  <a:ea typeface="ＭＳ 明朝"/>
                </a:rPr>
                <a:t>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624760" y="2979720"/>
              <a:ext cx="122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n            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825360" y="3006720"/>
              <a:ext cx="170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 ; down qu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1198080" y="34671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(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332360" y="346716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00"/>
                  </a:solidFill>
                  <a:latin typeface="Century"/>
                </a:rPr>
                <a:t>uu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809720" y="3467160"/>
              <a:ext cx="24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) (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038320" y="349416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Century"/>
                </a:rPr>
                <a:t>u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299320" y="349416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)  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696040" y="3494160"/>
              <a:ext cx="44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10000"/>
                  </a:solidFill>
                  <a:latin typeface="Century"/>
                </a:rPr>
                <a:t>u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135960" y="3494160"/>
              <a:ext cx="73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)        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881520" y="3494160"/>
              <a:ext cx="27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Century"/>
                </a:rPr>
                <a:t>u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100040" y="3494160"/>
              <a:ext cx="175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; anti-up qu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278720" y="3940200"/>
              <a:ext cx="250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                                      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3852000" y="3940200"/>
              <a:ext cx="27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Century"/>
                </a:rPr>
                <a:t>d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110120" y="3940200"/>
              <a:ext cx="2062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 </a:t>
              </a: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; anti-down qu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85800" y="1343160"/>
              <a:ext cx="7772400" cy="568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62120" y="1600200"/>
              <a:ext cx="731520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62120" y="1600200"/>
              <a:ext cx="1440" cy="2743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62120" y="4343400"/>
              <a:ext cx="7315200" cy="14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077320" y="1600200"/>
              <a:ext cx="1440" cy="2743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724280" y="5257800"/>
              <a:ext cx="916200" cy="91584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524640" y="5257800"/>
              <a:ext cx="915840" cy="91584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4991040" y="5715000"/>
              <a:ext cx="335160" cy="34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127120" y="58039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Century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6858000" y="5715000"/>
              <a:ext cx="334800" cy="34452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011000" y="58039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Century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991040" y="5372280"/>
              <a:ext cx="335160" cy="34416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5144040" y="54608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Century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6858000" y="5372280"/>
              <a:ext cx="334800" cy="344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03800" y="545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Century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"/>
            <p:cNvGrpSpPr/>
            <p:nvPr/>
          </p:nvGrpSpPr>
          <p:grpSpPr>
            <a:xfrm>
              <a:off x="5324400" y="5413320"/>
              <a:ext cx="1533600" cy="147600"/>
              <a:chOff x="5324400" y="5413320"/>
              <a:chExt cx="1533600" cy="147600"/>
            </a:xfrm>
          </p:grpSpPr>
          <p:sp>
            <p:nvSpPr>
              <p:cNvPr id="3455" name=""/>
              <p:cNvSpPr/>
              <p:nvPr/>
            </p:nvSpPr>
            <p:spPr>
              <a:xfrm>
                <a:off x="5324400" y="5472000"/>
                <a:ext cx="1390680" cy="288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711840" y="5413320"/>
                <a:ext cx="146160" cy="147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0" y="93"/>
                    </a:moveTo>
                    <a:lnTo>
                      <a:pt x="92" y="46"/>
                    </a:lnTo>
                    <a:lnTo>
                      <a:pt x="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7" name=""/>
            <p:cNvGrpSpPr/>
            <p:nvPr/>
          </p:nvGrpSpPr>
          <p:grpSpPr>
            <a:xfrm>
              <a:off x="5324400" y="5869080"/>
              <a:ext cx="1533600" cy="147600"/>
              <a:chOff x="5324400" y="5869080"/>
              <a:chExt cx="1533600" cy="147600"/>
            </a:xfrm>
          </p:grpSpPr>
          <p:sp>
            <p:nvSpPr>
              <p:cNvPr id="3458" name=""/>
              <p:cNvSpPr/>
              <p:nvPr/>
            </p:nvSpPr>
            <p:spPr>
              <a:xfrm>
                <a:off x="5467320" y="5929200"/>
                <a:ext cx="1390680" cy="288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324400" y="5869080"/>
                <a:ext cx="146160" cy="147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92" y="0"/>
                    </a:moveTo>
                    <a:lnTo>
                      <a:pt x="0" y="47"/>
                    </a:lnTo>
                    <a:lnTo>
                      <a:pt x="92" y="9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0" name=""/>
            <p:cNvGrpSpPr/>
            <p:nvPr/>
          </p:nvGrpSpPr>
          <p:grpSpPr>
            <a:xfrm>
              <a:off x="5324400" y="5435640"/>
              <a:ext cx="1533240" cy="100080"/>
              <a:chOff x="5324400" y="5435640"/>
              <a:chExt cx="1533240" cy="100080"/>
            </a:xfrm>
          </p:grpSpPr>
          <p:sp>
            <p:nvSpPr>
              <p:cNvPr id="3461" name=""/>
              <p:cNvSpPr/>
              <p:nvPr/>
            </p:nvSpPr>
            <p:spPr>
              <a:xfrm flipH="1">
                <a:off x="5419440" y="5486400"/>
                <a:ext cx="1438200" cy="144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24400" y="543564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0"/>
                    </a:moveTo>
                    <a:lnTo>
                      <a:pt x="0" y="32"/>
                    </a:lnTo>
                    <a:lnTo>
                      <a:pt x="62" y="6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3" name=""/>
            <p:cNvGrpSpPr/>
            <p:nvPr/>
          </p:nvGrpSpPr>
          <p:grpSpPr>
            <a:xfrm>
              <a:off x="5391000" y="5894280"/>
              <a:ext cx="1467000" cy="100080"/>
              <a:chOff x="5391000" y="5894280"/>
              <a:chExt cx="1467000" cy="100080"/>
            </a:xfrm>
          </p:grpSpPr>
          <p:sp>
            <p:nvSpPr>
              <p:cNvPr id="3464" name=""/>
              <p:cNvSpPr/>
              <p:nvPr/>
            </p:nvSpPr>
            <p:spPr>
              <a:xfrm>
                <a:off x="5391000" y="5943600"/>
                <a:ext cx="1371600" cy="144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759720" y="589428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0" y="63"/>
                    </a:moveTo>
                    <a:lnTo>
                      <a:pt x="62" y="31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6" name=""/>
            <p:cNvSpPr/>
            <p:nvPr/>
          </p:nvSpPr>
          <p:spPr>
            <a:xfrm>
              <a:off x="838080" y="4800600"/>
              <a:ext cx="350676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294560" y="4851360"/>
              <a:ext cx="188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ahoma"/>
                </a:rPr>
                <a:t>For D + D Fusion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205440" y="4851360"/>
              <a:ext cx="76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ff"/>
                  </a:solidFill>
                  <a:latin typeface="Tahoma"/>
                </a:rPr>
                <a:t>PEF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9DF-E5C9-4010-8AD0-A5211E46936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9" name=""/>
          <p:cNvGrpSpPr/>
          <p:nvPr/>
        </p:nvGrpSpPr>
        <p:grpSpPr>
          <a:xfrm>
            <a:off x="762120" y="530280"/>
            <a:ext cx="7697520" cy="5792760"/>
            <a:chOff x="762120" y="530280"/>
            <a:chExt cx="7697520" cy="5792760"/>
          </a:xfrm>
        </p:grpSpPr>
        <p:sp>
          <p:nvSpPr>
            <p:cNvPr id="3470" name=""/>
            <p:cNvSpPr/>
            <p:nvPr/>
          </p:nvSpPr>
          <p:spPr>
            <a:xfrm>
              <a:off x="762120" y="530280"/>
              <a:ext cx="7316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53920" y="549360"/>
              <a:ext cx="7605720" cy="366120"/>
            </a:xfrm>
            <a:prstGeom prst="rect">
              <a:avLst/>
            </a:prstGeom>
            <a:solidFill>
              <a:srgbClr val="f7f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ahoma"/>
                </a:rPr>
                <a:t>4D </a:t>
              </a:r>
              <a:r>
                <a:rPr b="1" lang="en-US" sz="2400" spc="-1" strike="noStrike">
                  <a:solidFill>
                    <a:srgbClr val="6600ff"/>
                  </a:solidFill>
                  <a:latin typeface="Arial"/>
                  <a:ea typeface="Arial"/>
                </a:rPr>
                <a:t>→</a:t>
              </a:r>
              <a:r>
                <a:rPr b="1" lang="en-US" sz="2400" spc="-1" strike="noStrike" baseline="30000">
                  <a:solidFill>
                    <a:srgbClr val="6600ff"/>
                  </a:solidFill>
                  <a:latin typeface="Arial"/>
                  <a:ea typeface="Arial"/>
                </a:rPr>
                <a:t>8</a:t>
              </a:r>
              <a:r>
                <a:rPr b="1" lang="en-US" sz="2400" spc="-1" strike="noStrike">
                  <a:solidFill>
                    <a:srgbClr val="6600ff"/>
                  </a:solidFill>
                  <a:latin typeface="Arial"/>
                  <a:ea typeface="Arial"/>
                </a:rPr>
                <a:t>Be*  vs.  D+</a:t>
              </a:r>
              <a:r>
                <a:rPr b="1" lang="en-US" sz="2400" spc="-1" strike="noStrike" baseline="30000">
                  <a:solidFill>
                    <a:srgbClr val="6600ff"/>
                  </a:solidFill>
                  <a:latin typeface="Arial"/>
                  <a:ea typeface="Arial"/>
                </a:rPr>
                <a:t>6</a:t>
              </a:r>
              <a:r>
                <a:rPr b="1" lang="en-US" sz="2400" spc="-1" strike="noStrike">
                  <a:solidFill>
                    <a:srgbClr val="6600ff"/>
                  </a:solidFill>
                  <a:latin typeface="Arial"/>
                  <a:ea typeface="Arial"/>
                </a:rPr>
                <a:t>Li → </a:t>
              </a:r>
              <a:r>
                <a:rPr b="1" lang="en-US" sz="2400" spc="-1" strike="noStrike" baseline="30000">
                  <a:solidFill>
                    <a:srgbClr val="6600ff"/>
                  </a:solidFill>
                  <a:latin typeface="Arial"/>
                  <a:ea typeface="Arial"/>
                </a:rPr>
                <a:t>8</a:t>
              </a:r>
              <a:r>
                <a:rPr b="1" lang="en-US" sz="2400" spc="-1" strike="noStrike">
                  <a:solidFill>
                    <a:srgbClr val="6600ff"/>
                  </a:solidFill>
                  <a:latin typeface="Arial"/>
                  <a:ea typeface="Arial"/>
                </a:rPr>
                <a:t>Be*  ; for strong inter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62120" y="1444680"/>
              <a:ext cx="3697200" cy="44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162080" y="1600200"/>
              <a:ext cx="2390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Tahoma"/>
                </a:rPr>
                <a:t>4D Fusion; PEF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610160" y="1521000"/>
              <a:ext cx="3697200" cy="43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62120" y="958680"/>
              <a:ext cx="761976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871640" y="2130480"/>
              <a:ext cx="706320" cy="73800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180160" y="23623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990720" y="3603600"/>
              <a:ext cx="706320" cy="73836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1265760" y="38098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105000" y="3603600"/>
              <a:ext cx="706680" cy="73836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3399120" y="38257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048040" y="3235320"/>
              <a:ext cx="706320" cy="73836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332440" y="3476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1343160" y="2682720"/>
              <a:ext cx="528480" cy="920880"/>
              <a:chOff x="1343160" y="2682720"/>
              <a:chExt cx="528480" cy="920880"/>
            </a:xfrm>
          </p:grpSpPr>
          <p:sp>
            <p:nvSpPr>
              <p:cNvPr id="3485" name=""/>
              <p:cNvSpPr/>
              <p:nvPr/>
            </p:nvSpPr>
            <p:spPr>
              <a:xfrm flipH="1">
                <a:off x="1389240" y="2682720"/>
                <a:ext cx="482400" cy="838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1343160" y="3492360"/>
                <a:ext cx="91800" cy="111240"/>
              </a:xfrm>
              <a:custGeom>
                <a:avLst/>
                <a:gdLst/>
                <a:ahLst/>
                <a:rect l="l" t="t" r="r" b="b"/>
                <a:pathLst>
                  <a:path w="58" h="70">
                    <a:moveTo>
                      <a:pt x="3" y="0"/>
                    </a:moveTo>
                    <a:lnTo>
                      <a:pt x="0" y="70"/>
                    </a:lnTo>
                    <a:lnTo>
                      <a:pt x="58" y="3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1519200" y="2682720"/>
              <a:ext cx="528840" cy="920880"/>
              <a:chOff x="1519200" y="2682720"/>
              <a:chExt cx="528840" cy="920880"/>
            </a:xfrm>
          </p:grpSpPr>
          <p:sp>
            <p:nvSpPr>
              <p:cNvPr id="3488" name=""/>
              <p:cNvSpPr/>
              <p:nvPr/>
            </p:nvSpPr>
            <p:spPr>
              <a:xfrm flipV="1">
                <a:off x="1519200" y="2765520"/>
                <a:ext cx="482760" cy="838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955880" y="2682720"/>
                <a:ext cx="92160" cy="111240"/>
              </a:xfrm>
              <a:custGeom>
                <a:avLst/>
                <a:gdLst/>
                <a:ahLst/>
                <a:rect l="l" t="t" r="r" b="b"/>
                <a:pathLst>
                  <a:path w="58" h="70">
                    <a:moveTo>
                      <a:pt x="55" y="70"/>
                    </a:moveTo>
                    <a:lnTo>
                      <a:pt x="58" y="0"/>
                    </a:lnTo>
                    <a:lnTo>
                      <a:pt x="0" y="38"/>
                    </a:lnTo>
                    <a:lnTo>
                      <a:pt x="55" y="7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1519200" y="3603600"/>
              <a:ext cx="528840" cy="198360"/>
              <a:chOff x="1519200" y="3603600"/>
              <a:chExt cx="528840" cy="198360"/>
            </a:xfrm>
          </p:grpSpPr>
          <p:sp>
            <p:nvSpPr>
              <p:cNvPr id="3491" name=""/>
              <p:cNvSpPr/>
              <p:nvPr/>
            </p:nvSpPr>
            <p:spPr>
              <a:xfrm flipH="1">
                <a:off x="1609560" y="3603600"/>
                <a:ext cx="438480" cy="152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519200" y="3708360"/>
                <a:ext cx="109440" cy="93600"/>
              </a:xfrm>
              <a:custGeom>
                <a:avLst/>
                <a:gdLst/>
                <a:ahLst/>
                <a:rect l="l" t="t" r="r" b="b"/>
                <a:pathLst>
                  <a:path w="69" h="59">
                    <a:moveTo>
                      <a:pt x="48" y="0"/>
                    </a:moveTo>
                    <a:lnTo>
                      <a:pt x="0" y="50"/>
                    </a:lnTo>
                    <a:lnTo>
                      <a:pt x="69" y="59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1695600" y="3787920"/>
              <a:ext cx="352440" cy="183960"/>
              <a:chOff x="1695600" y="3787920"/>
              <a:chExt cx="352440" cy="183960"/>
            </a:xfrm>
          </p:grpSpPr>
          <p:sp>
            <p:nvSpPr>
              <p:cNvPr id="3494" name=""/>
              <p:cNvSpPr/>
              <p:nvPr/>
            </p:nvSpPr>
            <p:spPr>
              <a:xfrm flipV="1">
                <a:off x="1695600" y="3830760"/>
                <a:ext cx="268200" cy="141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938240" y="3787920"/>
                <a:ext cx="109800" cy="9036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9" y="57"/>
                    </a:moveTo>
                    <a:lnTo>
                      <a:pt x="69" y="0"/>
                    </a:lnTo>
                    <a:lnTo>
                      <a:pt x="0" y="1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2173320" y="2867040"/>
              <a:ext cx="100080" cy="368280"/>
              <a:chOff x="2173320" y="2867040"/>
              <a:chExt cx="100080" cy="368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2224080" y="2867040"/>
                <a:ext cx="1440" cy="27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2173320" y="313704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9" name=""/>
            <p:cNvGrpSpPr/>
            <p:nvPr/>
          </p:nvGrpSpPr>
          <p:grpSpPr>
            <a:xfrm>
              <a:off x="2351160" y="2867040"/>
              <a:ext cx="100080" cy="368280"/>
              <a:chOff x="2351160" y="2867040"/>
              <a:chExt cx="100080" cy="368280"/>
            </a:xfrm>
          </p:grpSpPr>
          <p:sp>
            <p:nvSpPr>
              <p:cNvPr id="3500" name=""/>
              <p:cNvSpPr/>
              <p:nvPr/>
            </p:nvSpPr>
            <p:spPr>
              <a:xfrm flipV="1">
                <a:off x="2400480" y="2962440"/>
                <a:ext cx="1440" cy="27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351160" y="286704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63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3" y="6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2" name=""/>
            <p:cNvGrpSpPr/>
            <p:nvPr/>
          </p:nvGrpSpPr>
          <p:grpSpPr>
            <a:xfrm>
              <a:off x="2576520" y="2682720"/>
              <a:ext cx="704880" cy="920880"/>
              <a:chOff x="2576520" y="2682720"/>
              <a:chExt cx="704880" cy="920880"/>
            </a:xfrm>
          </p:grpSpPr>
          <p:sp>
            <p:nvSpPr>
              <p:cNvPr id="3503" name=""/>
              <p:cNvSpPr/>
              <p:nvPr/>
            </p:nvSpPr>
            <p:spPr>
              <a:xfrm>
                <a:off x="2576520" y="2682720"/>
                <a:ext cx="647640" cy="846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181320" y="3495600"/>
                <a:ext cx="100080" cy="108000"/>
              </a:xfrm>
              <a:custGeom>
                <a:avLst/>
                <a:gdLst/>
                <a:ahLst/>
                <a:rect l="l" t="t" r="r" b="b"/>
                <a:pathLst>
                  <a:path w="63" h="68">
                    <a:moveTo>
                      <a:pt x="0" y="39"/>
                    </a:moveTo>
                    <a:lnTo>
                      <a:pt x="63" y="68"/>
                    </a:lnTo>
                    <a:lnTo>
                      <a:pt x="5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5" name=""/>
            <p:cNvGrpSpPr/>
            <p:nvPr/>
          </p:nvGrpSpPr>
          <p:grpSpPr>
            <a:xfrm>
              <a:off x="2400480" y="2682720"/>
              <a:ext cx="704160" cy="1104840"/>
              <a:chOff x="2400480" y="2682720"/>
              <a:chExt cx="704160" cy="1104840"/>
            </a:xfrm>
          </p:grpSpPr>
          <p:sp>
            <p:nvSpPr>
              <p:cNvPr id="3506" name=""/>
              <p:cNvSpPr/>
              <p:nvPr/>
            </p:nvSpPr>
            <p:spPr>
              <a:xfrm flipH="1" flipV="1">
                <a:off x="2449080" y="2761920"/>
                <a:ext cx="655560" cy="1025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400480" y="2682720"/>
                <a:ext cx="95040" cy="10980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60" y="35"/>
                    </a:moveTo>
                    <a:lnTo>
                      <a:pt x="0" y="0"/>
                    </a:lnTo>
                    <a:lnTo>
                      <a:pt x="7" y="69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8" name=""/>
            <p:cNvGrpSpPr/>
            <p:nvPr/>
          </p:nvGrpSpPr>
          <p:grpSpPr>
            <a:xfrm>
              <a:off x="2752560" y="3603600"/>
              <a:ext cx="352440" cy="184320"/>
              <a:chOff x="2752560" y="3603600"/>
              <a:chExt cx="352440" cy="184320"/>
            </a:xfrm>
          </p:grpSpPr>
          <p:sp>
            <p:nvSpPr>
              <p:cNvPr id="3509" name=""/>
              <p:cNvSpPr/>
              <p:nvPr/>
            </p:nvSpPr>
            <p:spPr>
              <a:xfrm>
                <a:off x="2752560" y="3603600"/>
                <a:ext cx="268560" cy="141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994120" y="3699000"/>
                <a:ext cx="110880" cy="88920"/>
              </a:xfrm>
              <a:custGeom>
                <a:avLst/>
                <a:gdLst/>
                <a:ahLst/>
                <a:rect l="l" t="t" r="r" b="b"/>
                <a:pathLst>
                  <a:path w="70" h="56">
                    <a:moveTo>
                      <a:pt x="0" y="55"/>
                    </a:moveTo>
                    <a:lnTo>
                      <a:pt x="70" y="56"/>
                    </a:lnTo>
                    <a:lnTo>
                      <a:pt x="3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1" name=""/>
            <p:cNvGrpSpPr/>
            <p:nvPr/>
          </p:nvGrpSpPr>
          <p:grpSpPr>
            <a:xfrm>
              <a:off x="2752560" y="3787920"/>
              <a:ext cx="352080" cy="183960"/>
              <a:chOff x="2752560" y="3787920"/>
              <a:chExt cx="352080" cy="183960"/>
            </a:xfrm>
          </p:grpSpPr>
          <p:sp>
            <p:nvSpPr>
              <p:cNvPr id="3512" name=""/>
              <p:cNvSpPr/>
              <p:nvPr/>
            </p:nvSpPr>
            <p:spPr>
              <a:xfrm flipH="1" flipV="1">
                <a:off x="2836440" y="3830760"/>
                <a:ext cx="268200" cy="141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752560" y="3787920"/>
                <a:ext cx="111240" cy="88920"/>
              </a:xfrm>
              <a:custGeom>
                <a:avLst/>
                <a:gdLst/>
                <a:ahLst/>
                <a:rect l="l" t="t" r="r" b="b"/>
                <a:pathLst>
                  <a:path w="70" h="56">
                    <a:moveTo>
                      <a:pt x="70" y="1"/>
                    </a:moveTo>
                    <a:lnTo>
                      <a:pt x="0" y="0"/>
                    </a:lnTo>
                    <a:lnTo>
                      <a:pt x="40" y="56"/>
                    </a:lnTo>
                    <a:lnTo>
                      <a:pt x="70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4" name=""/>
            <p:cNvGrpSpPr/>
            <p:nvPr/>
          </p:nvGrpSpPr>
          <p:grpSpPr>
            <a:xfrm>
              <a:off x="1695600" y="3922560"/>
              <a:ext cx="1409400" cy="100080"/>
              <a:chOff x="1695600" y="3922560"/>
              <a:chExt cx="1409400" cy="100080"/>
            </a:xfrm>
          </p:grpSpPr>
          <p:sp>
            <p:nvSpPr>
              <p:cNvPr id="3515" name=""/>
              <p:cNvSpPr/>
              <p:nvPr/>
            </p:nvSpPr>
            <p:spPr>
              <a:xfrm>
                <a:off x="1695600" y="3971880"/>
                <a:ext cx="131436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006720" y="392256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0" y="63"/>
                    </a:moveTo>
                    <a:lnTo>
                      <a:pt x="62" y="31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7" name=""/>
            <p:cNvGrpSpPr/>
            <p:nvPr/>
          </p:nvGrpSpPr>
          <p:grpSpPr>
            <a:xfrm>
              <a:off x="1695600" y="4105440"/>
              <a:ext cx="1409040" cy="99720"/>
              <a:chOff x="1695600" y="4105440"/>
              <a:chExt cx="1409040" cy="99720"/>
            </a:xfrm>
          </p:grpSpPr>
          <p:sp>
            <p:nvSpPr>
              <p:cNvPr id="3518" name=""/>
              <p:cNvSpPr/>
              <p:nvPr/>
            </p:nvSpPr>
            <p:spPr>
              <a:xfrm flipH="1">
                <a:off x="1790280" y="4156200"/>
                <a:ext cx="1314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1695600" y="4105440"/>
                <a:ext cx="98280" cy="9972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0"/>
                    </a:moveTo>
                    <a:lnTo>
                      <a:pt x="0" y="32"/>
                    </a:lnTo>
                    <a:lnTo>
                      <a:pt x="62" y="6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0" name=""/>
            <p:cNvSpPr/>
            <p:nvPr/>
          </p:nvSpPr>
          <p:spPr>
            <a:xfrm>
              <a:off x="990720" y="5178600"/>
              <a:ext cx="7316640" cy="114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208160" y="5445000"/>
              <a:ext cx="299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4D Fusion has much larger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140360" y="5445000"/>
              <a:ext cx="172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ahoma"/>
                </a:rPr>
                <a:t>Contact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796000" y="5445000"/>
              <a:ext cx="231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of </a:t>
              </a:r>
              <a:r>
                <a:rPr b="0" lang="en-US" sz="1800" spc="-1" strike="noStrike">
                  <a:solidFill>
                    <a:srgbClr val="1910c6"/>
                  </a:solidFill>
                  <a:latin typeface="Tahoma"/>
                </a:rPr>
                <a:t>PEF</a:t>
              </a: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 than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+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</a:t>
              </a: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099160" y="5775480"/>
              <a:ext cx="373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with short range (few fm) charged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726160" y="5775480"/>
              <a:ext cx="48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cc3300"/>
                  </a:solidFill>
                  <a:latin typeface="Tahoma"/>
                </a:rPr>
                <a:t>p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147360" y="5775480"/>
              <a:ext cx="110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ex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5076720" y="2924280"/>
              <a:ext cx="719280" cy="71892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5292720" y="2924280"/>
              <a:ext cx="289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5292720" y="3357720"/>
              <a:ext cx="289080" cy="288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012000" y="2637000"/>
              <a:ext cx="1081080" cy="1079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755e5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084720" y="2852640"/>
              <a:ext cx="289080" cy="289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443640" y="3357720"/>
              <a:ext cx="289080" cy="288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6732720" y="2852640"/>
              <a:ext cx="288720" cy="289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084720" y="3213000"/>
              <a:ext cx="28908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443640" y="2708280"/>
              <a:ext cx="28908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732720" y="3213000"/>
              <a:ext cx="288720" cy="289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580000" y="2997360"/>
              <a:ext cx="504720" cy="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5580000" y="3357720"/>
              <a:ext cx="504720" cy="14256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356000" y="1484280"/>
              <a:ext cx="3529080" cy="647640"/>
            </a:xfrm>
            <a:prstGeom prst="rect">
              <a:avLst/>
            </a:prstGeom>
            <a:solidFill>
              <a:srgbClr val="f7f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D + </a:t>
              </a:r>
              <a:r>
                <a:rPr b="0" lang="ja-JP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Li Fusion: PEF = 2+</a:t>
              </a:r>
              <a:r>
                <a:rPr b="0" lang="el-GR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558-4B3C-4821-A9D3-3F1F33B1433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0" name=""/>
          <p:cNvGrpSpPr/>
          <p:nvPr/>
        </p:nvGrpSpPr>
        <p:grpSpPr>
          <a:xfrm>
            <a:off x="800280" y="434880"/>
            <a:ext cx="7619760" cy="5989680"/>
            <a:chOff x="800280" y="434880"/>
            <a:chExt cx="7619760" cy="5989680"/>
          </a:xfrm>
        </p:grpSpPr>
        <p:sp>
          <p:nvSpPr>
            <p:cNvPr id="3541" name=""/>
            <p:cNvSpPr/>
            <p:nvPr/>
          </p:nvSpPr>
          <p:spPr>
            <a:xfrm>
              <a:off x="800280" y="434880"/>
              <a:ext cx="7316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1018440" y="473040"/>
              <a:ext cx="670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Effective S(0)-values for Multi-Body D-F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800280" y="1093680"/>
              <a:ext cx="7619760" cy="53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800280" y="863640"/>
              <a:ext cx="754380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5" name=""/>
            <p:cNvGrpSpPr/>
            <p:nvPr/>
          </p:nvGrpSpPr>
          <p:grpSpPr>
            <a:xfrm>
              <a:off x="1311120" y="1116000"/>
              <a:ext cx="6764760" cy="5056200"/>
              <a:chOff x="1311120" y="1116000"/>
              <a:chExt cx="6764760" cy="5056200"/>
            </a:xfrm>
          </p:grpSpPr>
          <p:sp>
            <p:nvSpPr>
              <p:cNvPr id="3546" name=""/>
              <p:cNvSpPr/>
              <p:nvPr/>
            </p:nvSpPr>
            <p:spPr>
              <a:xfrm>
                <a:off x="1311120" y="1116000"/>
                <a:ext cx="6659640" cy="5056200"/>
              </a:xfrm>
              <a:prstGeom prst="rect">
                <a:avLst/>
              </a:prstGeom>
              <a:solidFill>
                <a:srgbClr val="fffff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3328920" y="2233440"/>
                <a:ext cx="4186440" cy="257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3328920" y="4570560"/>
                <a:ext cx="4186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3328920" y="4336920"/>
                <a:ext cx="4186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3328920" y="4086360"/>
                <a:ext cx="4186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3328920" y="3852720"/>
                <a:ext cx="4186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3328920" y="3635280"/>
                <a:ext cx="4186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3328920" y="3402000"/>
                <a:ext cx="4186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3328920" y="3168720"/>
                <a:ext cx="4186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3328920" y="2935440"/>
                <a:ext cx="4186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3328920" y="2684520"/>
                <a:ext cx="4186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3328920" y="2451240"/>
                <a:ext cx="4186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3328920" y="2233440"/>
                <a:ext cx="4186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3328920" y="2233440"/>
                <a:ext cx="4186440" cy="25704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328920" y="2233440"/>
                <a:ext cx="90720" cy="257040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154"/>
                    </a:lnTo>
                    <a:lnTo>
                      <a:pt x="6" y="154"/>
                    </a:lnTo>
                  </a:path>
                </a:pathLst>
              </a:custGeom>
              <a:noFill/>
              <a:ln w="46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3328920" y="4570560"/>
                <a:ext cx="9072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3328920" y="4336920"/>
                <a:ext cx="90720" cy="18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3328920" y="4086360"/>
                <a:ext cx="9072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3328920" y="3852720"/>
                <a:ext cx="90720" cy="18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3328920" y="3635280"/>
                <a:ext cx="90720" cy="18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3328920" y="3402000"/>
                <a:ext cx="9072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328920" y="3168720"/>
                <a:ext cx="9072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3328920" y="2935440"/>
                <a:ext cx="9072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3328920" y="2684520"/>
                <a:ext cx="9072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3328920" y="2451240"/>
                <a:ext cx="9072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328920" y="2233440"/>
                <a:ext cx="90720" cy="18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328920" y="4803840"/>
                <a:ext cx="418644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 flipV="1">
                <a:off x="332892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 flipV="1">
                <a:off x="3951360" y="4736880"/>
                <a:ext cx="144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 flipV="1">
                <a:off x="432900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V="1">
                <a:off x="4602240" y="4736880"/>
                <a:ext cx="144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 flipV="1">
                <a:off x="4784760" y="4736880"/>
                <a:ext cx="144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flipV="1">
                <a:off x="4951440" y="4736880"/>
                <a:ext cx="144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 flipV="1">
                <a:off x="508788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flipV="1">
                <a:off x="522432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flipV="1">
                <a:off x="531648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V="1">
                <a:off x="543708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 flipV="1">
                <a:off x="6059520" y="4736880"/>
                <a:ext cx="144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V="1">
                <a:off x="6423120" y="4736880"/>
                <a:ext cx="144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 flipV="1">
                <a:off x="668016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flipV="1">
                <a:off x="6892920" y="4736880"/>
                <a:ext cx="144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 flipV="1">
                <a:off x="704520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 flipV="1">
                <a:off x="719604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 flipV="1">
                <a:off x="7302600" y="4736880"/>
                <a:ext cx="144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 flipV="1">
                <a:off x="7424640" y="4736880"/>
                <a:ext cx="180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 flipV="1">
                <a:off x="7515360" y="4736880"/>
                <a:ext cx="1440" cy="666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 flipV="1">
                <a:off x="3328920" y="4703760"/>
                <a:ext cx="1800" cy="10008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 flipV="1">
                <a:off x="5437080" y="4703760"/>
                <a:ext cx="1800" cy="10008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 flipV="1">
                <a:off x="7515360" y="4703760"/>
                <a:ext cx="1440" cy="10008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3328920" y="4086360"/>
                <a:ext cx="622440" cy="717480"/>
              </a:xfrm>
              <a:custGeom>
                <a:avLst/>
                <a:gdLst/>
                <a:ahLst/>
                <a:rect l="l" t="t" r="r" b="b"/>
                <a:pathLst>
                  <a:path w="392" h="452">
                    <a:moveTo>
                      <a:pt x="0" y="452"/>
                    </a:moveTo>
                    <a:lnTo>
                      <a:pt x="105" y="336"/>
                    </a:lnTo>
                    <a:lnTo>
                      <a:pt x="201" y="210"/>
                    </a:lnTo>
                    <a:lnTo>
                      <a:pt x="306" y="95"/>
                    </a:lnTo>
                    <a:lnTo>
                      <a:pt x="392" y="0"/>
                    </a:lnTo>
                  </a:path>
                </a:pathLst>
              </a:custGeom>
              <a:noFill/>
              <a:ln w="158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951360" y="3819600"/>
                <a:ext cx="377640" cy="266760"/>
              </a:xfrm>
              <a:custGeom>
                <a:avLst/>
                <a:gdLst/>
                <a:ahLst/>
                <a:rect l="l" t="t" r="r" b="b"/>
                <a:pathLst>
                  <a:path w="238" h="168">
                    <a:moveTo>
                      <a:pt x="0" y="168"/>
                    </a:moveTo>
                    <a:lnTo>
                      <a:pt x="38" y="126"/>
                    </a:lnTo>
                    <a:lnTo>
                      <a:pt x="76" y="105"/>
                    </a:lnTo>
                    <a:lnTo>
                      <a:pt x="124" y="73"/>
                    </a:lnTo>
                    <a:lnTo>
                      <a:pt x="172" y="42"/>
                    </a:lnTo>
                    <a:lnTo>
                      <a:pt x="238" y="0"/>
                    </a:lnTo>
                  </a:path>
                </a:pathLst>
              </a:custGeom>
              <a:noFill/>
              <a:ln w="158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4329000" y="3402000"/>
                <a:ext cx="622440" cy="417600"/>
              </a:xfrm>
              <a:custGeom>
                <a:avLst/>
                <a:gdLst/>
                <a:ahLst/>
                <a:rect l="l" t="t" r="r" b="b"/>
                <a:pathLst>
                  <a:path w="392" h="263">
                    <a:moveTo>
                      <a:pt x="0" y="263"/>
                    </a:moveTo>
                    <a:lnTo>
                      <a:pt x="86" y="200"/>
                    </a:lnTo>
                    <a:lnTo>
                      <a:pt x="192" y="126"/>
                    </a:lnTo>
                    <a:lnTo>
                      <a:pt x="287" y="63"/>
                    </a:lnTo>
                    <a:lnTo>
                      <a:pt x="392" y="0"/>
                    </a:lnTo>
                  </a:path>
                </a:pathLst>
              </a:custGeom>
              <a:noFill/>
              <a:ln w="158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4951440" y="3051000"/>
                <a:ext cx="636480" cy="351000"/>
              </a:xfrm>
              <a:custGeom>
                <a:avLst/>
                <a:gdLst/>
                <a:ahLst/>
                <a:rect l="l" t="t" r="r" b="b"/>
                <a:pathLst>
                  <a:path w="401" h="221">
                    <a:moveTo>
                      <a:pt x="0" y="221"/>
                    </a:moveTo>
                    <a:lnTo>
                      <a:pt x="86" y="168"/>
                    </a:lnTo>
                    <a:lnTo>
                      <a:pt x="172" y="116"/>
                    </a:lnTo>
                    <a:lnTo>
                      <a:pt x="268" y="63"/>
                    </a:lnTo>
                    <a:lnTo>
                      <a:pt x="325" y="32"/>
                    </a:lnTo>
                    <a:lnTo>
                      <a:pt x="401" y="0"/>
                    </a:lnTo>
                  </a:path>
                </a:pathLst>
              </a:custGeom>
              <a:noFill/>
              <a:ln w="158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587920" y="2451240"/>
                <a:ext cx="1395360" cy="599760"/>
              </a:xfrm>
              <a:custGeom>
                <a:avLst/>
                <a:gdLst/>
                <a:ahLst/>
                <a:rect l="l" t="t" r="r" b="b"/>
                <a:pathLst>
                  <a:path w="879" h="378">
                    <a:moveTo>
                      <a:pt x="0" y="378"/>
                    </a:moveTo>
                    <a:lnTo>
                      <a:pt x="77" y="336"/>
                    </a:lnTo>
                    <a:lnTo>
                      <a:pt x="192" y="294"/>
                    </a:lnTo>
                    <a:lnTo>
                      <a:pt x="297" y="242"/>
                    </a:lnTo>
                    <a:lnTo>
                      <a:pt x="402" y="200"/>
                    </a:lnTo>
                    <a:lnTo>
                      <a:pt x="650" y="94"/>
                    </a:lnTo>
                    <a:lnTo>
                      <a:pt x="879" y="0"/>
                    </a:lnTo>
                  </a:path>
                </a:pathLst>
              </a:custGeom>
              <a:noFill/>
              <a:ln w="158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3252960" y="4719600"/>
                <a:ext cx="182520" cy="200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 flipH="1" flipV="1">
                <a:off x="3268440" y="4736880"/>
                <a:ext cx="601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3328920" y="4803840"/>
                <a:ext cx="6048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3268440" y="4803840"/>
                <a:ext cx="601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 flipV="1">
                <a:off x="3328920" y="4736880"/>
                <a:ext cx="6048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 flipV="1">
                <a:off x="3328920" y="4736880"/>
                <a:ext cx="180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3328920" y="4803840"/>
                <a:ext cx="180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875040" y="4002120"/>
                <a:ext cx="181080" cy="217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 flipH="1" flipV="1">
                <a:off x="3889440" y="4019400"/>
                <a:ext cx="61920" cy="6696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3951360" y="4086360"/>
                <a:ext cx="601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H="1">
                <a:off x="3889440" y="4086360"/>
                <a:ext cx="619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 flipV="1">
                <a:off x="3951360" y="4019400"/>
                <a:ext cx="60120" cy="6696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 flipV="1">
                <a:off x="3951360" y="4019400"/>
                <a:ext cx="1440" cy="6696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51360" y="4086360"/>
                <a:ext cx="144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4254480" y="3735360"/>
                <a:ext cx="181080" cy="200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 flipH="1" flipV="1">
                <a:off x="4268520" y="3752640"/>
                <a:ext cx="601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329000" y="3819600"/>
                <a:ext cx="619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 flipH="1">
                <a:off x="4268520" y="3819600"/>
                <a:ext cx="601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 flipV="1">
                <a:off x="4329000" y="3752640"/>
                <a:ext cx="619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V="1">
                <a:off x="4329000" y="3752640"/>
                <a:ext cx="180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4329000" y="3819600"/>
                <a:ext cx="180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4875120" y="3317760"/>
                <a:ext cx="198360" cy="201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 flipV="1">
                <a:off x="4906800" y="3335040"/>
                <a:ext cx="4464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4951440" y="3402000"/>
                <a:ext cx="601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H="1">
                <a:off x="4906800" y="3402000"/>
                <a:ext cx="4464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V="1">
                <a:off x="4951440" y="3335040"/>
                <a:ext cx="601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V="1">
                <a:off x="4951440" y="3335040"/>
                <a:ext cx="144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4951440" y="3402000"/>
                <a:ext cx="144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513400" y="2968560"/>
                <a:ext cx="181080" cy="200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H="1" flipV="1">
                <a:off x="5527440" y="2984040"/>
                <a:ext cx="601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587920" y="3051000"/>
                <a:ext cx="46080" cy="5112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H="1">
                <a:off x="5527440" y="3051000"/>
                <a:ext cx="60120" cy="5112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V="1">
                <a:off x="5587920" y="2984040"/>
                <a:ext cx="4608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V="1">
                <a:off x="5587920" y="2984040"/>
                <a:ext cx="180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5587920" y="3051000"/>
                <a:ext cx="1800" cy="5112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6908760" y="2367000"/>
                <a:ext cx="181080" cy="217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H="1" flipV="1">
                <a:off x="6922800" y="2400120"/>
                <a:ext cx="60120" cy="5076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983280" y="2451240"/>
                <a:ext cx="619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 flipH="1">
                <a:off x="6922800" y="2451240"/>
                <a:ext cx="6012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 flipV="1">
                <a:off x="6983280" y="2400120"/>
                <a:ext cx="61920" cy="5076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 flipV="1">
                <a:off x="6983280" y="2400120"/>
                <a:ext cx="1800" cy="5076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983280" y="2451240"/>
                <a:ext cx="1800" cy="6660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542400" y="1316160"/>
                <a:ext cx="23994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S(0)(keVb)vs.PEF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1942200" y="4653000"/>
                <a:ext cx="1271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-0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1942200" y="4419720"/>
                <a:ext cx="1271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-0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1902600" y="420372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0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1902600" y="393552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0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1902600" y="371952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0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1902600" y="348624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0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1902600" y="325116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0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1902600" y="301788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1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1902600" y="280188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1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1902600" y="255096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1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1902600" y="231768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16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1902600" y="2084400"/>
                <a:ext cx="135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.00E+1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241080" y="5087880"/>
                <a:ext cx="1821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261760" y="5087880"/>
                <a:ext cx="363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254000" y="5087880"/>
                <a:ext cx="5446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ＭＳ Ｐゴシック"/>
                  </a:rPr>
                  <a:t>10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148200" y="5554800"/>
                <a:ext cx="49276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500" spc="-1" strike="noStrike">
                    <a:solidFill>
                      <a:srgbClr val="000000"/>
                    </a:solidFill>
                    <a:latin typeface="ＭＳ Ｐゴシック"/>
                  </a:rPr>
                  <a:t>PEF: relative pion exchange force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rot="16200000">
                <a:off x="642240" y="3331080"/>
                <a:ext cx="22334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500" spc="-1" strike="noStrike">
                    <a:solidFill>
                      <a:srgbClr val="000000"/>
                    </a:solidFill>
                    <a:latin typeface="ＭＳ Ｐゴシック"/>
                  </a:rPr>
                  <a:t>S(0) value (keV)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1311120" y="1116000"/>
                <a:ext cx="6659640" cy="5056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1" name=""/>
            <p:cNvSpPr/>
            <p:nvPr/>
          </p:nvSpPr>
          <p:spPr>
            <a:xfrm>
              <a:off x="3594240" y="4910040"/>
              <a:ext cx="5047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754800" y="4946760"/>
              <a:ext cx="26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H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3" name=""/>
            <p:cNvGrpSpPr/>
            <p:nvPr/>
          </p:nvGrpSpPr>
          <p:grpSpPr>
            <a:xfrm>
              <a:off x="3449520" y="4910040"/>
              <a:ext cx="144720" cy="88920"/>
              <a:chOff x="3449520" y="4910040"/>
              <a:chExt cx="144720" cy="88920"/>
            </a:xfrm>
          </p:grpSpPr>
          <p:sp>
            <p:nvSpPr>
              <p:cNvPr id="3664" name=""/>
              <p:cNvSpPr/>
              <p:nvPr/>
            </p:nvSpPr>
            <p:spPr>
              <a:xfrm flipH="1" flipV="1">
                <a:off x="3533760" y="4951440"/>
                <a:ext cx="60480" cy="3168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3449520" y="4910040"/>
                <a:ext cx="111240" cy="88920"/>
              </a:xfrm>
              <a:custGeom>
                <a:avLst/>
                <a:gdLst/>
                <a:ahLst/>
                <a:rect l="l" t="t" r="r" b="b"/>
                <a:pathLst>
                  <a:path w="70" h="56">
                    <a:moveTo>
                      <a:pt x="70" y="0"/>
                    </a:moveTo>
                    <a:lnTo>
                      <a:pt x="0" y="0"/>
                    </a:lnTo>
                    <a:lnTo>
                      <a:pt x="41" y="5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>
              <a:off x="4116240" y="4191120"/>
              <a:ext cx="50508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4259520" y="422748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476600" y="3830760"/>
              <a:ext cx="50508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4634640" y="38671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D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124600" y="3470400"/>
              <a:ext cx="5047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285160" y="350676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380200" y="35067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772240" y="3029040"/>
              <a:ext cx="5047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932800" y="30751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027840" y="3075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7121520" y="2462040"/>
              <a:ext cx="5047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7301160" y="249876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396200" y="24987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6A3-1FF0-4AA3-B736-D431F73BCAB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9" name=""/>
          <p:cNvGrpSpPr/>
          <p:nvPr/>
        </p:nvGrpSpPr>
        <p:grpSpPr>
          <a:xfrm>
            <a:off x="423720" y="363600"/>
            <a:ext cx="8398080" cy="6097680"/>
            <a:chOff x="423720" y="363600"/>
            <a:chExt cx="8398080" cy="6097680"/>
          </a:xfrm>
        </p:grpSpPr>
        <p:sp>
          <p:nvSpPr>
            <p:cNvPr id="3680" name=""/>
            <p:cNvSpPr/>
            <p:nvPr/>
          </p:nvSpPr>
          <p:spPr>
            <a:xfrm>
              <a:off x="819000" y="363600"/>
              <a:ext cx="73170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1" name=""/>
            <p:cNvGrpSpPr/>
            <p:nvPr/>
          </p:nvGrpSpPr>
          <p:grpSpPr>
            <a:xfrm>
              <a:off x="1002600" y="457200"/>
              <a:ext cx="6406920" cy="378720"/>
              <a:chOff x="1002600" y="457200"/>
              <a:chExt cx="6406920" cy="378720"/>
            </a:xfrm>
          </p:grpSpPr>
          <p:sp>
            <p:nvSpPr>
              <p:cNvPr id="3682" name=""/>
              <p:cNvSpPr/>
              <p:nvPr/>
            </p:nvSpPr>
            <p:spPr>
              <a:xfrm>
                <a:off x="1002600" y="457200"/>
                <a:ext cx="5782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ahoma"/>
                  </a:rPr>
                  <a:t>Barrier Factors (BF) and Fusion Rates (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6891480" y="457200"/>
                <a:ext cx="3693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ahoma"/>
                  </a:rPr>
                  <a:t>F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305120" y="469800"/>
                <a:ext cx="10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910c6"/>
                    </a:solidFill>
                    <a:latin typeface="Tahoma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"/>
            <p:cNvSpPr/>
            <p:nvPr/>
          </p:nvSpPr>
          <p:spPr>
            <a:xfrm>
              <a:off x="514440" y="2344680"/>
              <a:ext cx="8307360" cy="37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945360" y="239076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(0,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1522440" y="2390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1590120" y="236232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E-168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246040" y="2390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190840" y="2422440"/>
              <a:ext cx="64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entury"/>
                </a:rPr>
                <a:t>E-169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846760" y="2390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945360" y="302580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(1,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522440" y="302580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945360" y="36608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(2,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522440" y="366084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945360" y="429588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entury"/>
                </a:rPr>
                <a:t>(2,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1522440" y="42958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022520" y="4295880"/>
              <a:ext cx="41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entury"/>
                </a:rPr>
                <a:t>E-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936920" y="4295880"/>
              <a:ext cx="41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entury"/>
                </a:rPr>
                <a:t>E-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945360" y="493092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entury"/>
                </a:rPr>
                <a:t>(4,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1522440" y="49309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1577520" y="493092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entury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177880" y="493704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Century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945360" y="556560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(8,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522080" y="556560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357000" y="557388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349080" y="556560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entury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1591560" y="3006720"/>
              <a:ext cx="3213000" cy="2783520"/>
              <a:chOff x="1591560" y="3006720"/>
              <a:chExt cx="3213000" cy="2783520"/>
            </a:xfrm>
          </p:grpSpPr>
          <p:sp>
            <p:nvSpPr>
              <p:cNvPr id="3709" name=""/>
              <p:cNvSpPr/>
              <p:nvPr/>
            </p:nvSpPr>
            <p:spPr>
              <a:xfrm>
                <a:off x="1591560" y="300672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12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2449080" y="300672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18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363480" y="300672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2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277880" y="300672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5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1593000" y="364176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5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2450520" y="364176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363480" y="364176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10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277880" y="364176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2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1594800" y="4276800"/>
                <a:ext cx="29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2450520" y="427680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364920" y="427680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279320" y="427680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1661400" y="4911840"/>
                <a:ext cx="479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3E-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2451960" y="4911840"/>
                <a:ext cx="29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366360" y="4911840"/>
                <a:ext cx="29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279320" y="491184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E-1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1661400" y="5546520"/>
                <a:ext cx="479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4E-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2450160" y="5546520"/>
                <a:ext cx="547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(2E-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432960" y="5546520"/>
                <a:ext cx="479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1E-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279320" y="554652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entury"/>
                  </a:rPr>
                  <a:t>2E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9" name=""/>
            <p:cNvSpPr/>
            <p:nvPr/>
          </p:nvSpPr>
          <p:spPr>
            <a:xfrm>
              <a:off x="5177880" y="556560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Century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5203080" y="3006720"/>
              <a:ext cx="3324960" cy="2783520"/>
              <a:chOff x="5203080" y="3006720"/>
              <a:chExt cx="3324960" cy="2783520"/>
            </a:xfrm>
          </p:grpSpPr>
          <p:sp>
            <p:nvSpPr>
              <p:cNvPr id="3731" name=""/>
              <p:cNvSpPr/>
              <p:nvPr/>
            </p:nvSpPr>
            <p:spPr>
              <a:xfrm>
                <a:off x="5203080" y="300672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1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117480" y="300672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19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031880" y="300672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25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948080" y="3006720"/>
                <a:ext cx="579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4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204520" y="364176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6118920" y="364176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7031880" y="364176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1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7946280" y="3641760"/>
                <a:ext cx="526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2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204520" y="427680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118920" y="427680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272920" y="4911840"/>
                <a:ext cx="479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16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118920" y="491184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7035120" y="4911840"/>
                <a:ext cx="29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947720" y="4911840"/>
                <a:ext cx="41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1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272920" y="5543640"/>
                <a:ext cx="479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1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120360" y="5546520"/>
                <a:ext cx="432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(E-7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7034760" y="5546520"/>
                <a:ext cx="432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(E-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7949520" y="5546520"/>
                <a:ext cx="29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entury"/>
                  </a:rPr>
                  <a:t>E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9" name=""/>
            <p:cNvSpPr/>
            <p:nvPr/>
          </p:nvSpPr>
          <p:spPr>
            <a:xfrm>
              <a:off x="819000" y="868320"/>
              <a:ext cx="762012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38120" y="1201680"/>
              <a:ext cx="8155080" cy="8398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57200" y="1351080"/>
              <a:ext cx="75438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10000"/>
                  </a:solidFill>
                  <a:latin typeface="Tahoma"/>
                </a:rPr>
                <a:t> </a:t>
              </a:r>
              <a:r>
                <a:rPr b="1" lang="ja-JP" sz="1600" spc="-1" strike="noStrike">
                  <a:solidFill>
                    <a:srgbClr val="010000"/>
                  </a:solidFill>
                  <a:latin typeface="Tahoma"/>
                </a:rPr>
                <a:t>(m*, e*)             </a:t>
              </a:r>
              <a:r>
                <a:rPr b="1" lang="ja-JP" sz="1600" spc="-1" strike="noStrike">
                  <a:solidFill>
                    <a:srgbClr val="010000"/>
                  </a:solidFill>
                  <a:latin typeface="Tahoma"/>
                </a:rPr>
                <a:t>　　</a:t>
              </a:r>
              <a:r>
                <a:rPr b="1" lang="ja-JP" sz="1600" spc="-1" strike="noStrike">
                  <a:solidFill>
                    <a:srgbClr val="010000"/>
                  </a:solidFill>
                  <a:latin typeface="Tahoma"/>
                </a:rPr>
                <a:t>Barrier Factor                                Fusion Rate (f/s/cl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017000" y="1644480"/>
              <a:ext cx="6922800" cy="243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Tahoma"/>
                </a:rPr>
                <a:t>                </a:t>
              </a:r>
              <a:r>
                <a:rPr b="1" lang="en-US" sz="1600" spc="-1" strike="noStrike">
                  <a:solidFill>
                    <a:srgbClr val="010000"/>
                  </a:solidFill>
                  <a:latin typeface="Tahoma"/>
                </a:rPr>
                <a:t>2D           3D          4D          8D           2D           3D           4D          8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490760" y="1201680"/>
              <a:ext cx="28440" cy="4800600"/>
            </a:xfrm>
            <a:prstGeom prst="rect">
              <a:avLst/>
            </a:prstGeom>
            <a:solidFill>
              <a:srgbClr val="0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504800" y="1582560"/>
              <a:ext cx="7086600" cy="18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23720" y="2039760"/>
              <a:ext cx="28800" cy="3962520"/>
            </a:xfrm>
            <a:prstGeom prst="rect">
              <a:avLst/>
            </a:prstGeom>
            <a:solidFill>
              <a:srgbClr val="0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38120" y="5987880"/>
              <a:ext cx="8229600" cy="28800"/>
            </a:xfrm>
            <a:prstGeom prst="rect">
              <a:avLst/>
            </a:prstGeom>
            <a:solidFill>
              <a:srgbClr val="0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8577360" y="2039760"/>
              <a:ext cx="28440" cy="3962520"/>
            </a:xfrm>
            <a:prstGeom prst="rect">
              <a:avLst/>
            </a:prstGeom>
            <a:solidFill>
              <a:srgbClr val="0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843440" y="1201680"/>
              <a:ext cx="28440" cy="4800600"/>
            </a:xfrm>
            <a:prstGeom prst="rect">
              <a:avLst/>
            </a:prstGeom>
            <a:solidFill>
              <a:srgbClr val="0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238720" y="6154560"/>
              <a:ext cx="2440080" cy="30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861880" y="6199200"/>
              <a:ext cx="24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(  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6104160" y="6199200"/>
              <a:ext cx="109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10000"/>
                  </a:solidFill>
                  <a:latin typeface="Tahoma"/>
                </a:rPr>
                <a:t>is virtual 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2" name=""/>
            <p:cNvGrpSpPr/>
            <p:nvPr/>
          </p:nvGrpSpPr>
          <p:grpSpPr>
            <a:xfrm>
              <a:off x="3638520" y="917640"/>
              <a:ext cx="2440080" cy="253440"/>
              <a:chOff x="3638520" y="917640"/>
              <a:chExt cx="2440080" cy="253440"/>
            </a:xfrm>
          </p:grpSpPr>
          <p:sp>
            <p:nvSpPr>
              <p:cNvPr id="3763" name=""/>
              <p:cNvSpPr/>
              <p:nvPr/>
            </p:nvSpPr>
            <p:spPr>
              <a:xfrm>
                <a:off x="3638520" y="941400"/>
                <a:ext cx="2440080" cy="22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354200" y="917640"/>
                <a:ext cx="1099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10000"/>
                    </a:solidFill>
                    <a:latin typeface="Tahoma"/>
                  </a:rPr>
                  <a:t>Ed = 0.22e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C62-7858-492C-AFBC-A30BFA1EA7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"/>
          <p:cNvGrpSpPr/>
          <p:nvPr/>
        </p:nvGrpSpPr>
        <p:grpSpPr>
          <a:xfrm>
            <a:off x="723960" y="900000"/>
            <a:ext cx="7696080" cy="5005440"/>
            <a:chOff x="723960" y="900000"/>
            <a:chExt cx="7696080" cy="5005440"/>
          </a:xfrm>
        </p:grpSpPr>
        <p:sp>
          <p:nvSpPr>
            <p:cNvPr id="3766" name=""/>
            <p:cNvSpPr/>
            <p:nvPr/>
          </p:nvSpPr>
          <p:spPr>
            <a:xfrm>
              <a:off x="800280" y="950760"/>
              <a:ext cx="731664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941400" y="912960"/>
              <a:ext cx="528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jor Products of D-Cluster F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928440" y="900000"/>
              <a:ext cx="528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Major Products of D-Cluster F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800280" y="1636560"/>
              <a:ext cx="7545240" cy="28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363320" y="1720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353960" y="1711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640160" y="17208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630800" y="17114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799280" y="1660680"/>
              <a:ext cx="9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786680" y="1647720"/>
              <a:ext cx="9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10000"/>
                  </a:solidFill>
                  <a:latin typeface="Tahoma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914120" y="1665360"/>
              <a:ext cx="165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Century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901520" y="1652760"/>
              <a:ext cx="165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10000"/>
                  </a:solidFill>
                  <a:latin typeface="Century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2080080" y="1722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2070720" y="1712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entury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231280" y="172260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221920" y="171288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entury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515320" y="175752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505600" y="174780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3333cc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3014280" y="1722600"/>
              <a:ext cx="65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Li-6*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004920" y="1712880"/>
              <a:ext cx="65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entury"/>
                </a:rPr>
                <a:t>Li-6*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3701160" y="175752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691440" y="174780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3333cc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200480" y="1722600"/>
              <a:ext cx="2065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d  +  He-4  + 23.8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190760" y="1712880"/>
              <a:ext cx="2065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entury"/>
                </a:rPr>
                <a:t>d  +  He-4  + 23.8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6272640" y="172260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6262920" y="171288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3333cc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6825240" y="1722600"/>
              <a:ext cx="73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Century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6815520" y="1712880"/>
              <a:ext cx="73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3333cc"/>
                  </a:solidFill>
                  <a:latin typeface="Century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365120" y="2130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entury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754280" y="2130480"/>
              <a:ext cx="42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t-3 + He-3 + 9.5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744920" y="2120760"/>
              <a:ext cx="42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entury"/>
                </a:rPr>
                <a:t>                                    </a:t>
              </a:r>
              <a:r>
                <a:rPr b="1" lang="en-US" sz="2000" spc="-1" strike="noStrike">
                  <a:solidFill>
                    <a:srgbClr val="3333cc"/>
                  </a:solidFill>
                  <a:latin typeface="Century"/>
                </a:rPr>
                <a:t>t-3 + He-3 + 9.5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6120000" y="213048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110640" y="212076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3333cc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363320" y="25257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353960" y="2516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650240" y="252576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640880" y="251604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884960" y="2527200"/>
              <a:ext cx="13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875600" y="2517840"/>
              <a:ext cx="13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entury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027160" y="2527200"/>
              <a:ext cx="40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4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017800" y="2517840"/>
              <a:ext cx="40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entury"/>
                </a:rPr>
                <a:t>4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454840" y="256212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445480" y="255276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cc33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934720" y="2527200"/>
              <a:ext cx="755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Be-8*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925360" y="2517840"/>
              <a:ext cx="755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entury"/>
                </a:rPr>
                <a:t>Be-8*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3701160" y="256212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3691440" y="255276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cc33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184280" y="2527200"/>
              <a:ext cx="178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2xHe-4  + 47.6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4174920" y="2517840"/>
              <a:ext cx="178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entury"/>
                </a:rPr>
                <a:t>2xHe-4  + 47.6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964480" y="252720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955120" y="251784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cc33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363320" y="2922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353960" y="29131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650240" y="292248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640880" y="291312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890360" y="2924280"/>
              <a:ext cx="53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5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881000" y="2914560"/>
              <a:ext cx="53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  </a:t>
              </a: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5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454840" y="295920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ffffff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445480" y="294948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937240" y="2924280"/>
              <a:ext cx="141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B-10* (53.7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2927880" y="2914560"/>
              <a:ext cx="141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B-10* (53.7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4341960" y="292428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4332600" y="291456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4894200" y="292428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4884840" y="291456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363320" y="3319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353960" y="3309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650240" y="331956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640880" y="330984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890360" y="3321000"/>
              <a:ext cx="53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6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881000" y="3311640"/>
              <a:ext cx="53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  </a:t>
              </a: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6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454840" y="335592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ffffff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445480" y="334656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939400" y="3321000"/>
              <a:ext cx="155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C-12* (75.73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2930040" y="3311640"/>
              <a:ext cx="155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C-12* (75.73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483440" y="332100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473720" y="331164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035680" y="332100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025960" y="331164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363320" y="37162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353960" y="37069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650240" y="371628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640880" y="370692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890360" y="3718080"/>
              <a:ext cx="53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7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881000" y="3708360"/>
              <a:ext cx="53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  </a:t>
              </a: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7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2454840" y="375300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ffffff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445480" y="374328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0100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2927880" y="3718080"/>
              <a:ext cx="159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N-14* (89.08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2918160" y="3708360"/>
              <a:ext cx="159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N-14* (89.08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4507200" y="371808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4497840" y="370836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100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059440" y="371808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entury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049720" y="3708360"/>
              <a:ext cx="87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00"/>
                  </a:solidFill>
                  <a:latin typeface="Century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363320" y="41133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353960" y="41036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650240" y="411336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640880" y="4103640"/>
              <a:ext cx="22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Tahoma"/>
                </a:rPr>
                <a:t>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884960" y="4114800"/>
              <a:ext cx="13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875600" y="4105440"/>
              <a:ext cx="13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entury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027160" y="4114800"/>
              <a:ext cx="40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8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017800" y="4105440"/>
              <a:ext cx="40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entury"/>
                </a:rPr>
                <a:t>8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454840" y="414972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445480" y="4140360"/>
              <a:ext cx="46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ＭＳ 明朝"/>
                  <a:ea typeface="ＭＳ 明朝"/>
                </a:rPr>
                <a:t>→</a:t>
              </a:r>
              <a:r>
                <a:rPr b="1" lang="zh-CN" sz="2000" spc="-1" strike="noStrike">
                  <a:solidFill>
                    <a:srgbClr val="cc3300"/>
                  </a:solidFill>
                  <a:latin typeface="ＭＳ 明朝"/>
                  <a:ea typeface="ＭＳ 明朝"/>
                </a:rPr>
                <a:t>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923560" y="4114800"/>
              <a:ext cx="173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O-16* (109.84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914200" y="4105440"/>
              <a:ext cx="173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entury"/>
                </a:rPr>
                <a:t>O-16* (109.84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4638960" y="411480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4629600" y="410544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cc33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193720" y="41148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184360" y="41054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entury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399280" y="41497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389920" y="4140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ＭＳ 明朝"/>
                  <a:ea typeface="ＭＳ 明朝"/>
                </a:rPr>
                <a:t>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598720" y="4114800"/>
              <a:ext cx="1830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"/>
                </a:rPr>
                <a:t>2xBe-8  + 95.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589360" y="4105440"/>
              <a:ext cx="1830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entury"/>
                </a:rPr>
                <a:t> </a:t>
              </a:r>
              <a:r>
                <a:rPr b="1" lang="en-US" sz="2000" spc="-1" strike="noStrike">
                  <a:solidFill>
                    <a:srgbClr val="cc3300"/>
                  </a:solidFill>
                  <a:latin typeface="Century"/>
                </a:rPr>
                <a:t>2xBe-8  + 95.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421760" y="411480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412400" y="4105440"/>
              <a:ext cx="5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cc3300"/>
                  </a:solidFill>
                  <a:latin typeface="Century"/>
                </a:rPr>
                <a:t>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23960" y="1303200"/>
              <a:ext cx="7696080" cy="57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800280" y="4836960"/>
              <a:ext cx="7468920" cy="10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905400" y="5065560"/>
              <a:ext cx="8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996840" y="50655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980640" y="5065560"/>
              <a:ext cx="5828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D and 8D Fusion can be selective because of resona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639120" y="5065560"/>
              <a:ext cx="48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cc3300"/>
                  </a:solidFill>
                  <a:latin typeface="Tahoma"/>
                </a:rPr>
                <a:t>p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7059960" y="5065560"/>
              <a:ext cx="110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ex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905400" y="5396040"/>
              <a:ext cx="8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853560" y="5396040"/>
              <a:ext cx="588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5D, 6D and 7D processes partially attain 4D resona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4E4-B120-4D23-8B82-D8A00DB4E20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"/>
          <p:cNvGrpSpPr/>
          <p:nvPr/>
        </p:nvGrpSpPr>
        <p:grpSpPr>
          <a:xfrm>
            <a:off x="971640" y="404640"/>
            <a:ext cx="7561080" cy="5905800"/>
            <a:chOff x="971640" y="404640"/>
            <a:chExt cx="7561080" cy="5905800"/>
          </a:xfrm>
        </p:grpSpPr>
        <p:sp>
          <p:nvSpPr>
            <p:cNvPr id="3891" name=""/>
            <p:cNvSpPr/>
            <p:nvPr/>
          </p:nvSpPr>
          <p:spPr>
            <a:xfrm>
              <a:off x="971640" y="907920"/>
              <a:ext cx="3384360" cy="367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1) TBC/TS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411280" y="335772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411280" y="191628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619280" y="26370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3203640" y="26370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08000" y="2133720"/>
              <a:ext cx="360360" cy="36036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3059280" y="3284640"/>
              <a:ext cx="360360" cy="36036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3059280" y="2133720"/>
              <a:ext cx="360360" cy="36036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1835280" y="3284640"/>
              <a:ext cx="360360" cy="36036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627280" y="2421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2627280" y="2923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124000" y="285264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H="1">
              <a:off x="2700000" y="2852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268360" y="2492280"/>
              <a:ext cx="287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H="1" flipV="1">
              <a:off x="2700360" y="292428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V="1">
              <a:off x="2268360" y="2924280"/>
              <a:ext cx="287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2700360" y="249228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148360" y="404640"/>
              <a:ext cx="3384360" cy="28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2) 4D TR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e(47.6MeV)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ound st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5148360" y="3645000"/>
              <a:ext cx="338436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) Break-U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5940360" y="2060640"/>
              <a:ext cx="172872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6084720" y="2205000"/>
              <a:ext cx="64800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6877080" y="2205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219640" y="4653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7740720" y="4653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6948360" y="5013360"/>
              <a:ext cx="648000" cy="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6012000" y="5013360"/>
              <a:ext cx="647640" cy="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5219640" y="5445000"/>
              <a:ext cx="10573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3.8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7380360" y="5373720"/>
              <a:ext cx="10573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3.8Me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356000" y="2060640"/>
              <a:ext cx="7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6804000" y="328464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E64-9FE3-4EC4-9AA8-132864D5C04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99"/>
                </a:solidFill>
                <a:latin typeface="Arial"/>
              </a:rPr>
              <a:t>Power Level by TSC and OSC Fu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880920" y="998280"/>
            <a:ext cx="3695760" cy="57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0c6"/>
                </a:solidFill>
                <a:latin typeface="Arial"/>
              </a:rPr>
              <a:t>D-Cluster Fusion by 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ssume 1E22 TSC-clusters/cc at Ed=0.22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D Fusion Rate = (3.1E-11)x(1E22) = 3E11 f/s/cc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303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303"/>
                </a:solidFill>
                <a:latin typeface="Arial"/>
              </a:rPr>
              <a:t>30 watts/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 Fusion Rate = (1.9E-21)x(1E22) = 19 f/s/cc (</a:t>
            </a:r>
            <a:r>
              <a:rPr b="0" lang="en-US" sz="2800" spc="-1" strike="noStrike">
                <a:solidFill>
                  <a:srgbClr val="46a444"/>
                </a:solidFill>
                <a:latin typeface="Arial"/>
              </a:rPr>
              <a:t>10 n/s/c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707000" y="954000"/>
            <a:ext cx="369576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1910c6"/>
                </a:solidFill>
                <a:latin typeface="Arial"/>
              </a:rPr>
              <a:t>D-Cluster Fusion by O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Assume 1E16 OSC- clusters/cc at Ed=0.22 eV (1ppm PdD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D Fusion Rate = (7.8E-4)x(1E16) = 7.8E12 f/s/cc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800" spc="-1" strike="noStrike">
                <a:solidFill>
                  <a:srgbClr val="ff0303"/>
                </a:solidFill>
                <a:latin typeface="Arial"/>
              </a:rPr>
              <a:t>78 watts/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D Fusion Rate = (7E-11)x(1E16) = 7E5 f/s/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880920" y="863640"/>
            <a:ext cx="7620120" cy="0"/>
          </a:xfrm>
          <a:prstGeom prst="line">
            <a:avLst/>
          </a:prstGeom>
          <a:ln w="57240">
            <a:solidFill>
              <a:srgbClr val="c44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1332000" y="4734000"/>
            <a:ext cx="50472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303"/>
                </a:solidFill>
                <a:latin typeface="Tahoma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4A9-F023-461D-A698-75D0846108F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atures of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533520" y="1371600"/>
            <a:ext cx="7848360" cy="66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gas permeation through the Pd compl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4343400" y="41911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4245120" y="1890720"/>
            <a:ext cx="10047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4280040" y="2560680"/>
            <a:ext cx="1304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1655640" y="2577960"/>
            <a:ext cx="1690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2413080" y="6172200"/>
            <a:ext cx="3365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4280040" y="2560680"/>
            <a:ext cx="1304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1655640" y="2577960"/>
            <a:ext cx="1690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2413080" y="6172200"/>
            <a:ext cx="3365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720720" y="2295360"/>
            <a:ext cx="3102120" cy="3241800"/>
          </a:xfrm>
          <a:prstGeom prst="rect">
            <a:avLst/>
          </a:prstGeom>
          <a:solidFill>
            <a:srgbClr val="ccecff"/>
          </a:solidFill>
          <a:ln cap="rnd"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720720" y="4410000"/>
            <a:ext cx="3102120" cy="1832040"/>
          </a:xfrm>
          <a:prstGeom prst="rect">
            <a:avLst/>
          </a:prstGeom>
          <a:solidFill>
            <a:srgbClr val="ffffff"/>
          </a:solidFill>
          <a:ln cap="rnd"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861840" y="5713560"/>
            <a:ext cx="757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913320" y="5765760"/>
            <a:ext cx="442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ＭＳ Ｐゴシック"/>
              </a:rPr>
              <a:t>真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1284120" y="3987720"/>
            <a:ext cx="1974960" cy="704880"/>
          </a:xfrm>
          <a:prstGeom prst="rect">
            <a:avLst/>
          </a:prstGeom>
          <a:solidFill>
            <a:srgbClr val="dddddd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1" name=""/>
          <p:cNvGrpSpPr/>
          <p:nvPr/>
        </p:nvGrpSpPr>
        <p:grpSpPr>
          <a:xfrm>
            <a:off x="1284120" y="4127400"/>
            <a:ext cx="1974960" cy="141480"/>
            <a:chOff x="1284120" y="4127400"/>
            <a:chExt cx="1974960" cy="141480"/>
          </a:xfrm>
        </p:grpSpPr>
        <p:sp>
          <p:nvSpPr>
            <p:cNvPr id="3942" name=""/>
            <p:cNvSpPr/>
            <p:nvPr/>
          </p:nvSpPr>
          <p:spPr>
            <a:xfrm>
              <a:off x="1284120" y="4127400"/>
              <a:ext cx="1974960" cy="141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284120" y="4127400"/>
              <a:ext cx="1974960" cy="14148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4" name=""/>
          <p:cNvGrpSpPr/>
          <p:nvPr/>
        </p:nvGrpSpPr>
        <p:grpSpPr>
          <a:xfrm>
            <a:off x="1496880" y="3916440"/>
            <a:ext cx="1549440" cy="141120"/>
            <a:chOff x="1496880" y="3916440"/>
            <a:chExt cx="1549440" cy="141120"/>
          </a:xfrm>
        </p:grpSpPr>
        <p:sp>
          <p:nvSpPr>
            <p:cNvPr id="3945" name=""/>
            <p:cNvSpPr/>
            <p:nvPr/>
          </p:nvSpPr>
          <p:spPr>
            <a:xfrm>
              <a:off x="1496880" y="3916440"/>
              <a:ext cx="13968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778040" y="3916440"/>
              <a:ext cx="14112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060640" y="3916440"/>
              <a:ext cx="14112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341440" y="3916440"/>
              <a:ext cx="14148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624040" y="3916440"/>
              <a:ext cx="14148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906640" y="3916440"/>
              <a:ext cx="139680" cy="141120"/>
            </a:xfrm>
            <a:prstGeom prst="ellipse">
              <a:avLst/>
            </a:prstGeom>
            <a:solidFill>
              <a:srgbClr val="ff3300"/>
            </a:solidFill>
            <a:ln w="176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1619280" y="3618000"/>
            <a:ext cx="193680" cy="1407960"/>
            <a:chOff x="1619280" y="3618000"/>
            <a:chExt cx="193680" cy="1407960"/>
          </a:xfrm>
        </p:grpSpPr>
        <p:sp>
          <p:nvSpPr>
            <p:cNvPr id="3952" name=""/>
            <p:cNvSpPr/>
            <p:nvPr/>
          </p:nvSpPr>
          <p:spPr>
            <a:xfrm>
              <a:off x="1708200" y="3618000"/>
              <a:ext cx="1440" cy="126828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619280" y="4849920"/>
              <a:ext cx="193680" cy="17604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0"/>
                  </a:moveTo>
                  <a:lnTo>
                    <a:pt x="56" y="111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4" name=""/>
          <p:cNvSpPr/>
          <p:nvPr/>
        </p:nvSpPr>
        <p:spPr>
          <a:xfrm>
            <a:off x="720720" y="2295360"/>
            <a:ext cx="24494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898920" y="2454120"/>
            <a:ext cx="11055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ＭＳ Ｐゴシック"/>
              </a:rPr>
              <a:t>重水素ガ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2165400" y="3635280"/>
            <a:ext cx="193680" cy="1427400"/>
            <a:chOff x="2165400" y="3635280"/>
            <a:chExt cx="193680" cy="1427400"/>
          </a:xfrm>
        </p:grpSpPr>
        <p:sp>
          <p:nvSpPr>
            <p:cNvPr id="3957" name=""/>
            <p:cNvSpPr/>
            <p:nvPr/>
          </p:nvSpPr>
          <p:spPr>
            <a:xfrm>
              <a:off x="2254320" y="3635280"/>
              <a:ext cx="1440" cy="126864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165400" y="48690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0"/>
                  </a:moveTo>
                  <a:lnTo>
                    <a:pt x="67" y="122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2747880" y="3670200"/>
            <a:ext cx="193680" cy="1427400"/>
            <a:chOff x="2747880" y="3670200"/>
            <a:chExt cx="193680" cy="1427400"/>
          </a:xfrm>
        </p:grpSpPr>
        <p:sp>
          <p:nvSpPr>
            <p:cNvPr id="3960" name=""/>
            <p:cNvSpPr/>
            <p:nvPr/>
          </p:nvSpPr>
          <p:spPr>
            <a:xfrm>
              <a:off x="2835360" y="3670200"/>
              <a:ext cx="1440" cy="126864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747880" y="4903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0"/>
                  </a:moveTo>
                  <a:lnTo>
                    <a:pt x="55" y="122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2" name=""/>
          <p:cNvSpPr/>
          <p:nvPr/>
        </p:nvSpPr>
        <p:spPr>
          <a:xfrm>
            <a:off x="1162080" y="4973760"/>
            <a:ext cx="2219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1340280" y="5132520"/>
            <a:ext cx="11055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ＭＳ Ｐゴシック"/>
              </a:rPr>
              <a:t>重陽子透過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1566720" y="3071880"/>
            <a:ext cx="1462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1772280" y="3228840"/>
            <a:ext cx="6638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ＭＳ Ｐゴシック"/>
              </a:rPr>
              <a:t>重陽子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3575160" y="2295360"/>
            <a:ext cx="5040360" cy="3665880"/>
          </a:xfrm>
          <a:custGeom>
            <a:avLst/>
            <a:gdLst/>
            <a:ahLst/>
            <a:rect l="l" t="t" r="r" b="b"/>
            <a:pathLst>
              <a:path w="3175" h="2309">
                <a:moveTo>
                  <a:pt x="333" y="0"/>
                </a:moveTo>
                <a:lnTo>
                  <a:pt x="333" y="389"/>
                </a:lnTo>
                <a:lnTo>
                  <a:pt x="0" y="1055"/>
                </a:lnTo>
                <a:lnTo>
                  <a:pt x="333" y="966"/>
                </a:lnTo>
                <a:lnTo>
                  <a:pt x="333" y="2309"/>
                </a:lnTo>
                <a:lnTo>
                  <a:pt x="811" y="2309"/>
                </a:lnTo>
                <a:lnTo>
                  <a:pt x="811" y="2309"/>
                </a:lnTo>
                <a:lnTo>
                  <a:pt x="1521" y="2309"/>
                </a:lnTo>
                <a:lnTo>
                  <a:pt x="3175" y="2309"/>
                </a:lnTo>
                <a:lnTo>
                  <a:pt x="3175" y="966"/>
                </a:lnTo>
                <a:lnTo>
                  <a:pt x="3175" y="389"/>
                </a:lnTo>
                <a:lnTo>
                  <a:pt x="3175" y="389"/>
                </a:lnTo>
                <a:lnTo>
                  <a:pt x="3175" y="0"/>
                </a:lnTo>
                <a:lnTo>
                  <a:pt x="1521" y="0"/>
                </a:lnTo>
                <a:lnTo>
                  <a:pt x="811" y="0"/>
                </a:lnTo>
                <a:lnTo>
                  <a:pt x="811" y="0"/>
                </a:lnTo>
                <a:lnTo>
                  <a:pt x="333" y="0"/>
                </a:lnTo>
                <a:close/>
              </a:path>
            </a:pathLst>
          </a:custGeom>
          <a:solidFill>
            <a:srgbClr val="ffffff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7" name=""/>
          <p:cNvGrpSpPr/>
          <p:nvPr/>
        </p:nvGrpSpPr>
        <p:grpSpPr>
          <a:xfrm>
            <a:off x="4227480" y="3052800"/>
            <a:ext cx="4307040" cy="2735280"/>
            <a:chOff x="4227480" y="3052800"/>
            <a:chExt cx="4307040" cy="2735280"/>
          </a:xfrm>
        </p:grpSpPr>
        <p:pic>
          <p:nvPicPr>
            <p:cNvPr id="3968" name="" descr=""/>
            <p:cNvPicPr/>
            <p:nvPr/>
          </p:nvPicPr>
          <p:blipFill>
            <a:blip r:embed="rId1"/>
            <a:stretch/>
          </p:blipFill>
          <p:spPr>
            <a:xfrm>
              <a:off x="4227480" y="3052800"/>
              <a:ext cx="430704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9" name=""/>
            <p:cNvSpPr/>
            <p:nvPr/>
          </p:nvSpPr>
          <p:spPr>
            <a:xfrm>
              <a:off x="7178760" y="5256360"/>
              <a:ext cx="11732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7352640" y="532764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ffcc"/>
                  </a:solidFill>
                  <a:latin typeface="Times New Roman"/>
                </a:rPr>
                <a:t>P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7669800" y="5340240"/>
              <a:ext cx="35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99ffcc"/>
                  </a:solidFill>
                  <a:latin typeface="ＭＳ Ｐゴシック"/>
                </a:rPr>
                <a:t>基板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684680" y="3089160"/>
              <a:ext cx="1123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4810320" y="3186000"/>
              <a:ext cx="526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66"/>
                  </a:solidFill>
                  <a:latin typeface="ＭＳ Ｐゴシック"/>
                </a:rPr>
                <a:t>最表面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4" name=""/>
            <p:cNvGrpSpPr/>
            <p:nvPr/>
          </p:nvGrpSpPr>
          <p:grpSpPr>
            <a:xfrm>
              <a:off x="6043320" y="3355560"/>
              <a:ext cx="308160" cy="314640"/>
              <a:chOff x="6043320" y="3355560"/>
              <a:chExt cx="308160" cy="314640"/>
            </a:xfrm>
          </p:grpSpPr>
          <p:sp>
            <p:nvSpPr>
              <p:cNvPr id="3975" name=""/>
              <p:cNvSpPr/>
              <p:nvPr/>
            </p:nvSpPr>
            <p:spPr>
              <a:xfrm flipH="1" flipV="1">
                <a:off x="6043320" y="3355560"/>
                <a:ext cx="245880" cy="243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6215040" y="3525840"/>
                <a:ext cx="136440" cy="144360"/>
              </a:xfrm>
              <a:custGeom>
                <a:avLst/>
                <a:gdLst/>
                <a:ahLst/>
                <a:rect l="l" t="t" r="r" b="b"/>
                <a:pathLst>
                  <a:path w="86" h="91">
                    <a:moveTo>
                      <a:pt x="0" y="61"/>
                    </a:moveTo>
                    <a:lnTo>
                      <a:pt x="86" y="91"/>
                    </a:lnTo>
                    <a:lnTo>
                      <a:pt x="63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7" name=""/>
            <p:cNvSpPr/>
            <p:nvPr/>
          </p:nvSpPr>
          <p:spPr>
            <a:xfrm flipH="1">
              <a:off x="5721480" y="3355920"/>
              <a:ext cx="30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6994440" y="4251240"/>
              <a:ext cx="1135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7170480" y="4324320"/>
              <a:ext cx="586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Ca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0" name=""/>
            <p:cNvGrpSpPr/>
            <p:nvPr/>
          </p:nvGrpSpPr>
          <p:grpSpPr>
            <a:xfrm>
              <a:off x="5931000" y="4081320"/>
              <a:ext cx="704880" cy="677880"/>
              <a:chOff x="5931000" y="4081320"/>
              <a:chExt cx="704880" cy="677880"/>
            </a:xfrm>
          </p:grpSpPr>
          <p:sp>
            <p:nvSpPr>
              <p:cNvPr id="3981" name=""/>
              <p:cNvSpPr/>
              <p:nvPr/>
            </p:nvSpPr>
            <p:spPr>
              <a:xfrm>
                <a:off x="6043680" y="4191120"/>
                <a:ext cx="592200" cy="568080"/>
              </a:xfrm>
              <a:prstGeom prst="line">
                <a:avLst/>
              </a:prstGeom>
              <a:ln w="0">
                <a:solidFill>
                  <a:srgbClr val="99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931000" y="4081320"/>
                <a:ext cx="185760" cy="182880"/>
              </a:xfrm>
              <a:custGeom>
                <a:avLst/>
                <a:gdLst/>
                <a:ahLst/>
                <a:rect l="l" t="t" r="r" b="b"/>
                <a:pathLst>
                  <a:path w="117" h="115">
                    <a:moveTo>
                      <a:pt x="117" y="77"/>
                    </a:moveTo>
                    <a:lnTo>
                      <a:pt x="0" y="0"/>
                    </a:lnTo>
                    <a:lnTo>
                      <a:pt x="78" y="115"/>
                    </a:lnTo>
                    <a:lnTo>
                      <a:pt x="117" y="77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3" name=""/>
            <p:cNvSpPr/>
            <p:nvPr/>
          </p:nvSpPr>
          <p:spPr>
            <a:xfrm>
              <a:off x="6488280" y="4699080"/>
              <a:ext cx="5792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673320" y="477216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ffcc"/>
                  </a:solidFill>
                  <a:latin typeface="Times New Roman"/>
                </a:rPr>
                <a:t>P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6573960" y="3840120"/>
              <a:ext cx="519120" cy="496800"/>
              <a:chOff x="6573960" y="3840120"/>
              <a:chExt cx="519120" cy="496800"/>
            </a:xfrm>
          </p:grpSpPr>
          <p:sp>
            <p:nvSpPr>
              <p:cNvPr id="3986" name=""/>
              <p:cNvSpPr/>
              <p:nvPr/>
            </p:nvSpPr>
            <p:spPr>
              <a:xfrm>
                <a:off x="6684840" y="3936960"/>
                <a:ext cx="408240" cy="399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573960" y="3840120"/>
                <a:ext cx="185760" cy="16992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117" y="69"/>
                    </a:moveTo>
                    <a:lnTo>
                      <a:pt x="0" y="0"/>
                    </a:lnTo>
                    <a:lnTo>
                      <a:pt x="78" y="107"/>
                    </a:lnTo>
                    <a:lnTo>
                      <a:pt x="11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88" name="" descr=""/>
            <p:cNvPicPr/>
            <p:nvPr/>
          </p:nvPicPr>
          <p:blipFill>
            <a:blip r:embed="rId2"/>
            <a:stretch/>
          </p:blipFill>
          <p:spPr>
            <a:xfrm>
              <a:off x="4227480" y="3052800"/>
              <a:ext cx="430704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9" name=""/>
            <p:cNvSpPr/>
            <p:nvPr/>
          </p:nvSpPr>
          <p:spPr>
            <a:xfrm>
              <a:off x="7178760" y="5256360"/>
              <a:ext cx="11732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7352640" y="532764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ffcc"/>
                  </a:solidFill>
                  <a:latin typeface="Times New Roman"/>
                </a:rPr>
                <a:t>P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7669800" y="5340240"/>
              <a:ext cx="35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99ffcc"/>
                  </a:solidFill>
                  <a:latin typeface="ＭＳ Ｐゴシック"/>
                </a:rPr>
                <a:t>基板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4684680" y="3089160"/>
              <a:ext cx="1123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4810320" y="3186000"/>
              <a:ext cx="526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66"/>
                  </a:solidFill>
                  <a:latin typeface="ＭＳ Ｐゴシック"/>
                </a:rPr>
                <a:t>最表面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4" name=""/>
            <p:cNvGrpSpPr/>
            <p:nvPr/>
          </p:nvGrpSpPr>
          <p:grpSpPr>
            <a:xfrm>
              <a:off x="6043320" y="3355560"/>
              <a:ext cx="308160" cy="314640"/>
              <a:chOff x="6043320" y="3355560"/>
              <a:chExt cx="308160" cy="314640"/>
            </a:xfrm>
          </p:grpSpPr>
          <p:sp>
            <p:nvSpPr>
              <p:cNvPr id="3995" name=""/>
              <p:cNvSpPr/>
              <p:nvPr/>
            </p:nvSpPr>
            <p:spPr>
              <a:xfrm flipH="1" flipV="1">
                <a:off x="6043320" y="3355560"/>
                <a:ext cx="245880" cy="243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6215040" y="3525840"/>
                <a:ext cx="136440" cy="144360"/>
              </a:xfrm>
              <a:custGeom>
                <a:avLst/>
                <a:gdLst/>
                <a:ahLst/>
                <a:rect l="l" t="t" r="r" b="b"/>
                <a:pathLst>
                  <a:path w="86" h="91">
                    <a:moveTo>
                      <a:pt x="0" y="61"/>
                    </a:moveTo>
                    <a:lnTo>
                      <a:pt x="86" y="91"/>
                    </a:lnTo>
                    <a:lnTo>
                      <a:pt x="63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7" name=""/>
            <p:cNvSpPr/>
            <p:nvPr/>
          </p:nvSpPr>
          <p:spPr>
            <a:xfrm flipH="1">
              <a:off x="5721480" y="3355920"/>
              <a:ext cx="30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6994440" y="4251240"/>
              <a:ext cx="1135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7170480" y="4324320"/>
              <a:ext cx="586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Ca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"/>
            <p:cNvGrpSpPr/>
            <p:nvPr/>
          </p:nvGrpSpPr>
          <p:grpSpPr>
            <a:xfrm>
              <a:off x="5931000" y="4081320"/>
              <a:ext cx="704880" cy="677880"/>
              <a:chOff x="5931000" y="4081320"/>
              <a:chExt cx="704880" cy="677880"/>
            </a:xfrm>
          </p:grpSpPr>
          <p:sp>
            <p:nvSpPr>
              <p:cNvPr id="4001" name=""/>
              <p:cNvSpPr/>
              <p:nvPr/>
            </p:nvSpPr>
            <p:spPr>
              <a:xfrm>
                <a:off x="6043680" y="4191120"/>
                <a:ext cx="592200" cy="568080"/>
              </a:xfrm>
              <a:prstGeom prst="line">
                <a:avLst/>
              </a:prstGeom>
              <a:ln w="0">
                <a:solidFill>
                  <a:srgbClr val="99ffc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5931000" y="4081320"/>
                <a:ext cx="185760" cy="182880"/>
              </a:xfrm>
              <a:custGeom>
                <a:avLst/>
                <a:gdLst/>
                <a:ahLst/>
                <a:rect l="l" t="t" r="r" b="b"/>
                <a:pathLst>
                  <a:path w="117" h="115">
                    <a:moveTo>
                      <a:pt x="117" y="77"/>
                    </a:moveTo>
                    <a:lnTo>
                      <a:pt x="0" y="0"/>
                    </a:lnTo>
                    <a:lnTo>
                      <a:pt x="78" y="115"/>
                    </a:lnTo>
                    <a:lnTo>
                      <a:pt x="117" y="77"/>
                    </a:lnTo>
                    <a:close/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"/>
            <p:cNvSpPr/>
            <p:nvPr/>
          </p:nvSpPr>
          <p:spPr>
            <a:xfrm>
              <a:off x="6488280" y="4699080"/>
              <a:ext cx="57924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6673320" y="477216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ffcc"/>
                  </a:solidFill>
                  <a:latin typeface="Times New Roman"/>
                </a:rPr>
                <a:t>Pd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6573960" y="3840120"/>
              <a:ext cx="519120" cy="496800"/>
              <a:chOff x="6573960" y="3840120"/>
              <a:chExt cx="519120" cy="496800"/>
            </a:xfrm>
          </p:grpSpPr>
          <p:sp>
            <p:nvSpPr>
              <p:cNvPr id="4006" name=""/>
              <p:cNvSpPr/>
              <p:nvPr/>
            </p:nvSpPr>
            <p:spPr>
              <a:xfrm>
                <a:off x="6684840" y="3936960"/>
                <a:ext cx="408240" cy="399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6573960" y="3840120"/>
                <a:ext cx="185760" cy="16992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117" y="69"/>
                    </a:moveTo>
                    <a:lnTo>
                      <a:pt x="0" y="0"/>
                    </a:lnTo>
                    <a:lnTo>
                      <a:pt x="78" y="107"/>
                    </a:lnTo>
                    <a:lnTo>
                      <a:pt x="11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8" name=""/>
          <p:cNvSpPr/>
          <p:nvPr/>
        </p:nvSpPr>
        <p:spPr>
          <a:xfrm>
            <a:off x="4103640" y="2295360"/>
            <a:ext cx="4353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4304520" y="2454120"/>
            <a:ext cx="884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ＭＳ Ｐゴシック"/>
              </a:rPr>
              <a:t>独自開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5666040" y="2454120"/>
            <a:ext cx="1547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ＭＳ Ｐゴシック"/>
              </a:rPr>
              <a:t>ナノ構造反応膜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4245120" y="1890720"/>
            <a:ext cx="10047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4280040" y="2560680"/>
            <a:ext cx="1304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1655640" y="2577960"/>
            <a:ext cx="1690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2413080" y="6172200"/>
            <a:ext cx="3365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4280040" y="2560680"/>
            <a:ext cx="1304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1655640" y="2577960"/>
            <a:ext cx="1690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2413080" y="6172200"/>
            <a:ext cx="3365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720720" y="2295360"/>
            <a:ext cx="3102120" cy="3241800"/>
          </a:xfrm>
          <a:prstGeom prst="rect">
            <a:avLst/>
          </a:prstGeom>
          <a:solidFill>
            <a:srgbClr val="ccecff"/>
          </a:solidFill>
          <a:ln cap="rnd"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20720" y="4410000"/>
            <a:ext cx="3102120" cy="1832040"/>
          </a:xfrm>
          <a:prstGeom prst="rect">
            <a:avLst/>
          </a:prstGeom>
          <a:solidFill>
            <a:srgbClr val="ffffff"/>
          </a:solidFill>
          <a:ln cap="rnd"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861840" y="5713560"/>
            <a:ext cx="757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1284120" y="3987720"/>
            <a:ext cx="1974960" cy="704880"/>
          </a:xfrm>
          <a:prstGeom prst="rect">
            <a:avLst/>
          </a:prstGeom>
          <a:solidFill>
            <a:srgbClr val="dddddd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2" name=""/>
          <p:cNvGrpSpPr/>
          <p:nvPr/>
        </p:nvGrpSpPr>
        <p:grpSpPr>
          <a:xfrm>
            <a:off x="1284120" y="4127400"/>
            <a:ext cx="1974960" cy="141480"/>
            <a:chOff x="1284120" y="4127400"/>
            <a:chExt cx="1974960" cy="141480"/>
          </a:xfrm>
        </p:grpSpPr>
        <p:sp>
          <p:nvSpPr>
            <p:cNvPr id="4023" name=""/>
            <p:cNvSpPr/>
            <p:nvPr/>
          </p:nvSpPr>
          <p:spPr>
            <a:xfrm>
              <a:off x="1284120" y="4127400"/>
              <a:ext cx="1974960" cy="141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284120" y="4127400"/>
              <a:ext cx="1974960" cy="141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5" name=""/>
          <p:cNvSpPr/>
          <p:nvPr/>
        </p:nvSpPr>
        <p:spPr>
          <a:xfrm>
            <a:off x="1496880" y="3916440"/>
            <a:ext cx="1396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1778040" y="3916440"/>
            <a:ext cx="14112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2060640" y="3916440"/>
            <a:ext cx="14112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2341440" y="3916440"/>
            <a:ext cx="1414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2624040" y="3916440"/>
            <a:ext cx="1414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2906640" y="3916440"/>
            <a:ext cx="1396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1496880" y="3916440"/>
            <a:ext cx="1396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1778040" y="3916440"/>
            <a:ext cx="14112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2060640" y="3916440"/>
            <a:ext cx="14112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2341440" y="3916440"/>
            <a:ext cx="1414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2624040" y="3916440"/>
            <a:ext cx="1414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2906640" y="3916440"/>
            <a:ext cx="139680" cy="141120"/>
          </a:xfrm>
          <a:prstGeom prst="ellipse">
            <a:avLst/>
          </a:prstGeom>
          <a:solidFill>
            <a:srgbClr val="ff3300"/>
          </a:solidFill>
          <a:ln w="176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7" name=""/>
          <p:cNvGrpSpPr/>
          <p:nvPr/>
        </p:nvGrpSpPr>
        <p:grpSpPr>
          <a:xfrm>
            <a:off x="1619280" y="3618000"/>
            <a:ext cx="193680" cy="1407960"/>
            <a:chOff x="1619280" y="3618000"/>
            <a:chExt cx="193680" cy="1407960"/>
          </a:xfrm>
        </p:grpSpPr>
        <p:sp>
          <p:nvSpPr>
            <p:cNvPr id="4038" name=""/>
            <p:cNvSpPr/>
            <p:nvPr/>
          </p:nvSpPr>
          <p:spPr>
            <a:xfrm>
              <a:off x="1708200" y="3618000"/>
              <a:ext cx="1440" cy="126828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619280" y="4849920"/>
              <a:ext cx="193680" cy="17604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0"/>
                  </a:moveTo>
                  <a:lnTo>
                    <a:pt x="56" y="111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0" name=""/>
          <p:cNvSpPr/>
          <p:nvPr/>
        </p:nvSpPr>
        <p:spPr>
          <a:xfrm>
            <a:off x="720720" y="2295360"/>
            <a:ext cx="24494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1" name=""/>
          <p:cNvGrpSpPr/>
          <p:nvPr/>
        </p:nvGrpSpPr>
        <p:grpSpPr>
          <a:xfrm>
            <a:off x="2165400" y="3635280"/>
            <a:ext cx="193680" cy="1427400"/>
            <a:chOff x="2165400" y="3635280"/>
            <a:chExt cx="193680" cy="1427400"/>
          </a:xfrm>
        </p:grpSpPr>
        <p:sp>
          <p:nvSpPr>
            <p:cNvPr id="4042" name=""/>
            <p:cNvSpPr/>
            <p:nvPr/>
          </p:nvSpPr>
          <p:spPr>
            <a:xfrm>
              <a:off x="2254320" y="3635280"/>
              <a:ext cx="1440" cy="126864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165400" y="48690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0"/>
                  </a:moveTo>
                  <a:lnTo>
                    <a:pt x="67" y="122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"/>
          <p:cNvGrpSpPr/>
          <p:nvPr/>
        </p:nvGrpSpPr>
        <p:grpSpPr>
          <a:xfrm>
            <a:off x="2747880" y="3670200"/>
            <a:ext cx="193680" cy="1427400"/>
            <a:chOff x="2747880" y="3670200"/>
            <a:chExt cx="193680" cy="1427400"/>
          </a:xfrm>
        </p:grpSpPr>
        <p:sp>
          <p:nvSpPr>
            <p:cNvPr id="4045" name=""/>
            <p:cNvSpPr/>
            <p:nvPr/>
          </p:nvSpPr>
          <p:spPr>
            <a:xfrm>
              <a:off x="2835360" y="3670200"/>
              <a:ext cx="1440" cy="1268640"/>
            </a:xfrm>
            <a:prstGeom prst="line">
              <a:avLst/>
            </a:prstGeom>
            <a:ln cap="rnd" w="176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747880" y="49039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0"/>
                  </a:moveTo>
                  <a:lnTo>
                    <a:pt x="55" y="122"/>
                  </a:lnTo>
                  <a:lnTo>
                    <a:pt x="1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7" name=""/>
          <p:cNvSpPr/>
          <p:nvPr/>
        </p:nvSpPr>
        <p:spPr>
          <a:xfrm>
            <a:off x="1162080" y="4973760"/>
            <a:ext cx="2219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1566720" y="3071880"/>
            <a:ext cx="1462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3575160" y="2295360"/>
            <a:ext cx="5040360" cy="3665880"/>
          </a:xfrm>
          <a:custGeom>
            <a:avLst/>
            <a:gdLst/>
            <a:ahLst/>
            <a:rect l="l" t="t" r="r" b="b"/>
            <a:pathLst>
              <a:path w="3175" h="2309">
                <a:moveTo>
                  <a:pt x="333" y="0"/>
                </a:moveTo>
                <a:lnTo>
                  <a:pt x="333" y="389"/>
                </a:lnTo>
                <a:lnTo>
                  <a:pt x="0" y="1055"/>
                </a:lnTo>
                <a:lnTo>
                  <a:pt x="333" y="966"/>
                </a:lnTo>
                <a:lnTo>
                  <a:pt x="333" y="2309"/>
                </a:lnTo>
                <a:lnTo>
                  <a:pt x="811" y="2309"/>
                </a:lnTo>
                <a:lnTo>
                  <a:pt x="811" y="2309"/>
                </a:lnTo>
                <a:lnTo>
                  <a:pt x="1521" y="2309"/>
                </a:lnTo>
                <a:lnTo>
                  <a:pt x="3175" y="2309"/>
                </a:lnTo>
                <a:lnTo>
                  <a:pt x="3175" y="966"/>
                </a:lnTo>
                <a:lnTo>
                  <a:pt x="3175" y="389"/>
                </a:lnTo>
                <a:lnTo>
                  <a:pt x="3175" y="389"/>
                </a:lnTo>
                <a:lnTo>
                  <a:pt x="3175" y="0"/>
                </a:lnTo>
                <a:lnTo>
                  <a:pt x="1521" y="0"/>
                </a:lnTo>
                <a:lnTo>
                  <a:pt x="811" y="0"/>
                </a:lnTo>
                <a:lnTo>
                  <a:pt x="811" y="0"/>
                </a:lnTo>
                <a:lnTo>
                  <a:pt x="333" y="0"/>
                </a:lnTo>
                <a:close/>
              </a:path>
            </a:pathLst>
          </a:custGeom>
          <a:solidFill>
            <a:srgbClr val="ffffff"/>
          </a:solidFill>
          <a:ln cap="rnd"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0" name="" descr=""/>
          <p:cNvPicPr/>
          <p:nvPr/>
        </p:nvPicPr>
        <p:blipFill>
          <a:blip r:embed="rId5"/>
          <a:stretch/>
        </p:blipFill>
        <p:spPr>
          <a:xfrm>
            <a:off x="4227480" y="3052800"/>
            <a:ext cx="4307040" cy="2735280"/>
          </a:xfrm>
          <a:prstGeom prst="rect">
            <a:avLst/>
          </a:prstGeom>
          <a:ln w="0">
            <a:noFill/>
          </a:ln>
        </p:spPr>
      </p:pic>
      <p:sp>
        <p:nvSpPr>
          <p:cNvPr id="4051" name=""/>
          <p:cNvSpPr/>
          <p:nvPr/>
        </p:nvSpPr>
        <p:spPr>
          <a:xfrm>
            <a:off x="7178760" y="5256360"/>
            <a:ext cx="1173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7288560" y="5327640"/>
            <a:ext cx="34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cc"/>
                </a:solidFill>
                <a:latin typeface="Times New Roman"/>
              </a:rPr>
              <a:t>P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7753680" y="5340240"/>
            <a:ext cx="35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99ffcc"/>
                </a:solidFill>
                <a:latin typeface="ＭＳ Ｐゴシック"/>
              </a:rPr>
              <a:t>基板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4684680" y="3089160"/>
            <a:ext cx="1123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4973040" y="318600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66"/>
                </a:solidFill>
                <a:latin typeface="ＭＳ Ｐゴシック"/>
              </a:rPr>
              <a:t>最表面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6043320" y="3355560"/>
            <a:ext cx="308160" cy="314640"/>
            <a:chOff x="6043320" y="3355560"/>
            <a:chExt cx="308160" cy="314640"/>
          </a:xfrm>
        </p:grpSpPr>
        <p:sp>
          <p:nvSpPr>
            <p:cNvPr id="4057" name=""/>
            <p:cNvSpPr/>
            <p:nvPr/>
          </p:nvSpPr>
          <p:spPr>
            <a:xfrm flipH="1" flipV="1">
              <a:off x="6043320" y="3355560"/>
              <a:ext cx="245880" cy="24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215040" y="352584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61"/>
                  </a:moveTo>
                  <a:lnTo>
                    <a:pt x="86" y="91"/>
                  </a:lnTo>
                  <a:lnTo>
                    <a:pt x="63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9" name=""/>
          <p:cNvSpPr/>
          <p:nvPr/>
        </p:nvSpPr>
        <p:spPr>
          <a:xfrm flipH="1">
            <a:off x="5721480" y="3355920"/>
            <a:ext cx="30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6994440" y="4251240"/>
            <a:ext cx="1135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7104960" y="4324320"/>
            <a:ext cx="586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a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2" name=""/>
          <p:cNvGrpSpPr/>
          <p:nvPr/>
        </p:nvGrpSpPr>
        <p:grpSpPr>
          <a:xfrm>
            <a:off x="5931000" y="4081320"/>
            <a:ext cx="704880" cy="677880"/>
            <a:chOff x="5931000" y="4081320"/>
            <a:chExt cx="704880" cy="677880"/>
          </a:xfrm>
        </p:grpSpPr>
        <p:sp>
          <p:nvSpPr>
            <p:cNvPr id="4063" name=""/>
            <p:cNvSpPr/>
            <p:nvPr/>
          </p:nvSpPr>
          <p:spPr>
            <a:xfrm>
              <a:off x="6043680" y="4191120"/>
              <a:ext cx="592200" cy="568080"/>
            </a:xfrm>
            <a:prstGeom prst="line">
              <a:avLst/>
            </a:prstGeom>
            <a:ln w="0">
              <a:solidFill>
                <a:srgbClr val="99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931000" y="4081320"/>
              <a:ext cx="185760" cy="182880"/>
            </a:xfrm>
            <a:custGeom>
              <a:avLst/>
              <a:gdLst/>
              <a:ahLst/>
              <a:rect l="l" t="t" r="r" b="b"/>
              <a:pathLst>
                <a:path w="117" h="115">
                  <a:moveTo>
                    <a:pt x="117" y="77"/>
                  </a:moveTo>
                  <a:lnTo>
                    <a:pt x="0" y="0"/>
                  </a:lnTo>
                  <a:lnTo>
                    <a:pt x="78" y="115"/>
                  </a:lnTo>
                  <a:lnTo>
                    <a:pt x="117" y="77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5" name=""/>
          <p:cNvSpPr/>
          <p:nvPr/>
        </p:nvSpPr>
        <p:spPr>
          <a:xfrm>
            <a:off x="6488280" y="4699080"/>
            <a:ext cx="579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6609240" y="4772160"/>
            <a:ext cx="34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cc"/>
                </a:solidFill>
                <a:latin typeface="Times New Roman"/>
              </a:rPr>
              <a:t>P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7" name=""/>
          <p:cNvGrpSpPr/>
          <p:nvPr/>
        </p:nvGrpSpPr>
        <p:grpSpPr>
          <a:xfrm>
            <a:off x="6573960" y="3840120"/>
            <a:ext cx="519120" cy="496800"/>
            <a:chOff x="6573960" y="3840120"/>
            <a:chExt cx="519120" cy="496800"/>
          </a:xfrm>
        </p:grpSpPr>
        <p:sp>
          <p:nvSpPr>
            <p:cNvPr id="4068" name=""/>
            <p:cNvSpPr/>
            <p:nvPr/>
          </p:nvSpPr>
          <p:spPr>
            <a:xfrm>
              <a:off x="6684840" y="3936960"/>
              <a:ext cx="408240" cy="399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6573960" y="3840120"/>
              <a:ext cx="18576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7" y="69"/>
                  </a:moveTo>
                  <a:lnTo>
                    <a:pt x="0" y="0"/>
                  </a:lnTo>
                  <a:lnTo>
                    <a:pt x="78" y="107"/>
                  </a:lnTo>
                  <a:lnTo>
                    <a:pt x="117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" descr=""/>
          <p:cNvPicPr/>
          <p:nvPr/>
        </p:nvPicPr>
        <p:blipFill>
          <a:blip r:embed="rId6"/>
          <a:stretch/>
        </p:blipFill>
        <p:spPr>
          <a:xfrm>
            <a:off x="4227480" y="3052800"/>
            <a:ext cx="4307040" cy="2735280"/>
          </a:xfrm>
          <a:prstGeom prst="rect">
            <a:avLst/>
          </a:prstGeom>
          <a:ln w="0">
            <a:noFill/>
          </a:ln>
        </p:spPr>
      </p:pic>
      <p:sp>
        <p:nvSpPr>
          <p:cNvPr id="4071" name=""/>
          <p:cNvSpPr/>
          <p:nvPr/>
        </p:nvSpPr>
        <p:spPr>
          <a:xfrm>
            <a:off x="7178760" y="5256360"/>
            <a:ext cx="11732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6855480" y="5364000"/>
            <a:ext cx="1570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cc"/>
                </a:solidFill>
                <a:latin typeface="Times New Roman"/>
              </a:rPr>
              <a:t>Pd substr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4684680" y="3089160"/>
            <a:ext cx="1123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4" name=""/>
          <p:cNvGrpSpPr/>
          <p:nvPr/>
        </p:nvGrpSpPr>
        <p:grpSpPr>
          <a:xfrm>
            <a:off x="6043320" y="3355560"/>
            <a:ext cx="308160" cy="314640"/>
            <a:chOff x="6043320" y="3355560"/>
            <a:chExt cx="308160" cy="314640"/>
          </a:xfrm>
        </p:grpSpPr>
        <p:sp>
          <p:nvSpPr>
            <p:cNvPr id="4075" name=""/>
            <p:cNvSpPr/>
            <p:nvPr/>
          </p:nvSpPr>
          <p:spPr>
            <a:xfrm flipH="1" flipV="1">
              <a:off x="6043320" y="3355560"/>
              <a:ext cx="245880" cy="24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215040" y="352584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0" y="61"/>
                  </a:moveTo>
                  <a:lnTo>
                    <a:pt x="86" y="91"/>
                  </a:lnTo>
                  <a:lnTo>
                    <a:pt x="63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7" name=""/>
          <p:cNvSpPr/>
          <p:nvPr/>
        </p:nvSpPr>
        <p:spPr>
          <a:xfrm flipH="1">
            <a:off x="5721480" y="3355920"/>
            <a:ext cx="30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6994440" y="4251240"/>
            <a:ext cx="1135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7104960" y="4324320"/>
            <a:ext cx="586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a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0" name=""/>
          <p:cNvGrpSpPr/>
          <p:nvPr/>
        </p:nvGrpSpPr>
        <p:grpSpPr>
          <a:xfrm>
            <a:off x="5931000" y="4081320"/>
            <a:ext cx="704880" cy="677880"/>
            <a:chOff x="5931000" y="4081320"/>
            <a:chExt cx="704880" cy="677880"/>
          </a:xfrm>
        </p:grpSpPr>
        <p:sp>
          <p:nvSpPr>
            <p:cNvPr id="4081" name=""/>
            <p:cNvSpPr/>
            <p:nvPr/>
          </p:nvSpPr>
          <p:spPr>
            <a:xfrm>
              <a:off x="6043680" y="4191120"/>
              <a:ext cx="592200" cy="568080"/>
            </a:xfrm>
            <a:prstGeom prst="line">
              <a:avLst/>
            </a:prstGeom>
            <a:ln w="0">
              <a:solidFill>
                <a:srgbClr val="99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5931000" y="4081320"/>
              <a:ext cx="185760" cy="182880"/>
            </a:xfrm>
            <a:custGeom>
              <a:avLst/>
              <a:gdLst/>
              <a:ahLst/>
              <a:rect l="l" t="t" r="r" b="b"/>
              <a:pathLst>
                <a:path w="117" h="115">
                  <a:moveTo>
                    <a:pt x="117" y="77"/>
                  </a:moveTo>
                  <a:lnTo>
                    <a:pt x="0" y="0"/>
                  </a:lnTo>
                  <a:lnTo>
                    <a:pt x="78" y="115"/>
                  </a:lnTo>
                  <a:lnTo>
                    <a:pt x="117" y="77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3" name=""/>
          <p:cNvSpPr/>
          <p:nvPr/>
        </p:nvSpPr>
        <p:spPr>
          <a:xfrm>
            <a:off x="6488280" y="4699080"/>
            <a:ext cx="579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6609240" y="4772160"/>
            <a:ext cx="34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ffcc"/>
                </a:solidFill>
                <a:latin typeface="Times New Roman"/>
              </a:rPr>
              <a:t>P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5" name=""/>
          <p:cNvGrpSpPr/>
          <p:nvPr/>
        </p:nvGrpSpPr>
        <p:grpSpPr>
          <a:xfrm>
            <a:off x="6573960" y="3840120"/>
            <a:ext cx="519120" cy="496800"/>
            <a:chOff x="6573960" y="3840120"/>
            <a:chExt cx="519120" cy="496800"/>
          </a:xfrm>
        </p:grpSpPr>
        <p:sp>
          <p:nvSpPr>
            <p:cNvPr id="4086" name=""/>
            <p:cNvSpPr/>
            <p:nvPr/>
          </p:nvSpPr>
          <p:spPr>
            <a:xfrm>
              <a:off x="6684840" y="3936960"/>
              <a:ext cx="408240" cy="399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573960" y="3840120"/>
              <a:ext cx="18576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117" y="69"/>
                  </a:moveTo>
                  <a:lnTo>
                    <a:pt x="0" y="0"/>
                  </a:lnTo>
                  <a:lnTo>
                    <a:pt x="78" y="107"/>
                  </a:lnTo>
                  <a:lnTo>
                    <a:pt x="117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8" name=""/>
          <p:cNvSpPr/>
          <p:nvPr/>
        </p:nvSpPr>
        <p:spPr>
          <a:xfrm>
            <a:off x="6933600" y="4724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4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5175360" y="42530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7716240" y="424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2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152388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Fl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1680480" y="57913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1715400" y="2362320"/>
            <a:ext cx="93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1066680" y="2895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Perm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4677120" y="3124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4114800" y="237636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oss Section of Pd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>
            <a:off x="123840" y="342900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5050"/>
                </a:solidFill>
                <a:latin typeface="Times New Roman"/>
              </a:rPr>
              <a:t>Cs,B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B7F-DA81-476C-9A93-9E764108357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8" name=""/>
          <p:cNvGrpSpPr/>
          <p:nvPr/>
        </p:nvGrpSpPr>
        <p:grpSpPr>
          <a:xfrm>
            <a:off x="755280" y="260280"/>
            <a:ext cx="8388720" cy="6191280"/>
            <a:chOff x="755280" y="260280"/>
            <a:chExt cx="8388720" cy="6191280"/>
          </a:xfrm>
        </p:grpSpPr>
        <p:sp>
          <p:nvSpPr>
            <p:cNvPr id="4099" name=""/>
            <p:cNvSpPr/>
            <p:nvPr/>
          </p:nvSpPr>
          <p:spPr>
            <a:xfrm flipH="1">
              <a:off x="755280" y="48690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62120" y="2124000"/>
              <a:ext cx="627120" cy="2803680"/>
            </a:xfrm>
            <a:custGeom>
              <a:avLst/>
              <a:gdLst/>
              <a:ahLst/>
              <a:rect l="l" t="t" r="r" b="b"/>
              <a:pathLst>
                <a:path w="395" h="1766">
                  <a:moveTo>
                    <a:pt x="48" y="24"/>
                  </a:moveTo>
                  <a:cubicBezTo>
                    <a:pt x="45" y="292"/>
                    <a:pt x="52" y="383"/>
                    <a:pt x="30" y="582"/>
                  </a:cubicBezTo>
                  <a:cubicBezTo>
                    <a:pt x="29" y="706"/>
                    <a:pt x="50" y="1113"/>
                    <a:pt x="0" y="1314"/>
                  </a:cubicBezTo>
                  <a:cubicBezTo>
                    <a:pt x="7" y="1381"/>
                    <a:pt x="0" y="1351"/>
                    <a:pt x="18" y="1404"/>
                  </a:cubicBezTo>
                  <a:cubicBezTo>
                    <a:pt x="22" y="1416"/>
                    <a:pt x="30" y="1440"/>
                    <a:pt x="30" y="1440"/>
                  </a:cubicBezTo>
                  <a:cubicBezTo>
                    <a:pt x="32" y="1498"/>
                    <a:pt x="33" y="1556"/>
                    <a:pt x="36" y="1614"/>
                  </a:cubicBezTo>
                  <a:cubicBezTo>
                    <a:pt x="44" y="1766"/>
                    <a:pt x="61" y="1721"/>
                    <a:pt x="234" y="1728"/>
                  </a:cubicBezTo>
                  <a:cubicBezTo>
                    <a:pt x="278" y="1726"/>
                    <a:pt x="324" y="1737"/>
                    <a:pt x="366" y="1722"/>
                  </a:cubicBezTo>
                  <a:cubicBezTo>
                    <a:pt x="378" y="1718"/>
                    <a:pt x="354" y="1686"/>
                    <a:pt x="354" y="1686"/>
                  </a:cubicBezTo>
                  <a:cubicBezTo>
                    <a:pt x="351" y="1611"/>
                    <a:pt x="353" y="1546"/>
                    <a:pt x="330" y="1476"/>
                  </a:cubicBezTo>
                  <a:cubicBezTo>
                    <a:pt x="326" y="1389"/>
                    <a:pt x="326" y="1356"/>
                    <a:pt x="318" y="1278"/>
                  </a:cubicBezTo>
                  <a:cubicBezTo>
                    <a:pt x="313" y="1224"/>
                    <a:pt x="315" y="1240"/>
                    <a:pt x="300" y="1194"/>
                  </a:cubicBezTo>
                  <a:cubicBezTo>
                    <a:pt x="298" y="1188"/>
                    <a:pt x="294" y="1176"/>
                    <a:pt x="294" y="1176"/>
                  </a:cubicBezTo>
                  <a:cubicBezTo>
                    <a:pt x="296" y="1140"/>
                    <a:pt x="296" y="1104"/>
                    <a:pt x="300" y="1068"/>
                  </a:cubicBezTo>
                  <a:cubicBezTo>
                    <a:pt x="304" y="1040"/>
                    <a:pt x="332" y="953"/>
                    <a:pt x="342" y="924"/>
                  </a:cubicBezTo>
                  <a:cubicBezTo>
                    <a:pt x="356" y="795"/>
                    <a:pt x="355" y="670"/>
                    <a:pt x="336" y="540"/>
                  </a:cubicBezTo>
                  <a:cubicBezTo>
                    <a:pt x="342" y="522"/>
                    <a:pt x="348" y="504"/>
                    <a:pt x="354" y="486"/>
                  </a:cubicBezTo>
                  <a:cubicBezTo>
                    <a:pt x="356" y="480"/>
                    <a:pt x="360" y="468"/>
                    <a:pt x="360" y="468"/>
                  </a:cubicBezTo>
                  <a:cubicBezTo>
                    <a:pt x="364" y="426"/>
                    <a:pt x="368" y="384"/>
                    <a:pt x="372" y="342"/>
                  </a:cubicBezTo>
                  <a:cubicBezTo>
                    <a:pt x="374" y="318"/>
                    <a:pt x="378" y="270"/>
                    <a:pt x="378" y="270"/>
                  </a:cubicBezTo>
                  <a:cubicBezTo>
                    <a:pt x="376" y="226"/>
                    <a:pt x="395" y="83"/>
                    <a:pt x="342" y="48"/>
                  </a:cubicBezTo>
                  <a:cubicBezTo>
                    <a:pt x="313" y="5"/>
                    <a:pt x="332" y="9"/>
                    <a:pt x="294" y="18"/>
                  </a:cubicBezTo>
                  <a:cubicBezTo>
                    <a:pt x="246" y="12"/>
                    <a:pt x="198" y="5"/>
                    <a:pt x="150" y="0"/>
                  </a:cubicBezTo>
                  <a:cubicBezTo>
                    <a:pt x="89" y="8"/>
                    <a:pt x="117" y="1"/>
                    <a:pt x="66" y="18"/>
                  </a:cubicBezTo>
                  <a:cubicBezTo>
                    <a:pt x="60" y="20"/>
                    <a:pt x="48" y="24"/>
                    <a:pt x="48" y="24"/>
                  </a:cubicBezTo>
                  <a:close/>
                </a:path>
              </a:pathLst>
            </a:cu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851280" y="566100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4859280" y="5587920"/>
              <a:ext cx="432000" cy="432000"/>
            </a:xfrm>
            <a:prstGeom prst="ellipse">
              <a:avLst/>
            </a:prstGeom>
            <a:solidFill>
              <a:srgbClr val="46a444"/>
            </a:solidFill>
            <a:ln w="9360">
              <a:solidFill>
                <a:srgbClr val="46a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940360" y="573264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3780000" y="6164280"/>
              <a:ext cx="431640" cy="28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4859280" y="6164280"/>
              <a:ext cx="432000" cy="28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796000" y="6164280"/>
              <a:ext cx="431640" cy="28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V="1">
              <a:off x="2411280" y="1700280"/>
              <a:ext cx="13687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411280" y="3429000"/>
              <a:ext cx="1152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826560" y="22050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393920" y="2185920"/>
              <a:ext cx="1035000" cy="2781360"/>
            </a:xfrm>
            <a:custGeom>
              <a:avLst/>
              <a:gdLst/>
              <a:ahLst/>
              <a:rect l="l" t="t" r="r" b="b"/>
              <a:pathLst>
                <a:path w="652" h="1752">
                  <a:moveTo>
                    <a:pt x="16" y="1734"/>
                  </a:moveTo>
                  <a:cubicBezTo>
                    <a:pt x="22" y="1705"/>
                    <a:pt x="41" y="1686"/>
                    <a:pt x="28" y="1656"/>
                  </a:cubicBezTo>
                  <a:cubicBezTo>
                    <a:pt x="22" y="1643"/>
                    <a:pt x="4" y="1620"/>
                    <a:pt x="4" y="1620"/>
                  </a:cubicBezTo>
                  <a:cubicBezTo>
                    <a:pt x="9" y="1593"/>
                    <a:pt x="15" y="1569"/>
                    <a:pt x="22" y="1542"/>
                  </a:cubicBezTo>
                  <a:cubicBezTo>
                    <a:pt x="27" y="1390"/>
                    <a:pt x="44" y="1238"/>
                    <a:pt x="22" y="1086"/>
                  </a:cubicBezTo>
                  <a:cubicBezTo>
                    <a:pt x="27" y="944"/>
                    <a:pt x="23" y="782"/>
                    <a:pt x="46" y="642"/>
                  </a:cubicBezTo>
                  <a:cubicBezTo>
                    <a:pt x="39" y="577"/>
                    <a:pt x="32" y="516"/>
                    <a:pt x="28" y="450"/>
                  </a:cubicBezTo>
                  <a:cubicBezTo>
                    <a:pt x="36" y="314"/>
                    <a:pt x="46" y="178"/>
                    <a:pt x="52" y="42"/>
                  </a:cubicBezTo>
                  <a:cubicBezTo>
                    <a:pt x="98" y="73"/>
                    <a:pt x="48" y="29"/>
                    <a:pt x="40" y="24"/>
                  </a:cubicBezTo>
                  <a:cubicBezTo>
                    <a:pt x="77" y="12"/>
                    <a:pt x="110" y="12"/>
                    <a:pt x="148" y="18"/>
                  </a:cubicBezTo>
                  <a:cubicBezTo>
                    <a:pt x="213" y="16"/>
                    <a:pt x="306" y="23"/>
                    <a:pt x="376" y="0"/>
                  </a:cubicBezTo>
                  <a:cubicBezTo>
                    <a:pt x="421" y="4"/>
                    <a:pt x="450" y="5"/>
                    <a:pt x="490" y="18"/>
                  </a:cubicBezTo>
                  <a:cubicBezTo>
                    <a:pt x="518" y="16"/>
                    <a:pt x="546" y="15"/>
                    <a:pt x="574" y="12"/>
                  </a:cubicBezTo>
                  <a:cubicBezTo>
                    <a:pt x="580" y="11"/>
                    <a:pt x="586" y="5"/>
                    <a:pt x="592" y="6"/>
                  </a:cubicBezTo>
                  <a:cubicBezTo>
                    <a:pt x="605" y="7"/>
                    <a:pt x="628" y="18"/>
                    <a:pt x="628" y="18"/>
                  </a:cubicBezTo>
                  <a:cubicBezTo>
                    <a:pt x="635" y="38"/>
                    <a:pt x="639" y="58"/>
                    <a:pt x="646" y="78"/>
                  </a:cubicBezTo>
                  <a:cubicBezTo>
                    <a:pt x="638" y="111"/>
                    <a:pt x="633" y="135"/>
                    <a:pt x="640" y="168"/>
                  </a:cubicBezTo>
                  <a:cubicBezTo>
                    <a:pt x="638" y="184"/>
                    <a:pt x="638" y="200"/>
                    <a:pt x="634" y="216"/>
                  </a:cubicBezTo>
                  <a:cubicBezTo>
                    <a:pt x="632" y="223"/>
                    <a:pt x="622" y="227"/>
                    <a:pt x="622" y="234"/>
                  </a:cubicBezTo>
                  <a:cubicBezTo>
                    <a:pt x="622" y="247"/>
                    <a:pt x="636" y="257"/>
                    <a:pt x="640" y="270"/>
                  </a:cubicBezTo>
                  <a:cubicBezTo>
                    <a:pt x="603" y="282"/>
                    <a:pt x="629" y="288"/>
                    <a:pt x="640" y="312"/>
                  </a:cubicBezTo>
                  <a:cubicBezTo>
                    <a:pt x="645" y="324"/>
                    <a:pt x="652" y="348"/>
                    <a:pt x="652" y="348"/>
                  </a:cubicBezTo>
                  <a:cubicBezTo>
                    <a:pt x="623" y="367"/>
                    <a:pt x="634" y="393"/>
                    <a:pt x="616" y="420"/>
                  </a:cubicBezTo>
                  <a:cubicBezTo>
                    <a:pt x="628" y="456"/>
                    <a:pt x="649" y="531"/>
                    <a:pt x="604" y="546"/>
                  </a:cubicBezTo>
                  <a:cubicBezTo>
                    <a:pt x="620" y="595"/>
                    <a:pt x="614" y="569"/>
                    <a:pt x="622" y="624"/>
                  </a:cubicBezTo>
                  <a:cubicBezTo>
                    <a:pt x="613" y="650"/>
                    <a:pt x="606" y="660"/>
                    <a:pt x="622" y="684"/>
                  </a:cubicBezTo>
                  <a:cubicBezTo>
                    <a:pt x="632" y="724"/>
                    <a:pt x="630" y="700"/>
                    <a:pt x="616" y="756"/>
                  </a:cubicBezTo>
                  <a:cubicBezTo>
                    <a:pt x="614" y="764"/>
                    <a:pt x="610" y="780"/>
                    <a:pt x="610" y="780"/>
                  </a:cubicBezTo>
                  <a:cubicBezTo>
                    <a:pt x="631" y="794"/>
                    <a:pt x="638" y="804"/>
                    <a:pt x="646" y="828"/>
                  </a:cubicBezTo>
                  <a:cubicBezTo>
                    <a:pt x="638" y="840"/>
                    <a:pt x="630" y="852"/>
                    <a:pt x="622" y="864"/>
                  </a:cubicBezTo>
                  <a:cubicBezTo>
                    <a:pt x="594" y="906"/>
                    <a:pt x="626" y="972"/>
                    <a:pt x="598" y="1014"/>
                  </a:cubicBezTo>
                  <a:cubicBezTo>
                    <a:pt x="611" y="1065"/>
                    <a:pt x="600" y="1128"/>
                    <a:pt x="628" y="1170"/>
                  </a:cubicBezTo>
                  <a:cubicBezTo>
                    <a:pt x="624" y="1184"/>
                    <a:pt x="614" y="1198"/>
                    <a:pt x="616" y="1212"/>
                  </a:cubicBezTo>
                  <a:cubicBezTo>
                    <a:pt x="618" y="1225"/>
                    <a:pt x="630" y="1235"/>
                    <a:pt x="634" y="1248"/>
                  </a:cubicBezTo>
                  <a:cubicBezTo>
                    <a:pt x="627" y="1281"/>
                    <a:pt x="621" y="1292"/>
                    <a:pt x="628" y="1326"/>
                  </a:cubicBezTo>
                  <a:cubicBezTo>
                    <a:pt x="623" y="1358"/>
                    <a:pt x="611" y="1372"/>
                    <a:pt x="628" y="1398"/>
                  </a:cubicBezTo>
                  <a:cubicBezTo>
                    <a:pt x="625" y="1433"/>
                    <a:pt x="609" y="1471"/>
                    <a:pt x="628" y="1500"/>
                  </a:cubicBezTo>
                  <a:cubicBezTo>
                    <a:pt x="625" y="1518"/>
                    <a:pt x="616" y="1536"/>
                    <a:pt x="616" y="1554"/>
                  </a:cubicBezTo>
                  <a:cubicBezTo>
                    <a:pt x="616" y="1578"/>
                    <a:pt x="630" y="1614"/>
                    <a:pt x="634" y="1638"/>
                  </a:cubicBezTo>
                  <a:cubicBezTo>
                    <a:pt x="621" y="1677"/>
                    <a:pt x="622" y="1728"/>
                    <a:pt x="586" y="1752"/>
                  </a:cubicBezTo>
                  <a:cubicBezTo>
                    <a:pt x="541" y="1737"/>
                    <a:pt x="566" y="1732"/>
                    <a:pt x="508" y="1740"/>
                  </a:cubicBezTo>
                  <a:cubicBezTo>
                    <a:pt x="482" y="1749"/>
                    <a:pt x="474" y="1741"/>
                    <a:pt x="466" y="1716"/>
                  </a:cubicBezTo>
                  <a:cubicBezTo>
                    <a:pt x="452" y="1718"/>
                    <a:pt x="438" y="1721"/>
                    <a:pt x="424" y="1722"/>
                  </a:cubicBezTo>
                  <a:cubicBezTo>
                    <a:pt x="390" y="1725"/>
                    <a:pt x="356" y="1724"/>
                    <a:pt x="322" y="1728"/>
                  </a:cubicBezTo>
                  <a:cubicBezTo>
                    <a:pt x="309" y="1730"/>
                    <a:pt x="286" y="1740"/>
                    <a:pt x="286" y="1740"/>
                  </a:cubicBezTo>
                  <a:cubicBezTo>
                    <a:pt x="268" y="1738"/>
                    <a:pt x="250" y="1738"/>
                    <a:pt x="232" y="1734"/>
                  </a:cubicBezTo>
                  <a:cubicBezTo>
                    <a:pt x="225" y="1732"/>
                    <a:pt x="221" y="1723"/>
                    <a:pt x="214" y="1722"/>
                  </a:cubicBezTo>
                  <a:cubicBezTo>
                    <a:pt x="202" y="1721"/>
                    <a:pt x="190" y="1725"/>
                    <a:pt x="178" y="1728"/>
                  </a:cubicBezTo>
                  <a:cubicBezTo>
                    <a:pt x="166" y="1731"/>
                    <a:pt x="142" y="1740"/>
                    <a:pt x="142" y="1740"/>
                  </a:cubicBezTo>
                  <a:cubicBezTo>
                    <a:pt x="110" y="1738"/>
                    <a:pt x="78" y="1734"/>
                    <a:pt x="46" y="1734"/>
                  </a:cubicBezTo>
                  <a:cubicBezTo>
                    <a:pt x="14" y="1734"/>
                    <a:pt x="0" y="1750"/>
                    <a:pt x="16" y="1734"/>
                  </a:cubicBezTo>
                  <a:close/>
                </a:path>
              </a:pathLst>
            </a:cu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228680" y="2193840"/>
              <a:ext cx="239760" cy="2770200"/>
            </a:xfrm>
            <a:custGeom>
              <a:avLst/>
              <a:gdLst/>
              <a:ahLst/>
              <a:rect l="l" t="t" r="r" b="b"/>
              <a:pathLst>
                <a:path w="151" h="1745">
                  <a:moveTo>
                    <a:pt x="72" y="19"/>
                  </a:moveTo>
                  <a:cubicBezTo>
                    <a:pt x="58" y="61"/>
                    <a:pt x="65" y="66"/>
                    <a:pt x="72" y="109"/>
                  </a:cubicBezTo>
                  <a:cubicBezTo>
                    <a:pt x="77" y="137"/>
                    <a:pt x="84" y="193"/>
                    <a:pt x="84" y="193"/>
                  </a:cubicBezTo>
                  <a:cubicBezTo>
                    <a:pt x="82" y="255"/>
                    <a:pt x="82" y="317"/>
                    <a:pt x="78" y="379"/>
                  </a:cubicBezTo>
                  <a:cubicBezTo>
                    <a:pt x="76" y="423"/>
                    <a:pt x="70" y="467"/>
                    <a:pt x="66" y="511"/>
                  </a:cubicBezTo>
                  <a:cubicBezTo>
                    <a:pt x="64" y="533"/>
                    <a:pt x="60" y="577"/>
                    <a:pt x="60" y="577"/>
                  </a:cubicBezTo>
                  <a:cubicBezTo>
                    <a:pt x="57" y="693"/>
                    <a:pt x="73" y="901"/>
                    <a:pt x="42" y="1015"/>
                  </a:cubicBezTo>
                  <a:cubicBezTo>
                    <a:pt x="34" y="1044"/>
                    <a:pt x="10" y="1070"/>
                    <a:pt x="0" y="1099"/>
                  </a:cubicBezTo>
                  <a:cubicBezTo>
                    <a:pt x="6" y="1145"/>
                    <a:pt x="19" y="1186"/>
                    <a:pt x="30" y="1231"/>
                  </a:cubicBezTo>
                  <a:cubicBezTo>
                    <a:pt x="34" y="1317"/>
                    <a:pt x="32" y="1406"/>
                    <a:pt x="60" y="1489"/>
                  </a:cubicBezTo>
                  <a:cubicBezTo>
                    <a:pt x="64" y="1573"/>
                    <a:pt x="50" y="1660"/>
                    <a:pt x="72" y="1741"/>
                  </a:cubicBezTo>
                  <a:cubicBezTo>
                    <a:pt x="73" y="1745"/>
                    <a:pt x="114" y="1731"/>
                    <a:pt x="120" y="1729"/>
                  </a:cubicBezTo>
                  <a:cubicBezTo>
                    <a:pt x="128" y="1704"/>
                    <a:pt x="122" y="1696"/>
                    <a:pt x="108" y="1675"/>
                  </a:cubicBezTo>
                  <a:cubicBezTo>
                    <a:pt x="111" y="1569"/>
                    <a:pt x="101" y="1487"/>
                    <a:pt x="132" y="1393"/>
                  </a:cubicBezTo>
                  <a:cubicBezTo>
                    <a:pt x="129" y="1291"/>
                    <a:pt x="104" y="1066"/>
                    <a:pt x="132" y="955"/>
                  </a:cubicBezTo>
                  <a:cubicBezTo>
                    <a:pt x="147" y="770"/>
                    <a:pt x="144" y="587"/>
                    <a:pt x="126" y="403"/>
                  </a:cubicBezTo>
                  <a:cubicBezTo>
                    <a:pt x="130" y="293"/>
                    <a:pt x="128" y="164"/>
                    <a:pt x="150" y="55"/>
                  </a:cubicBezTo>
                  <a:cubicBezTo>
                    <a:pt x="148" y="43"/>
                    <a:pt x="151" y="29"/>
                    <a:pt x="144" y="19"/>
                  </a:cubicBezTo>
                  <a:cubicBezTo>
                    <a:pt x="130" y="0"/>
                    <a:pt x="83" y="19"/>
                    <a:pt x="66" y="25"/>
                  </a:cubicBezTo>
                  <a:cubicBezTo>
                    <a:pt x="48" y="51"/>
                    <a:pt x="50" y="49"/>
                    <a:pt x="72" y="19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4356000" y="184464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4284720" y="2349360"/>
              <a:ext cx="288720" cy="28764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4211640" y="306864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211640" y="342900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932360" y="184464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932360" y="2349360"/>
              <a:ext cx="289080" cy="28764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932360" y="306864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932360" y="342900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284720" y="4221000"/>
              <a:ext cx="288720" cy="28764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932360" y="4221000"/>
              <a:ext cx="289080" cy="28764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508720" y="184464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508720" y="242100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508720" y="29955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508720" y="357192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508720" y="414828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012000" y="19875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012000" y="234792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012000" y="371628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012000" y="407664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300720" y="2060640"/>
              <a:ext cx="432000" cy="431640"/>
            </a:xfrm>
            <a:prstGeom prst="ellipse">
              <a:avLst/>
            </a:prstGeom>
            <a:solidFill>
              <a:srgbClr val="46a444"/>
            </a:solidFill>
            <a:ln w="9360">
              <a:solidFill>
                <a:srgbClr val="46a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300720" y="3787920"/>
              <a:ext cx="432000" cy="431640"/>
            </a:xfrm>
            <a:prstGeom prst="ellipse">
              <a:avLst/>
            </a:prstGeom>
            <a:solidFill>
              <a:srgbClr val="46a444"/>
            </a:solidFill>
            <a:ln w="9360">
              <a:solidFill>
                <a:srgbClr val="46a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5940360" y="33559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292720" y="33559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940360" y="285264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29272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71636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79600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148360" y="2781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643280" y="2997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796000" y="393228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148360" y="393372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716360" y="407664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6300720" y="277956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300720" y="3429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00680" y="2646360"/>
              <a:ext cx="839880" cy="1025640"/>
            </a:xfrm>
            <a:custGeom>
              <a:avLst/>
              <a:gdLst/>
              <a:ahLst/>
              <a:rect l="l" t="t" r="r" b="b"/>
              <a:pathLst>
                <a:path w="529" h="646">
                  <a:moveTo>
                    <a:pt x="18" y="142"/>
                  </a:moveTo>
                  <a:cubicBezTo>
                    <a:pt x="20" y="130"/>
                    <a:pt x="20" y="118"/>
                    <a:pt x="24" y="106"/>
                  </a:cubicBezTo>
                  <a:cubicBezTo>
                    <a:pt x="34" y="76"/>
                    <a:pt x="66" y="70"/>
                    <a:pt x="90" y="58"/>
                  </a:cubicBezTo>
                  <a:cubicBezTo>
                    <a:pt x="151" y="28"/>
                    <a:pt x="181" y="24"/>
                    <a:pt x="252" y="16"/>
                  </a:cubicBezTo>
                  <a:cubicBezTo>
                    <a:pt x="301" y="0"/>
                    <a:pt x="326" y="6"/>
                    <a:pt x="384" y="10"/>
                  </a:cubicBezTo>
                  <a:cubicBezTo>
                    <a:pt x="392" y="12"/>
                    <a:pt x="400" y="14"/>
                    <a:pt x="408" y="16"/>
                  </a:cubicBezTo>
                  <a:cubicBezTo>
                    <a:pt x="420" y="20"/>
                    <a:pt x="444" y="28"/>
                    <a:pt x="444" y="28"/>
                  </a:cubicBezTo>
                  <a:cubicBezTo>
                    <a:pt x="473" y="57"/>
                    <a:pt x="486" y="81"/>
                    <a:pt x="498" y="118"/>
                  </a:cubicBezTo>
                  <a:cubicBezTo>
                    <a:pt x="502" y="130"/>
                    <a:pt x="506" y="142"/>
                    <a:pt x="510" y="154"/>
                  </a:cubicBezTo>
                  <a:cubicBezTo>
                    <a:pt x="512" y="160"/>
                    <a:pt x="516" y="172"/>
                    <a:pt x="516" y="172"/>
                  </a:cubicBezTo>
                  <a:cubicBezTo>
                    <a:pt x="522" y="276"/>
                    <a:pt x="529" y="354"/>
                    <a:pt x="522" y="460"/>
                  </a:cubicBezTo>
                  <a:cubicBezTo>
                    <a:pt x="520" y="495"/>
                    <a:pt x="509" y="540"/>
                    <a:pt x="486" y="568"/>
                  </a:cubicBezTo>
                  <a:cubicBezTo>
                    <a:pt x="455" y="605"/>
                    <a:pt x="410" y="620"/>
                    <a:pt x="372" y="646"/>
                  </a:cubicBezTo>
                  <a:cubicBezTo>
                    <a:pt x="258" y="638"/>
                    <a:pt x="150" y="621"/>
                    <a:pt x="36" y="616"/>
                  </a:cubicBezTo>
                  <a:cubicBezTo>
                    <a:pt x="5" y="606"/>
                    <a:pt x="6" y="573"/>
                    <a:pt x="0" y="544"/>
                  </a:cubicBezTo>
                  <a:cubicBezTo>
                    <a:pt x="2" y="520"/>
                    <a:pt x="0" y="495"/>
                    <a:pt x="6" y="472"/>
                  </a:cubicBezTo>
                  <a:cubicBezTo>
                    <a:pt x="10" y="458"/>
                    <a:pt x="30" y="436"/>
                    <a:pt x="30" y="436"/>
                  </a:cubicBezTo>
                  <a:cubicBezTo>
                    <a:pt x="28" y="380"/>
                    <a:pt x="18" y="309"/>
                    <a:pt x="18" y="2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27640" y="1197000"/>
              <a:ext cx="64944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di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 flipV="1">
              <a:off x="6300720" y="1555560"/>
              <a:ext cx="1429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380360" y="2060640"/>
              <a:ext cx="91440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adat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804000" y="2205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308720" y="2781360"/>
              <a:ext cx="1584360" cy="863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rner-h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ngling-bo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6732720" y="3213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 flipH="1">
              <a:off x="6443280" y="2852640"/>
              <a:ext cx="289080" cy="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 flipH="1">
              <a:off x="6443280" y="3500280"/>
              <a:ext cx="289080" cy="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 flipH="1" flipV="1">
              <a:off x="6156000" y="3284280"/>
              <a:ext cx="144360" cy="14436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 flipH="1">
              <a:off x="6156000" y="2852640"/>
              <a:ext cx="144360" cy="142920"/>
            </a:xfrm>
            <a:prstGeom prst="line">
              <a:avLst/>
            </a:prstGeom>
            <a:ln w="93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258920" y="5661000"/>
              <a:ext cx="288720" cy="287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116000" y="6164280"/>
              <a:ext cx="647640" cy="287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Ca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042920" y="260280"/>
              <a:ext cx="3672000" cy="576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Image of Surfa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780000" y="414972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780000" y="35733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780000" y="29973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780000" y="242100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276720" y="35733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276720" y="299736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284720" y="393372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995640" y="33577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4284720" y="2781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06728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564000" y="33577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564000" y="393372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4500720" y="3213000"/>
              <a:ext cx="431640" cy="432000"/>
            </a:xfrm>
            <a:prstGeom prst="ellipse">
              <a:avLst/>
            </a:prstGeom>
            <a:solidFill>
              <a:srgbClr val="46a444"/>
            </a:solidFill>
            <a:ln w="9360">
              <a:solidFill>
                <a:srgbClr val="46a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643280" y="371628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716360" y="2637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564000" y="2781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276720" y="242100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276720" y="414972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771640" y="299736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771640" y="3573360"/>
              <a:ext cx="28908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780000" y="1844640"/>
              <a:ext cx="288720" cy="287280"/>
            </a:xfrm>
            <a:prstGeom prst="ellipse">
              <a:avLst/>
            </a:prstGeom>
            <a:solidFill>
              <a:srgbClr val="c44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3132000" y="335772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132000" y="3933720"/>
              <a:ext cx="142920" cy="14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132000" y="278136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564000" y="2205000"/>
              <a:ext cx="142920" cy="14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564000" y="472428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780000" y="1700280"/>
              <a:ext cx="21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300720" y="4292640"/>
              <a:ext cx="284328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910c6"/>
                  </a:solidFill>
                  <a:latin typeface="Tahoma"/>
                </a:rPr>
                <a:t>TSC is born here!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 flipH="1" flipV="1">
              <a:off x="6804000" y="3644640"/>
              <a:ext cx="50472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4197240" y="3678120"/>
              <a:ext cx="1349640" cy="619200"/>
            </a:xfrm>
            <a:custGeom>
              <a:avLst/>
              <a:gdLst/>
              <a:ahLst/>
              <a:rect l="l" t="t" r="r" b="b"/>
              <a:pathLst>
                <a:path w="850" h="390">
                  <a:moveTo>
                    <a:pt x="20" y="131"/>
                  </a:moveTo>
                  <a:cubicBezTo>
                    <a:pt x="41" y="124"/>
                    <a:pt x="57" y="112"/>
                    <a:pt x="79" y="105"/>
                  </a:cubicBezTo>
                  <a:cubicBezTo>
                    <a:pt x="92" y="101"/>
                    <a:pt x="118" y="92"/>
                    <a:pt x="118" y="92"/>
                  </a:cubicBezTo>
                  <a:cubicBezTo>
                    <a:pt x="190" y="45"/>
                    <a:pt x="81" y="118"/>
                    <a:pt x="157" y="59"/>
                  </a:cubicBezTo>
                  <a:cubicBezTo>
                    <a:pt x="192" y="31"/>
                    <a:pt x="234" y="15"/>
                    <a:pt x="275" y="0"/>
                  </a:cubicBezTo>
                  <a:cubicBezTo>
                    <a:pt x="323" y="5"/>
                    <a:pt x="371" y="6"/>
                    <a:pt x="419" y="13"/>
                  </a:cubicBezTo>
                  <a:cubicBezTo>
                    <a:pt x="453" y="18"/>
                    <a:pt x="490" y="37"/>
                    <a:pt x="524" y="46"/>
                  </a:cubicBezTo>
                  <a:cubicBezTo>
                    <a:pt x="578" y="61"/>
                    <a:pt x="632" y="72"/>
                    <a:pt x="688" y="79"/>
                  </a:cubicBezTo>
                  <a:cubicBezTo>
                    <a:pt x="721" y="89"/>
                    <a:pt x="753" y="101"/>
                    <a:pt x="786" y="111"/>
                  </a:cubicBezTo>
                  <a:cubicBezTo>
                    <a:pt x="803" y="137"/>
                    <a:pt x="850" y="153"/>
                    <a:pt x="792" y="170"/>
                  </a:cubicBezTo>
                  <a:cubicBezTo>
                    <a:pt x="773" y="190"/>
                    <a:pt x="745" y="222"/>
                    <a:pt x="720" y="229"/>
                  </a:cubicBezTo>
                  <a:cubicBezTo>
                    <a:pt x="716" y="236"/>
                    <a:pt x="713" y="244"/>
                    <a:pt x="707" y="249"/>
                  </a:cubicBezTo>
                  <a:cubicBezTo>
                    <a:pt x="703" y="253"/>
                    <a:pt x="638" y="279"/>
                    <a:pt x="629" y="282"/>
                  </a:cubicBezTo>
                  <a:cubicBezTo>
                    <a:pt x="601" y="322"/>
                    <a:pt x="550" y="332"/>
                    <a:pt x="504" y="340"/>
                  </a:cubicBezTo>
                  <a:cubicBezTo>
                    <a:pt x="463" y="355"/>
                    <a:pt x="438" y="361"/>
                    <a:pt x="393" y="367"/>
                  </a:cubicBezTo>
                  <a:cubicBezTo>
                    <a:pt x="315" y="390"/>
                    <a:pt x="320" y="352"/>
                    <a:pt x="269" y="327"/>
                  </a:cubicBezTo>
                  <a:cubicBezTo>
                    <a:pt x="244" y="315"/>
                    <a:pt x="167" y="314"/>
                    <a:pt x="164" y="314"/>
                  </a:cubicBezTo>
                  <a:cubicBezTo>
                    <a:pt x="124" y="307"/>
                    <a:pt x="95" y="299"/>
                    <a:pt x="53" y="295"/>
                  </a:cubicBezTo>
                  <a:cubicBezTo>
                    <a:pt x="44" y="293"/>
                    <a:pt x="33" y="295"/>
                    <a:pt x="27" y="288"/>
                  </a:cubicBezTo>
                  <a:cubicBezTo>
                    <a:pt x="8" y="266"/>
                    <a:pt x="19" y="235"/>
                    <a:pt x="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 flipH="1" flipV="1">
              <a:off x="5246280" y="4149360"/>
              <a:ext cx="1035000" cy="53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A76-1394-48CD-A3C3-0570D818527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imum Size of TSC is far less than 1 p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435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4d + 4e of TSC squeezes into a very small charge-neutral pseudo-part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cc"/>
                </a:solidFill>
                <a:latin typeface="Arial"/>
              </a:rPr>
              <a:t>When 4d reach at the interaction range (several fm) of strong force, </a:t>
            </a:r>
            <a:r>
              <a:rPr b="0" lang="ja-JP" sz="2800" spc="-1" strike="noStrike" baseline="30000">
                <a:solidFill>
                  <a:srgbClr val="cc00cc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</a:rPr>
              <a:t>Be* is formed by QM-penetration through EQPET shielded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* is formed, 4e are left at outer domain, which size is approximated by 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e*(4,4)Be atom size of 0.8 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c.f.: Classical Electron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                                   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α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hc/(2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π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m</a:t>
            </a:r>
            <a:r>
              <a:rPr b="0" lang="ja-JP" sz="1800" spc="-1" strike="noStrike">
                <a:solidFill>
                  <a:srgbClr val="009999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c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 ) = 2.8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179280" y="1557360"/>
            <a:ext cx="87138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236-DF25-4121-8870-F9FDAE7BC14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152280"/>
            <a:ext cx="87487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ff"/>
            </a:solidFill>
            <a:miter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66ff"/>
                </a:solidFill>
                <a:latin typeface="Book Antiqua"/>
              </a:rPr>
              <a:t>Excess Power; Exp. # 64a; El-Boher, ICCF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Book Antiqua"/>
                <a:ea typeface="Arial"/>
              </a:rPr>
              <a:t>Pout=K</a:t>
            </a:r>
            <a:r>
              <a:rPr b="1" lang="el-GR" sz="1800" spc="-1" strike="noStrike">
                <a:solidFill>
                  <a:srgbClr val="ff0000"/>
                </a:solidFill>
                <a:latin typeface="Lucida Grande"/>
                <a:ea typeface="Arial"/>
              </a:rPr>
              <a:t>Δ</a:t>
            </a:r>
            <a:r>
              <a:rPr b="1" lang="ja-JP" sz="1800" spc="-1" strike="noStrike">
                <a:solidFill>
                  <a:srgbClr val="ff0000"/>
                </a:solidFill>
                <a:latin typeface="Book Antiqua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9528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Book Antiqua"/>
                <a:ea typeface="Arial"/>
              </a:rPr>
              <a:t>Pinet=Iin*Vin – P d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6324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man Old Style"/>
                <a:ea typeface="Arial"/>
              </a:rPr>
              <a:t>Excess Power of up to 34 watts; Average ~20 watts for 17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90720" y="762120"/>
            <a:ext cx="7132680" cy="5486400"/>
            <a:chOff x="990720" y="762120"/>
            <a:chExt cx="7132680" cy="54864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990720" y="762120"/>
              <a:ext cx="71326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819520" y="1676520"/>
              <a:ext cx="4343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29200" y="1339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Bookman Old Style"/>
                  <a:ea typeface="Arial"/>
                </a:rPr>
                <a:t>17 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191120" y="487692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ook Antiqua"/>
                <a:ea typeface="Arial"/>
              </a:rPr>
              <a:t>Average Pinet ~0.74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66688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ook Antiqua"/>
                <a:ea typeface="Arial"/>
              </a:rPr>
              <a:t>Average Pout ~20 wa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752480"/>
            <a:ext cx="49528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Book Antiqua"/>
                <a:ea typeface="Arial"/>
              </a:rPr>
              <a:t>COPE=(Pout-Pinet):Pinet ≈ (20-0.74):0.74 ≈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668-12ED-4C9A-88EC-991DB4643A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SC Size by Dynamic Condensation in </a:t>
            </a:r>
            <a:r>
              <a:rPr b="0" lang="ja-JP" sz="2400" spc="-1" strike="noStrike">
                <a:solidFill>
                  <a:srgbClr val="9900cc"/>
                </a:solidFill>
                <a:latin typeface="Arial"/>
              </a:rPr>
              <a:t>about 60 f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motion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3600" spc="-1" strike="noStrike">
                <a:solidFill>
                  <a:srgbClr val="9900cc"/>
                </a:solidFill>
                <a:latin typeface="Arial"/>
              </a:rPr>
              <a:t>Semi-Classical Treatment Possi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5" name=""/>
          <p:cNvGrpSpPr/>
          <p:nvPr/>
        </p:nvGrpSpPr>
        <p:grpSpPr>
          <a:xfrm>
            <a:off x="1015920" y="1447920"/>
            <a:ext cx="7085160" cy="4321080"/>
            <a:chOff x="1015920" y="1447920"/>
            <a:chExt cx="7085160" cy="4321080"/>
          </a:xfrm>
        </p:grpSpPr>
        <p:graphicFrame>
          <p:nvGraphicFramePr>
            <p:cNvPr id="4196" name=""/>
            <p:cNvGraphicFramePr/>
            <p:nvPr/>
          </p:nvGraphicFramePr>
          <p:xfrm>
            <a:off x="1015920" y="1447920"/>
            <a:ext cx="7085160" cy="4321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1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15920" y="1447920"/>
                      <a:ext cx="7085160" cy="432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98" name=""/>
            <p:cNvSpPr/>
            <p:nvPr/>
          </p:nvSpPr>
          <p:spPr>
            <a:xfrm>
              <a:off x="2138400" y="2609280"/>
              <a:ext cx="1263240" cy="561600"/>
            </a:xfrm>
            <a:prstGeom prst="wedgeRectCallout">
              <a:avLst>
                <a:gd name="adj1" fmla="val -20134"/>
                <a:gd name="adj2" fmla="val 83856"/>
              </a:avLst>
            </a:prstGeom>
            <a:solidFill>
              <a:srgbClr val="fc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*(4,4)Be-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form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2138400" y="22784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1998000" y="1747800"/>
              <a:ext cx="890640" cy="463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1" name=""/>
          <p:cNvSpPr/>
          <p:nvPr/>
        </p:nvSpPr>
        <p:spPr>
          <a:xfrm>
            <a:off x="1557360" y="5815080"/>
            <a:ext cx="6075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r(t)&gt; = &lt;r(0)&gt; - &lt;v&gt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r(0)&gt; = (3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2)RB = 45.8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DA8-CB92-4918-9BD1-32D423BF025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"/>
          <p:cNvSpPr/>
          <p:nvPr/>
        </p:nvSpPr>
        <p:spPr>
          <a:xfrm>
            <a:off x="9144000" y="6400800"/>
            <a:ext cx="380880" cy="1295280"/>
          </a:xfrm>
          <a:prstGeom prst="diamond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716040" y="298440"/>
            <a:ext cx="7711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870840" y="254160"/>
            <a:ext cx="7992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910c6"/>
                </a:solidFill>
                <a:latin typeface="Tahoma"/>
              </a:rPr>
              <a:t>Classical View of Tetrahedral Sym. Conden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7315200" y="914400"/>
            <a:ext cx="159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7391520" y="958680"/>
            <a:ext cx="144756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ahoma"/>
              </a:rPr>
              <a:t>Trans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ahoma"/>
              </a:rPr>
              <a:t>Comb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ahoma"/>
              </a:rPr>
              <a:t>of Two D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ahoma"/>
              </a:rPr>
              <a:t>Molecu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33cc"/>
                </a:solidFill>
                <a:latin typeface="Tahoma"/>
              </a:rPr>
              <a:t>(upper and lo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Squeezing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from O-Sites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T-s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46a444"/>
                </a:solidFill>
                <a:latin typeface="Tahoma"/>
              </a:rPr>
              <a:t>3-dim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46a444"/>
                </a:solidFill>
                <a:latin typeface="Tahoma"/>
              </a:rPr>
              <a:t>Frozen State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46a444"/>
                </a:solidFill>
                <a:latin typeface="Tahoma"/>
              </a:rPr>
              <a:t>4d+s and 4e-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303"/>
                </a:solidFill>
                <a:latin typeface="Tahoma"/>
              </a:rPr>
              <a:t>Quadruplet e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303"/>
                </a:solidFill>
                <a:latin typeface="Tahoma"/>
              </a:rPr>
              <a:t>(4,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Form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Electrons a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</a:rPr>
              <a:t>T-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701640" y="673200"/>
            <a:ext cx="7967520" cy="633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701640" y="941400"/>
            <a:ext cx="6284880" cy="5684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9" name=""/>
          <p:cNvGrpSpPr/>
          <p:nvPr/>
        </p:nvGrpSpPr>
        <p:grpSpPr>
          <a:xfrm>
            <a:off x="1004760" y="1257480"/>
            <a:ext cx="5618160" cy="5260680"/>
            <a:chOff x="1004760" y="1257480"/>
            <a:chExt cx="5618160" cy="5260680"/>
          </a:xfrm>
        </p:grpSpPr>
        <p:sp>
          <p:nvSpPr>
            <p:cNvPr id="4210" name=""/>
            <p:cNvSpPr/>
            <p:nvPr/>
          </p:nvSpPr>
          <p:spPr>
            <a:xfrm>
              <a:off x="2751120" y="3887640"/>
              <a:ext cx="750960" cy="7542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2933640" y="40384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045960" y="412416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940200" y="5641920"/>
              <a:ext cx="750960" cy="7542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4122720" y="579276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4236480" y="585000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4122720" y="606096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004760" y="2259000"/>
              <a:ext cx="750960" cy="7542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187280" y="24098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1289880" y="247644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872320" y="1757520"/>
              <a:ext cx="750600" cy="7538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054840" y="19080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166800" y="199404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1131840" y="5141880"/>
              <a:ext cx="625680" cy="627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1295280" y="52704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1360800" y="525132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295280" y="560556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940200" y="2886120"/>
              <a:ext cx="627120" cy="628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4105440" y="30146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4170600" y="300528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105440" y="33498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2876400" y="1257480"/>
              <a:ext cx="625680" cy="626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40200" y="13860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132360" y="135720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40200" y="17208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854680" y="4640400"/>
              <a:ext cx="625320" cy="628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019920" y="4768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075720" y="474012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019920" y="51037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749760" y="3762360"/>
              <a:ext cx="250920" cy="2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0" name=""/>
            <p:cNvGrpSpPr/>
            <p:nvPr/>
          </p:nvGrpSpPr>
          <p:grpSpPr>
            <a:xfrm>
              <a:off x="1746360" y="2868480"/>
              <a:ext cx="2003400" cy="1020960"/>
              <a:chOff x="1746360" y="2868480"/>
              <a:chExt cx="2003400" cy="1020960"/>
            </a:xfrm>
          </p:grpSpPr>
          <p:sp>
            <p:nvSpPr>
              <p:cNvPr id="4241" name=""/>
              <p:cNvSpPr/>
              <p:nvPr/>
            </p:nvSpPr>
            <p:spPr>
              <a:xfrm>
                <a:off x="1746360" y="2868480"/>
                <a:ext cx="1854000" cy="957240"/>
              </a:xfrm>
              <a:custGeom>
                <a:avLst/>
                <a:gdLst/>
                <a:ahLst/>
                <a:rect l="l" t="t" r="r" b="b"/>
                <a:pathLst>
                  <a:path w="1168" h="603">
                    <a:moveTo>
                      <a:pt x="10" y="0"/>
                    </a:moveTo>
                    <a:lnTo>
                      <a:pt x="0" y="23"/>
                    </a:lnTo>
                    <a:lnTo>
                      <a:pt x="1158" y="603"/>
                    </a:lnTo>
                    <a:lnTo>
                      <a:pt x="1168" y="58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549600" y="3722760"/>
                <a:ext cx="200160" cy="166680"/>
              </a:xfrm>
              <a:custGeom>
                <a:avLst/>
                <a:gdLst/>
                <a:ahLst/>
                <a:rect l="l" t="t" r="r" b="b"/>
                <a:pathLst>
                  <a:path w="126" h="105">
                    <a:moveTo>
                      <a:pt x="0" y="105"/>
                    </a:moveTo>
                    <a:lnTo>
                      <a:pt x="126" y="104"/>
                    </a:lnTo>
                    <a:lnTo>
                      <a:pt x="49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3" name=""/>
            <p:cNvGrpSpPr/>
            <p:nvPr/>
          </p:nvGrpSpPr>
          <p:grpSpPr>
            <a:xfrm>
              <a:off x="3370320" y="3984480"/>
              <a:ext cx="379440" cy="174600"/>
              <a:chOff x="3370320" y="3984480"/>
              <a:chExt cx="379440" cy="174600"/>
            </a:xfrm>
          </p:grpSpPr>
          <p:sp>
            <p:nvSpPr>
              <p:cNvPr id="4244" name=""/>
              <p:cNvSpPr/>
              <p:nvPr/>
            </p:nvSpPr>
            <p:spPr>
              <a:xfrm>
                <a:off x="3370320" y="4051440"/>
                <a:ext cx="218880" cy="107640"/>
              </a:xfrm>
              <a:custGeom>
                <a:avLst/>
                <a:gdLst/>
                <a:ahLst/>
                <a:rect l="l" t="t" r="r" b="b"/>
                <a:pathLst>
                  <a:path w="138" h="68">
                    <a:moveTo>
                      <a:pt x="0" y="43"/>
                    </a:moveTo>
                    <a:lnTo>
                      <a:pt x="7" y="68"/>
                    </a:lnTo>
                    <a:lnTo>
                      <a:pt x="138" y="26"/>
                    </a:lnTo>
                    <a:lnTo>
                      <a:pt x="131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552840" y="3984480"/>
                <a:ext cx="196920" cy="1746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35" y="110"/>
                    </a:moveTo>
                    <a:lnTo>
                      <a:pt x="124" y="18"/>
                    </a:lnTo>
                    <a:lnTo>
                      <a:pt x="0" y="0"/>
                    </a:lnTo>
                    <a:lnTo>
                      <a:pt x="35" y="11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6" name=""/>
            <p:cNvGrpSpPr/>
            <p:nvPr/>
          </p:nvGrpSpPr>
          <p:grpSpPr>
            <a:xfrm>
              <a:off x="3998880" y="2368440"/>
              <a:ext cx="2009880" cy="1519200"/>
              <a:chOff x="3998880" y="2368440"/>
              <a:chExt cx="2009880" cy="1519200"/>
            </a:xfrm>
          </p:grpSpPr>
          <p:sp>
            <p:nvSpPr>
              <p:cNvPr id="4247" name=""/>
              <p:cNvSpPr/>
              <p:nvPr/>
            </p:nvSpPr>
            <p:spPr>
              <a:xfrm>
                <a:off x="4130640" y="2368440"/>
                <a:ext cx="1878120" cy="1430280"/>
              </a:xfrm>
              <a:custGeom>
                <a:avLst/>
                <a:gdLst/>
                <a:ahLst/>
                <a:rect l="l" t="t" r="r" b="b"/>
                <a:pathLst>
                  <a:path w="1183" h="901">
                    <a:moveTo>
                      <a:pt x="1183" y="21"/>
                    </a:moveTo>
                    <a:lnTo>
                      <a:pt x="1168" y="0"/>
                    </a:lnTo>
                    <a:lnTo>
                      <a:pt x="0" y="881"/>
                    </a:lnTo>
                    <a:lnTo>
                      <a:pt x="14" y="901"/>
                    </a:lnTo>
                    <a:lnTo>
                      <a:pt x="1183" y="2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998880" y="3703680"/>
                <a:ext cx="198360" cy="18396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58" y="0"/>
                    </a:moveTo>
                    <a:lnTo>
                      <a:pt x="0" y="116"/>
                    </a:lnTo>
                    <a:lnTo>
                      <a:pt x="125" y="9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9" name=""/>
            <p:cNvGrpSpPr/>
            <p:nvPr/>
          </p:nvGrpSpPr>
          <p:grpSpPr>
            <a:xfrm>
              <a:off x="3830760" y="4013280"/>
              <a:ext cx="439560" cy="1635120"/>
              <a:chOff x="3830760" y="4013280"/>
              <a:chExt cx="439560" cy="1635120"/>
            </a:xfrm>
          </p:grpSpPr>
          <p:sp>
            <p:nvSpPr>
              <p:cNvPr id="4250" name=""/>
              <p:cNvSpPr/>
              <p:nvPr/>
            </p:nvSpPr>
            <p:spPr>
              <a:xfrm>
                <a:off x="3898800" y="4186080"/>
                <a:ext cx="371520" cy="1462320"/>
              </a:xfrm>
              <a:custGeom>
                <a:avLst/>
                <a:gdLst/>
                <a:ahLst/>
                <a:rect l="l" t="t" r="r" b="b"/>
                <a:pathLst>
                  <a:path w="234" h="921">
                    <a:moveTo>
                      <a:pt x="210" y="921"/>
                    </a:moveTo>
                    <a:lnTo>
                      <a:pt x="234" y="914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210" y="92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830760" y="4013280"/>
                <a:ext cx="176040" cy="201600"/>
              </a:xfrm>
              <a:custGeom>
                <a:avLst/>
                <a:gdLst/>
                <a:ahLst/>
                <a:rect l="l" t="t" r="r" b="b"/>
                <a:pathLst>
                  <a:path w="111" h="127">
                    <a:moveTo>
                      <a:pt x="111" y="100"/>
                    </a:moveTo>
                    <a:lnTo>
                      <a:pt x="28" y="0"/>
                    </a:lnTo>
                    <a:lnTo>
                      <a:pt x="0" y="127"/>
                    </a:lnTo>
                    <a:lnTo>
                      <a:pt x="111" y="10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2" name=""/>
            <p:cNvGrpSpPr/>
            <p:nvPr/>
          </p:nvGrpSpPr>
          <p:grpSpPr>
            <a:xfrm>
              <a:off x="1612800" y="4013280"/>
              <a:ext cx="2262240" cy="1404720"/>
              <a:chOff x="1612800" y="4013280"/>
              <a:chExt cx="2262240" cy="1404720"/>
            </a:xfrm>
          </p:grpSpPr>
          <p:sp>
            <p:nvSpPr>
              <p:cNvPr id="4253" name=""/>
              <p:cNvSpPr/>
              <p:nvPr/>
            </p:nvSpPr>
            <p:spPr>
              <a:xfrm>
                <a:off x="1612800" y="4105440"/>
                <a:ext cx="2084400" cy="1312560"/>
              </a:xfrm>
              <a:custGeom>
                <a:avLst/>
                <a:gdLst/>
                <a:ahLst/>
                <a:rect l="l" t="t" r="r" b="b"/>
                <a:pathLst>
                  <a:path w="1313" h="827">
                    <a:moveTo>
                      <a:pt x="0" y="794"/>
                    </a:moveTo>
                    <a:lnTo>
                      <a:pt x="19" y="827"/>
                    </a:lnTo>
                    <a:lnTo>
                      <a:pt x="1313" y="33"/>
                    </a:lnTo>
                    <a:lnTo>
                      <a:pt x="1294" y="0"/>
                    </a:lnTo>
                    <a:lnTo>
                      <a:pt x="0" y="79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619440" y="4013280"/>
                <a:ext cx="255600" cy="225360"/>
              </a:xfrm>
              <a:custGeom>
                <a:avLst/>
                <a:gdLst/>
                <a:ahLst/>
                <a:rect l="l" t="t" r="r" b="b"/>
                <a:pathLst>
                  <a:path w="161" h="142">
                    <a:moveTo>
                      <a:pt x="74" y="142"/>
                    </a:moveTo>
                    <a:lnTo>
                      <a:pt x="161" y="0"/>
                    </a:lnTo>
                    <a:lnTo>
                      <a:pt x="0" y="12"/>
                    </a:lnTo>
                    <a:lnTo>
                      <a:pt x="74" y="14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5" name=""/>
            <p:cNvGrpSpPr/>
            <p:nvPr/>
          </p:nvGrpSpPr>
          <p:grpSpPr>
            <a:xfrm>
              <a:off x="3998880" y="3497400"/>
              <a:ext cx="206280" cy="264960"/>
              <a:chOff x="3998880" y="3497400"/>
              <a:chExt cx="206280" cy="264960"/>
            </a:xfrm>
          </p:grpSpPr>
          <p:sp>
            <p:nvSpPr>
              <p:cNvPr id="4256" name=""/>
              <p:cNvSpPr/>
              <p:nvPr/>
            </p:nvSpPr>
            <p:spPr>
              <a:xfrm>
                <a:off x="4076640" y="34974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6" y="19"/>
                    </a:moveTo>
                    <a:lnTo>
                      <a:pt x="15" y="0"/>
                    </a:lnTo>
                    <a:lnTo>
                      <a:pt x="0" y="26"/>
                    </a:lnTo>
                    <a:lnTo>
                      <a:pt x="31" y="46"/>
                    </a:lnTo>
                    <a:lnTo>
                      <a:pt x="46" y="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998880" y="3497400"/>
                <a:ext cx="206280" cy="264960"/>
              </a:xfrm>
              <a:custGeom>
                <a:avLst/>
                <a:gdLst/>
                <a:ahLst/>
                <a:rect l="l" t="t" r="r" b="b"/>
                <a:pathLst>
                  <a:path w="130" h="167">
                    <a:moveTo>
                      <a:pt x="2" y="0"/>
                    </a:moveTo>
                    <a:lnTo>
                      <a:pt x="0" y="167"/>
                    </a:lnTo>
                    <a:lnTo>
                      <a:pt x="130" y="6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8" name=""/>
            <p:cNvGrpSpPr/>
            <p:nvPr/>
          </p:nvGrpSpPr>
          <p:grpSpPr>
            <a:xfrm>
              <a:off x="3998880" y="4002120"/>
              <a:ext cx="1886040" cy="917640"/>
              <a:chOff x="3998880" y="4002120"/>
              <a:chExt cx="1886040" cy="917640"/>
            </a:xfrm>
          </p:grpSpPr>
          <p:sp>
            <p:nvSpPr>
              <p:cNvPr id="4259" name=""/>
              <p:cNvSpPr/>
              <p:nvPr/>
            </p:nvSpPr>
            <p:spPr>
              <a:xfrm>
                <a:off x="4194000" y="4083120"/>
                <a:ext cx="1690920" cy="836640"/>
              </a:xfrm>
              <a:custGeom>
                <a:avLst/>
                <a:gdLst/>
                <a:ahLst/>
                <a:rect l="l" t="t" r="r" b="b"/>
                <a:pathLst>
                  <a:path w="1065" h="527">
                    <a:moveTo>
                      <a:pt x="1049" y="527"/>
                    </a:moveTo>
                    <a:lnTo>
                      <a:pt x="1065" y="491"/>
                    </a:lnTo>
                    <a:lnTo>
                      <a:pt x="15" y="0"/>
                    </a:lnTo>
                    <a:lnTo>
                      <a:pt x="0" y="36"/>
                    </a:lnTo>
                    <a:lnTo>
                      <a:pt x="1049" y="5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998880" y="4002120"/>
                <a:ext cx="257040" cy="217440"/>
              </a:xfrm>
              <a:custGeom>
                <a:avLst/>
                <a:gdLst/>
                <a:ahLst/>
                <a:rect l="l" t="t" r="r" b="b"/>
                <a:pathLst>
                  <a:path w="162" h="137">
                    <a:moveTo>
                      <a:pt x="162" y="0"/>
                    </a:moveTo>
                    <a:lnTo>
                      <a:pt x="0" y="7"/>
                    </a:lnTo>
                    <a:lnTo>
                      <a:pt x="103" y="137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1" name=""/>
            <p:cNvGrpSpPr/>
            <p:nvPr/>
          </p:nvGrpSpPr>
          <p:grpSpPr>
            <a:xfrm>
              <a:off x="3222720" y="1874880"/>
              <a:ext cx="577800" cy="1887480"/>
              <a:chOff x="3222720" y="1874880"/>
              <a:chExt cx="577800" cy="1887480"/>
            </a:xfrm>
          </p:grpSpPr>
          <p:sp>
            <p:nvSpPr>
              <p:cNvPr id="4262" name=""/>
              <p:cNvSpPr/>
              <p:nvPr/>
            </p:nvSpPr>
            <p:spPr>
              <a:xfrm>
                <a:off x="3222720" y="1874880"/>
                <a:ext cx="495360" cy="1670040"/>
              </a:xfrm>
              <a:custGeom>
                <a:avLst/>
                <a:gdLst/>
                <a:ahLst/>
                <a:rect l="l" t="t" r="r" b="b"/>
                <a:pathLst>
                  <a:path w="312" h="1052">
                    <a:moveTo>
                      <a:pt x="36" y="0"/>
                    </a:moveTo>
                    <a:lnTo>
                      <a:pt x="0" y="11"/>
                    </a:lnTo>
                    <a:lnTo>
                      <a:pt x="276" y="1052"/>
                    </a:lnTo>
                    <a:lnTo>
                      <a:pt x="312" y="104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3578400" y="3502080"/>
                <a:ext cx="22212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0" y="39"/>
                    </a:moveTo>
                    <a:lnTo>
                      <a:pt x="108" y="164"/>
                    </a:lnTo>
                    <a:lnTo>
                      <a:pt x="14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4" name=""/>
            <p:cNvSpPr/>
            <p:nvPr/>
          </p:nvSpPr>
          <p:spPr>
            <a:xfrm flipV="1">
              <a:off x="1754280" y="2133360"/>
              <a:ext cx="4118040" cy="376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628640" y="3011400"/>
              <a:ext cx="2495520" cy="27561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H="1">
              <a:off x="4622400" y="2509920"/>
              <a:ext cx="1500120" cy="3132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7" name=""/>
            <p:cNvGrpSpPr/>
            <p:nvPr/>
          </p:nvGrpSpPr>
          <p:grpSpPr>
            <a:xfrm>
              <a:off x="1623960" y="2881440"/>
              <a:ext cx="1257480" cy="1137960"/>
              <a:chOff x="1623960" y="2881440"/>
              <a:chExt cx="1257480" cy="1137960"/>
            </a:xfrm>
          </p:grpSpPr>
          <p:sp>
            <p:nvSpPr>
              <p:cNvPr id="4268" name=""/>
              <p:cNvSpPr/>
              <p:nvPr/>
            </p:nvSpPr>
            <p:spPr>
              <a:xfrm>
                <a:off x="1623960" y="2881440"/>
                <a:ext cx="39600" cy="378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1676520" y="2928960"/>
                <a:ext cx="41040" cy="36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1728720" y="297648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1782720" y="3025800"/>
                <a:ext cx="39600" cy="363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1836720" y="307188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3"/>
                    </a:lnTo>
                    <a:lnTo>
                      <a:pt x="24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3" y="18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1889280" y="3121200"/>
                <a:ext cx="41040" cy="36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4" y="18"/>
                    </a:lnTo>
                    <a:lnTo>
                      <a:pt x="23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1941480" y="316692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5" y="2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1" y="23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1995480" y="321624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2048040" y="326376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2100240" y="33116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2154240" y="335916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2206800" y="34084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2259000" y="3456000"/>
                <a:ext cx="42840" cy="36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2313000" y="350352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2367000" y="3552840"/>
                <a:ext cx="39600" cy="363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2419200" y="359892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2471760" y="3648240"/>
                <a:ext cx="39600" cy="363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2525760" y="369576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2577960" y="374328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2630520" y="379080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2684520" y="384012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2738520" y="388620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3" y="19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2790720" y="393552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2843280" y="39816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2" name=""/>
            <p:cNvGrpSpPr/>
            <p:nvPr/>
          </p:nvGrpSpPr>
          <p:grpSpPr>
            <a:xfrm>
              <a:off x="3370320" y="4635360"/>
              <a:ext cx="760320" cy="1013040"/>
              <a:chOff x="3370320" y="4635360"/>
              <a:chExt cx="760320" cy="1013040"/>
            </a:xfrm>
          </p:grpSpPr>
          <p:sp>
            <p:nvSpPr>
              <p:cNvPr id="4293" name=""/>
              <p:cNvSpPr/>
              <p:nvPr/>
            </p:nvSpPr>
            <p:spPr>
              <a:xfrm>
                <a:off x="3370320" y="46353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6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3413160" y="469260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6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2" y="26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2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3457440" y="47498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3498840" y="480708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7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7" y="26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3543480" y="486576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5" y="26"/>
                    </a:lnTo>
                    <a:lnTo>
                      <a:pt x="16" y="27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2" y="25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586320" y="492444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629160" y="4981680"/>
                <a:ext cx="33120" cy="428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1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672000" y="5038560"/>
                <a:ext cx="34920" cy="4320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6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3714840" y="5095800"/>
                <a:ext cx="34920" cy="4464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7" y="26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3759120" y="515304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5" y="27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1" y="2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3801960" y="521352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844800" y="52704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1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887640" y="532764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7" y="25"/>
                    </a:lnTo>
                    <a:lnTo>
                      <a:pt x="18" y="26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2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930480" y="538488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975120" y="544212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5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5" y="27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1" y="2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017960" y="5499000"/>
                <a:ext cx="34920" cy="4464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7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4060800" y="5557680"/>
                <a:ext cx="33480" cy="432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6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4103640" y="56167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1" name=""/>
            <p:cNvSpPr/>
            <p:nvPr/>
          </p:nvSpPr>
          <p:spPr>
            <a:xfrm flipH="1">
              <a:off x="1641240" y="1882800"/>
              <a:ext cx="1360440" cy="325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V="1">
              <a:off x="1770120" y="5141520"/>
              <a:ext cx="4102200" cy="374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500280" y="1882800"/>
              <a:ext cx="2497320" cy="28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375000" y="1882800"/>
              <a:ext cx="623880" cy="1003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498920" y="3511440"/>
              <a:ext cx="1498680" cy="13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1641600" y="3387240"/>
              <a:ext cx="2495520" cy="1879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7" name=""/>
            <p:cNvGrpSpPr/>
            <p:nvPr/>
          </p:nvGrpSpPr>
          <p:grpSpPr>
            <a:xfrm>
              <a:off x="4618080" y="2254320"/>
              <a:ext cx="1258920" cy="887400"/>
              <a:chOff x="4618080" y="2254320"/>
              <a:chExt cx="1258920" cy="887400"/>
            </a:xfrm>
          </p:grpSpPr>
          <p:sp>
            <p:nvSpPr>
              <p:cNvPr id="4318" name=""/>
              <p:cNvSpPr/>
              <p:nvPr/>
            </p:nvSpPr>
            <p:spPr>
              <a:xfrm>
                <a:off x="5834160" y="225432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6"/>
                    </a:moveTo>
                    <a:lnTo>
                      <a:pt x="26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775480" y="229536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6"/>
                    </a:moveTo>
                    <a:lnTo>
                      <a:pt x="27" y="5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5718240" y="233532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5" y="7"/>
                    </a:moveTo>
                    <a:lnTo>
                      <a:pt x="26" y="6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5659560" y="237816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5"/>
                    </a:moveTo>
                    <a:lnTo>
                      <a:pt x="26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5600880" y="241776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6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5541840" y="2459160"/>
                <a:ext cx="4464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5" y="6"/>
                    </a:moveTo>
                    <a:lnTo>
                      <a:pt x="26" y="5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483160" y="24987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7" y="7"/>
                    </a:moveTo>
                    <a:lnTo>
                      <a:pt x="28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5424480" y="2541600"/>
                <a:ext cx="44280" cy="334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7" y="5"/>
                    </a:move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5369040" y="258120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7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310360" y="262260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6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5251320" y="266220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7"/>
                    </a:moveTo>
                    <a:lnTo>
                      <a:pt x="26" y="6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5192640" y="270504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5"/>
                    </a:move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5133960" y="27446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6" y="7"/>
                    </a:move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5076720" y="2786040"/>
                <a:ext cx="44640" cy="334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5" y="6"/>
                    </a:moveTo>
                    <a:lnTo>
                      <a:pt x="26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5018040" y="2827440"/>
                <a:ext cx="4464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6" y="6"/>
                    </a:moveTo>
                    <a:lnTo>
                      <a:pt x="27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959360" y="2868480"/>
                <a:ext cx="44280" cy="334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6" y="5"/>
                    </a:moveTo>
                    <a:lnTo>
                      <a:pt x="27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900680" y="290844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7" y="7"/>
                    </a:moveTo>
                    <a:lnTo>
                      <a:pt x="28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3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3" y="21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843440" y="294948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6"/>
                    </a:move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786200" y="299088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6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727520" y="303228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5"/>
                    </a:moveTo>
                    <a:lnTo>
                      <a:pt x="26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668840" y="307188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7"/>
                    </a:moveTo>
                    <a:lnTo>
                      <a:pt x="26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618080" y="311292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1" y="6"/>
                    </a:moveTo>
                    <a:lnTo>
                      <a:pt x="22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0" name=""/>
            <p:cNvGrpSpPr/>
            <p:nvPr/>
          </p:nvGrpSpPr>
          <p:grpSpPr>
            <a:xfrm>
              <a:off x="3370320" y="3510000"/>
              <a:ext cx="752400" cy="509400"/>
              <a:chOff x="3370320" y="3510000"/>
              <a:chExt cx="752400" cy="509400"/>
            </a:xfrm>
          </p:grpSpPr>
          <p:sp>
            <p:nvSpPr>
              <p:cNvPr id="4341" name=""/>
              <p:cNvSpPr/>
              <p:nvPr/>
            </p:nvSpPr>
            <p:spPr>
              <a:xfrm>
                <a:off x="3370320" y="398628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" y="15"/>
                    </a:move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3429000" y="3944880"/>
                <a:ext cx="44280" cy="334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" y="16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3489480" y="390672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5"/>
                    </a:move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3548160" y="386712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4"/>
                    </a:move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3606840" y="382752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" y="15"/>
                    </a:moveTo>
                    <a:lnTo>
                      <a:pt x="1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3666960" y="3787920"/>
                <a:ext cx="4320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5"/>
                    </a:move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3724200" y="3749760"/>
                <a:ext cx="44640" cy="316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3782880" y="3708360"/>
                <a:ext cx="44640" cy="334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" y="16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27" y="7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3843360" y="3668760"/>
                <a:ext cx="4428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" y="16"/>
                    </a:move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3902040" y="3630600"/>
                <a:ext cx="44640" cy="334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3960720" y="359100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" y="14"/>
                    </a:move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021200" y="3551400"/>
                <a:ext cx="42840" cy="316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1" y="15"/>
                    </a:move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4079880" y="3510000"/>
                <a:ext cx="42840" cy="334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6"/>
                    </a:move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4" name=""/>
            <p:cNvGrpSpPr/>
            <p:nvPr/>
          </p:nvGrpSpPr>
          <p:grpSpPr>
            <a:xfrm>
              <a:off x="3038400" y="1382760"/>
              <a:ext cx="104760" cy="374760"/>
              <a:chOff x="3038400" y="1382760"/>
              <a:chExt cx="104760" cy="374760"/>
            </a:xfrm>
          </p:grpSpPr>
          <p:sp>
            <p:nvSpPr>
              <p:cNvPr id="4355" name=""/>
              <p:cNvSpPr/>
              <p:nvPr/>
            </p:nvSpPr>
            <p:spPr>
              <a:xfrm flipV="1">
                <a:off x="3089160" y="1486080"/>
                <a:ext cx="144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3038400" y="138276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68"/>
                    </a:moveTo>
                    <a:lnTo>
                      <a:pt x="32" y="0"/>
                    </a:lnTo>
                    <a:lnTo>
                      <a:pt x="0" y="68"/>
                    </a:lnTo>
                    <a:lnTo>
                      <a:pt x="6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7" name=""/>
            <p:cNvGrpSpPr/>
            <p:nvPr/>
          </p:nvGrpSpPr>
          <p:grpSpPr>
            <a:xfrm>
              <a:off x="5991120" y="4765680"/>
              <a:ext cx="104760" cy="376200"/>
              <a:chOff x="5991120" y="4765680"/>
              <a:chExt cx="104760" cy="376200"/>
            </a:xfrm>
          </p:grpSpPr>
          <p:sp>
            <p:nvSpPr>
              <p:cNvPr id="4358" name=""/>
              <p:cNvSpPr/>
              <p:nvPr/>
            </p:nvSpPr>
            <p:spPr>
              <a:xfrm flipV="1">
                <a:off x="6043320" y="4870440"/>
                <a:ext cx="108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5991120" y="476568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0" name=""/>
            <p:cNvGrpSpPr/>
            <p:nvPr/>
          </p:nvGrpSpPr>
          <p:grpSpPr>
            <a:xfrm>
              <a:off x="4075200" y="2992320"/>
              <a:ext cx="104760" cy="376200"/>
              <a:chOff x="4075200" y="2992320"/>
              <a:chExt cx="104760" cy="376200"/>
            </a:xfrm>
          </p:grpSpPr>
          <p:sp>
            <p:nvSpPr>
              <p:cNvPr id="4361" name=""/>
              <p:cNvSpPr/>
              <p:nvPr/>
            </p:nvSpPr>
            <p:spPr>
              <a:xfrm>
                <a:off x="4127400" y="2992320"/>
                <a:ext cx="180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4075200" y="326052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0"/>
                    </a:moveTo>
                    <a:lnTo>
                      <a:pt x="33" y="68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3" name=""/>
            <p:cNvGrpSpPr/>
            <p:nvPr/>
          </p:nvGrpSpPr>
          <p:grpSpPr>
            <a:xfrm>
              <a:off x="1266840" y="5267160"/>
              <a:ext cx="104760" cy="374760"/>
              <a:chOff x="1266840" y="5267160"/>
              <a:chExt cx="104760" cy="374760"/>
            </a:xfrm>
          </p:grpSpPr>
          <p:sp>
            <p:nvSpPr>
              <p:cNvPr id="4364" name=""/>
              <p:cNvSpPr/>
              <p:nvPr/>
            </p:nvSpPr>
            <p:spPr>
              <a:xfrm>
                <a:off x="1319400" y="5267160"/>
                <a:ext cx="1440" cy="2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1266840" y="553392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0"/>
                    </a:moveTo>
                    <a:lnTo>
                      <a:pt x="33" y="68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6" name=""/>
            <p:cNvSpPr/>
            <p:nvPr/>
          </p:nvSpPr>
          <p:spPr>
            <a:xfrm>
              <a:off x="1635120" y="1744560"/>
              <a:ext cx="1290600" cy="654120"/>
            </a:xfrm>
            <a:custGeom>
              <a:avLst/>
              <a:gdLst/>
              <a:ahLst/>
              <a:rect l="l" t="t" r="r" b="b"/>
              <a:pathLst>
                <a:path w="813" h="412">
                  <a:moveTo>
                    <a:pt x="0" y="394"/>
                  </a:moveTo>
                  <a:lnTo>
                    <a:pt x="8" y="412"/>
                  </a:lnTo>
                  <a:lnTo>
                    <a:pt x="813" y="17"/>
                  </a:lnTo>
                  <a:lnTo>
                    <a:pt x="804" y="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556080" y="1619280"/>
              <a:ext cx="2301840" cy="404640"/>
            </a:xfrm>
            <a:custGeom>
              <a:avLst/>
              <a:gdLst/>
              <a:ahLst/>
              <a:rect l="l" t="t" r="r" b="b"/>
              <a:pathLst>
                <a:path w="1450" h="255">
                  <a:moveTo>
                    <a:pt x="3" y="0"/>
                  </a:moveTo>
                  <a:lnTo>
                    <a:pt x="0" y="18"/>
                  </a:lnTo>
                  <a:lnTo>
                    <a:pt x="1447" y="255"/>
                  </a:lnTo>
                  <a:lnTo>
                    <a:pt x="1450" y="23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768320" y="2746440"/>
              <a:ext cx="2176560" cy="406440"/>
            </a:xfrm>
            <a:custGeom>
              <a:avLst/>
              <a:gdLst/>
              <a:ahLst/>
              <a:rect l="l" t="t" r="r" b="b"/>
              <a:pathLst>
                <a:path w="1371" h="256">
                  <a:moveTo>
                    <a:pt x="4" y="0"/>
                  </a:moveTo>
                  <a:lnTo>
                    <a:pt x="0" y="19"/>
                  </a:lnTo>
                  <a:lnTo>
                    <a:pt x="1367" y="256"/>
                  </a:lnTo>
                  <a:lnTo>
                    <a:pt x="1371" y="23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572000" y="2370240"/>
              <a:ext cx="1289160" cy="655560"/>
            </a:xfrm>
            <a:custGeom>
              <a:avLst/>
              <a:gdLst/>
              <a:ahLst/>
              <a:rect l="l" t="t" r="r" b="b"/>
              <a:pathLst>
                <a:path w="812" h="413">
                  <a:moveTo>
                    <a:pt x="0" y="395"/>
                  </a:moveTo>
                  <a:lnTo>
                    <a:pt x="8" y="413"/>
                  </a:lnTo>
                  <a:lnTo>
                    <a:pt x="812" y="18"/>
                  </a:lnTo>
                  <a:lnTo>
                    <a:pt x="804" y="0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1768320" y="5504040"/>
              <a:ext cx="2176560" cy="404640"/>
            </a:xfrm>
            <a:custGeom>
              <a:avLst/>
              <a:gdLst/>
              <a:ahLst/>
              <a:rect l="l" t="t" r="r" b="b"/>
              <a:pathLst>
                <a:path w="1371" h="255">
                  <a:moveTo>
                    <a:pt x="4" y="0"/>
                  </a:moveTo>
                  <a:lnTo>
                    <a:pt x="0" y="18"/>
                  </a:lnTo>
                  <a:lnTo>
                    <a:pt x="1367" y="255"/>
                  </a:lnTo>
                  <a:lnTo>
                    <a:pt x="1371" y="2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700520" y="5129280"/>
              <a:ext cx="1162080" cy="777960"/>
            </a:xfrm>
            <a:custGeom>
              <a:avLst/>
              <a:gdLst/>
              <a:ahLst/>
              <a:rect l="l" t="t" r="r" b="b"/>
              <a:pathLst>
                <a:path w="732" h="490">
                  <a:moveTo>
                    <a:pt x="0" y="474"/>
                  </a:moveTo>
                  <a:lnTo>
                    <a:pt x="9" y="490"/>
                  </a:lnTo>
                  <a:lnTo>
                    <a:pt x="732" y="16"/>
                  </a:lnTo>
                  <a:lnTo>
                    <a:pt x="723" y="0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2" name=""/>
            <p:cNvGrpSpPr/>
            <p:nvPr/>
          </p:nvGrpSpPr>
          <p:grpSpPr>
            <a:xfrm>
              <a:off x="3429000" y="4375080"/>
              <a:ext cx="2397240" cy="523800"/>
              <a:chOff x="3429000" y="4375080"/>
              <a:chExt cx="2397240" cy="523800"/>
            </a:xfrm>
          </p:grpSpPr>
          <p:sp>
            <p:nvSpPr>
              <p:cNvPr id="4373" name=""/>
              <p:cNvSpPr/>
              <p:nvPr/>
            </p:nvSpPr>
            <p:spPr>
              <a:xfrm>
                <a:off x="3429000" y="4375080"/>
                <a:ext cx="12240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9"/>
                    </a:lnTo>
                    <a:lnTo>
                      <a:pt x="74" y="34"/>
                    </a:lnTo>
                    <a:lnTo>
                      <a:pt x="77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3635280" y="4417920"/>
                <a:ext cx="123840" cy="5400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8"/>
                    </a:lnTo>
                    <a:lnTo>
                      <a:pt x="74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3841920" y="4460760"/>
                <a:ext cx="12204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9"/>
                    </a:lnTo>
                    <a:lnTo>
                      <a:pt x="74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048200" y="4502160"/>
                <a:ext cx="123840" cy="5400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4255920" y="4546440"/>
                <a:ext cx="12240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8"/>
                    </a:lnTo>
                    <a:lnTo>
                      <a:pt x="73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460760" y="4587840"/>
                <a:ext cx="123840" cy="5400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668840" y="4630680"/>
                <a:ext cx="123840" cy="5400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876920" y="4673520"/>
                <a:ext cx="12204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8"/>
                    </a:lnTo>
                    <a:lnTo>
                      <a:pt x="73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5081760" y="4716360"/>
                <a:ext cx="123480" cy="5400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5289480" y="4761000"/>
                <a:ext cx="12240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8"/>
                    </a:lnTo>
                    <a:lnTo>
                      <a:pt x="74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5495760" y="4802040"/>
                <a:ext cx="123840" cy="5400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8"/>
                    </a:lnTo>
                    <a:lnTo>
                      <a:pt x="74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5702400" y="4844880"/>
                <a:ext cx="123840" cy="5400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5" name=""/>
            <p:cNvGrpSpPr/>
            <p:nvPr/>
          </p:nvGrpSpPr>
          <p:grpSpPr>
            <a:xfrm>
              <a:off x="1635120" y="4502160"/>
              <a:ext cx="1165320" cy="777960"/>
              <a:chOff x="1635120" y="4502160"/>
              <a:chExt cx="1165320" cy="777960"/>
            </a:xfrm>
          </p:grpSpPr>
          <p:sp>
            <p:nvSpPr>
              <p:cNvPr id="4386" name=""/>
              <p:cNvSpPr/>
              <p:nvPr/>
            </p:nvSpPr>
            <p:spPr>
              <a:xfrm>
                <a:off x="1635120" y="5186520"/>
                <a:ext cx="115920" cy="93600"/>
              </a:xfrm>
              <a:custGeom>
                <a:avLst/>
                <a:gdLst/>
                <a:ahLst/>
                <a:rect l="l" t="t" r="r" b="b"/>
                <a:pathLst>
                  <a:path w="73" h="59">
                    <a:moveTo>
                      <a:pt x="0" y="43"/>
                    </a:moveTo>
                    <a:lnTo>
                      <a:pt x="10" y="59"/>
                    </a:lnTo>
                    <a:lnTo>
                      <a:pt x="73" y="17"/>
                    </a:lnTo>
                    <a:lnTo>
                      <a:pt x="63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1812960" y="5070600"/>
                <a:ext cx="117360" cy="9180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1"/>
                    </a:moveTo>
                    <a:lnTo>
                      <a:pt x="9" y="58"/>
                    </a:lnTo>
                    <a:lnTo>
                      <a:pt x="74" y="16"/>
                    </a:lnTo>
                    <a:lnTo>
                      <a:pt x="64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1992240" y="4952880"/>
                <a:ext cx="115920" cy="92160"/>
              </a:xfrm>
              <a:custGeom>
                <a:avLst/>
                <a:gdLst/>
                <a:ahLst/>
                <a:rect l="l" t="t" r="r" b="b"/>
                <a:pathLst>
                  <a:path w="73" h="58">
                    <a:moveTo>
                      <a:pt x="0" y="42"/>
                    </a:moveTo>
                    <a:lnTo>
                      <a:pt x="9" y="58"/>
                    </a:lnTo>
                    <a:lnTo>
                      <a:pt x="73" y="17"/>
                    </a:lnTo>
                    <a:lnTo>
                      <a:pt x="6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2168640" y="4836960"/>
                <a:ext cx="117360" cy="9216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1"/>
                    </a:moveTo>
                    <a:lnTo>
                      <a:pt x="10" y="58"/>
                    </a:lnTo>
                    <a:lnTo>
                      <a:pt x="74" y="16"/>
                    </a:lnTo>
                    <a:lnTo>
                      <a:pt x="65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2347920" y="4719600"/>
                <a:ext cx="117360" cy="9216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2"/>
                    </a:moveTo>
                    <a:lnTo>
                      <a:pt x="10" y="58"/>
                    </a:lnTo>
                    <a:lnTo>
                      <a:pt x="74" y="17"/>
                    </a:lnTo>
                    <a:lnTo>
                      <a:pt x="6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2527200" y="4603680"/>
                <a:ext cx="117720" cy="9216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2"/>
                    </a:moveTo>
                    <a:lnTo>
                      <a:pt x="9" y="58"/>
                    </a:lnTo>
                    <a:lnTo>
                      <a:pt x="74" y="16"/>
                    </a:lnTo>
                    <a:lnTo>
                      <a:pt x="6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2705040" y="4502160"/>
                <a:ext cx="95400" cy="77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0" y="32"/>
                    </a:moveTo>
                    <a:lnTo>
                      <a:pt x="9" y="49"/>
                    </a:lnTo>
                    <a:lnTo>
                      <a:pt x="60" y="17"/>
                    </a:lnTo>
                    <a:lnTo>
                      <a:pt x="5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3" name=""/>
            <p:cNvSpPr/>
            <p:nvPr/>
          </p:nvSpPr>
          <p:spPr>
            <a:xfrm>
              <a:off x="1373040" y="3011400"/>
              <a:ext cx="30240" cy="213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4308480" y="3511440"/>
              <a:ext cx="30240" cy="213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222960" y="2509920"/>
              <a:ext cx="30240" cy="213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6" name=""/>
            <p:cNvGrpSpPr/>
            <p:nvPr/>
          </p:nvGrpSpPr>
          <p:grpSpPr>
            <a:xfrm>
              <a:off x="3159000" y="1882800"/>
              <a:ext cx="30240" cy="2004840"/>
              <a:chOff x="3159000" y="1882800"/>
              <a:chExt cx="30240" cy="2004840"/>
            </a:xfrm>
          </p:grpSpPr>
          <p:sp>
            <p:nvSpPr>
              <p:cNvPr id="4397" name=""/>
              <p:cNvSpPr/>
              <p:nvPr/>
            </p:nvSpPr>
            <p:spPr>
              <a:xfrm>
                <a:off x="3159000" y="1882800"/>
                <a:ext cx="30240" cy="125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3159000" y="2101680"/>
                <a:ext cx="30240" cy="125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3159000" y="2322360"/>
                <a:ext cx="30240" cy="125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3159000" y="2541600"/>
                <a:ext cx="30240" cy="125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3159000" y="2760840"/>
                <a:ext cx="30240" cy="125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3159000" y="2979720"/>
                <a:ext cx="30240" cy="125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159000" y="3198960"/>
                <a:ext cx="30240" cy="125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159000" y="3417840"/>
                <a:ext cx="30240" cy="125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3159000" y="3637080"/>
                <a:ext cx="30240" cy="125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3159000" y="3857760"/>
                <a:ext cx="30240" cy="29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7" name=""/>
          <p:cNvSpPr/>
          <p:nvPr/>
        </p:nvSpPr>
        <p:spPr>
          <a:xfrm>
            <a:off x="611280" y="765000"/>
            <a:ext cx="6121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gonal Coupling of Two 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 makes Miracl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210-6ED5-49F1-BB33-F175B61F602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"/>
          <p:cNvSpPr/>
          <p:nvPr/>
        </p:nvSpPr>
        <p:spPr>
          <a:xfrm>
            <a:off x="1332000" y="1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2233800" y="142920"/>
            <a:ext cx="4230000" cy="4597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of QM Electron 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0" y="6219720"/>
            <a:ext cx="89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b) D</a:t>
            </a:r>
            <a:r>
              <a:rPr b="0" lang="ja-JP" sz="1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Arial"/>
              </a:rPr>
              <a:t> molecule (stable)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2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 =(2+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/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Arial"/>
              </a:rPr>
              <a:t>A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1,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1" name=""/>
          <p:cNvGrpSpPr/>
          <p:nvPr/>
        </p:nvGrpSpPr>
        <p:grpSpPr>
          <a:xfrm>
            <a:off x="493560" y="1046160"/>
            <a:ext cx="8273160" cy="5120280"/>
            <a:chOff x="493560" y="1046160"/>
            <a:chExt cx="8273160" cy="5120280"/>
          </a:xfrm>
        </p:grpSpPr>
        <p:sp>
          <p:nvSpPr>
            <p:cNvPr id="4412" name=""/>
            <p:cNvSpPr/>
            <p:nvPr/>
          </p:nvSpPr>
          <p:spPr>
            <a:xfrm flipV="1">
              <a:off x="5016600" y="2111040"/>
              <a:ext cx="64584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654520" y="2111400"/>
              <a:ext cx="47628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V="1">
              <a:off x="5016600" y="2685600"/>
              <a:ext cx="645840" cy="50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 flipV="1">
              <a:off x="5483160" y="3325320"/>
              <a:ext cx="64620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019840" y="3191040"/>
              <a:ext cx="47448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654520" y="2685960"/>
              <a:ext cx="474840" cy="641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027760" y="2617920"/>
              <a:ext cx="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5494320" y="325908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130800" y="2752560"/>
              <a:ext cx="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662440" y="21114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264280" y="1898640"/>
              <a:ext cx="1600200" cy="165564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4697280" y="2989440"/>
              <a:ext cx="1602000" cy="165384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4832280" y="1874880"/>
              <a:ext cx="1600200" cy="16542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4229280" y="1773360"/>
              <a:ext cx="1601640" cy="16542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4957920" y="2516040"/>
              <a:ext cx="203040" cy="203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027840" y="265104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559480" y="261792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391000" y="3664080"/>
              <a:ext cx="204840" cy="2030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95200" y="153972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hr orbit of D 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H="1">
              <a:off x="6724440" y="1808280"/>
              <a:ext cx="47628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5307840" y="1133640"/>
              <a:ext cx="34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 center; &lt;e&gt;=(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 + e↓)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946560" y="241632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 flipV="1">
              <a:off x="6248520" y="2651040"/>
              <a:ext cx="85248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493560" y="4059360"/>
              <a:ext cx="1602000" cy="16542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942840" y="1133640"/>
              <a:ext cx="1602000" cy="165384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solidFill>
              <a:srgbClr val="fbfda1"/>
            </a:solidFill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528920" y="4059360"/>
              <a:ext cx="1601640" cy="16542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solidFill>
              <a:srgbClr val="f8f8f8"/>
            </a:solidFill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643040" y="1854360"/>
              <a:ext cx="204840" cy="2030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147680" y="4778280"/>
              <a:ext cx="204840" cy="203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2273400" y="4778280"/>
              <a:ext cx="204840" cy="203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547640" y="4059360"/>
              <a:ext cx="549360" cy="1665000"/>
            </a:xfrm>
            <a:prstGeom prst="donut">
              <a:avLst>
                <a:gd name="adj" fmla="val 25000"/>
              </a:avLst>
            </a:prstGeom>
            <a:solidFill>
              <a:srgbClr val="fbf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639800" y="4103640"/>
              <a:ext cx="36684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639800" y="5319720"/>
              <a:ext cx="36684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072440" y="2979720"/>
              <a:ext cx="20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a) D atom (stab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5185440" y="5003640"/>
              <a:ext cx="34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c) 4D/TSC (life time about 60 f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2341080" y="104616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53 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V="1">
              <a:off x="2496960" y="1314360"/>
              <a:ext cx="27468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465640" y="3319560"/>
              <a:ext cx="19090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Bosonized elec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Center torus 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(e↑ + e↓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V="1">
              <a:off x="1989000" y="4059360"/>
              <a:ext cx="9622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1174680" y="5815080"/>
              <a:ext cx="123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1454040" y="58593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3 p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 rot="270600">
              <a:off x="4818240" y="3112560"/>
              <a:ext cx="1419120" cy="27000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 rot="4103400">
              <a:off x="5072400" y="2593080"/>
              <a:ext cx="1582560" cy="29844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 rot="18136200">
              <a:off x="4592520" y="2597040"/>
              <a:ext cx="1574640" cy="14580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 rot="180000">
              <a:off x="4828680" y="3075120"/>
              <a:ext cx="822600" cy="26964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 rot="508800">
              <a:off x="5368680" y="3152520"/>
              <a:ext cx="912600" cy="26964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 rot="5817600">
              <a:off x="4803480" y="2511000"/>
              <a:ext cx="1576440" cy="344520"/>
            </a:xfrm>
            <a:prstGeom prst="donut">
              <a:avLst>
                <a:gd name="adj" fmla="val 1145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4835520" y="3024360"/>
              <a:ext cx="36684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5961240" y="3159000"/>
              <a:ext cx="36648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5465880" y="1943280"/>
              <a:ext cx="36648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5330880" y="3024360"/>
              <a:ext cx="366480" cy="3603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 flipV="1">
              <a:off x="5641920" y="1402920"/>
              <a:ext cx="55080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831720" y="3076560"/>
              <a:ext cx="1651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Orbit of Bosoniz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Electron coup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For (e↑ + e↓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086520" y="3024360"/>
              <a:ext cx="8715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>
              <a:off x="5643360" y="2843280"/>
              <a:ext cx="41436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5106960" y="2708280"/>
              <a:ext cx="27468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2565360" y="204156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│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Ψ</a:t>
              </a:r>
              <a:r>
                <a:rPr b="0" lang="ja-JP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│</a:t>
              </a:r>
              <a:r>
                <a:rPr b="0" lang="ja-JP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2449440" y="1898640"/>
              <a:ext cx="45720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1053720" y="4967280"/>
              <a:ext cx="3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180880" y="4959360"/>
              <a:ext cx="3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F14-069B-427B-B52A-1C0736294FD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82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Function for 4D/TSC (t=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31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4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~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A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1,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1,S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A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2,S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1,S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2,S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+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+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C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D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]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3,S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&lt;N.C.&gt;=1/(6(1+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i,Sj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Sk,S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j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6600"/>
                </a:solidFill>
                <a:latin typeface="Arial"/>
                <a:ea typeface="Arial"/>
              </a:rPr>
              <a:t>6-Bonds of “Bosonozed” electron-pairs (e↑+ e↓), which forms Regular Tetrahed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Arial"/>
              </a:rPr>
              <a:t>4-Electron-Centers at Vertexes of Regular Tetrahed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44C-978F-4A6A-AFF2-A475E3D6517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"/>
          <p:cNvSpPr/>
          <p:nvPr/>
        </p:nvSpPr>
        <p:spPr>
          <a:xfrm>
            <a:off x="2273040" y="368280"/>
            <a:ext cx="4429800" cy="4597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Orbits of TSC : at 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4" name=""/>
          <p:cNvGrpSpPr/>
          <p:nvPr/>
        </p:nvGrpSpPr>
        <p:grpSpPr>
          <a:xfrm>
            <a:off x="2185920" y="1585800"/>
            <a:ext cx="5230440" cy="4678560"/>
            <a:chOff x="2185920" y="1585800"/>
            <a:chExt cx="5230440" cy="4678560"/>
          </a:xfrm>
        </p:grpSpPr>
        <p:sp>
          <p:nvSpPr>
            <p:cNvPr id="4475" name=""/>
            <p:cNvSpPr/>
            <p:nvPr/>
          </p:nvSpPr>
          <p:spPr>
            <a:xfrm flipV="1">
              <a:off x="3222720" y="2889360"/>
              <a:ext cx="85392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 flipV="1">
              <a:off x="3851280" y="3743280"/>
              <a:ext cx="85392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222720" y="3564000"/>
              <a:ext cx="62856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4076640" y="2889360"/>
              <a:ext cx="63036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 flipV="1">
              <a:off x="3222720" y="3654360"/>
              <a:ext cx="853920" cy="67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V="1">
              <a:off x="3851280" y="4508640"/>
              <a:ext cx="85392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222720" y="4329000"/>
              <a:ext cx="62856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4076640" y="3654360"/>
              <a:ext cx="628560" cy="85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222720" y="3564000"/>
              <a:ext cx="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851280" y="4419720"/>
              <a:ext cx="0" cy="76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4707000" y="3743280"/>
              <a:ext cx="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4076640" y="2889360"/>
              <a:ext cx="0" cy="76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27360" y="2664000"/>
              <a:ext cx="2116080" cy="22050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2816280" y="4059360"/>
              <a:ext cx="2116080" cy="22050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997360" y="2573280"/>
              <a:ext cx="2116080" cy="22050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185920" y="2438280"/>
              <a:ext cx="2116080" cy="2205000"/>
            </a:xfrm>
            <a:custGeom>
              <a:avLst/>
              <a:gdLst/>
              <a:ahLst/>
              <a:rect l="l" t="t" r="r" b="b"/>
              <a:pathLst>
                <a:path w="1865" h="1894">
                  <a:moveTo>
                    <a:pt x="921" y="9"/>
                  </a:moveTo>
                  <a:cubicBezTo>
                    <a:pt x="980" y="4"/>
                    <a:pt x="1039" y="0"/>
                    <a:pt x="1091" y="9"/>
                  </a:cubicBezTo>
                  <a:cubicBezTo>
                    <a:pt x="1143" y="18"/>
                    <a:pt x="1186" y="47"/>
                    <a:pt x="1233" y="66"/>
                  </a:cubicBezTo>
                  <a:cubicBezTo>
                    <a:pt x="1280" y="85"/>
                    <a:pt x="1331" y="98"/>
                    <a:pt x="1374" y="122"/>
                  </a:cubicBezTo>
                  <a:cubicBezTo>
                    <a:pt x="1417" y="146"/>
                    <a:pt x="1450" y="179"/>
                    <a:pt x="1488" y="207"/>
                  </a:cubicBezTo>
                  <a:cubicBezTo>
                    <a:pt x="1526" y="235"/>
                    <a:pt x="1563" y="254"/>
                    <a:pt x="1601" y="292"/>
                  </a:cubicBezTo>
                  <a:cubicBezTo>
                    <a:pt x="1639" y="330"/>
                    <a:pt x="1682" y="382"/>
                    <a:pt x="1715" y="434"/>
                  </a:cubicBezTo>
                  <a:cubicBezTo>
                    <a:pt x="1748" y="486"/>
                    <a:pt x="1781" y="543"/>
                    <a:pt x="1800" y="604"/>
                  </a:cubicBezTo>
                  <a:cubicBezTo>
                    <a:pt x="1819" y="665"/>
                    <a:pt x="1819" y="727"/>
                    <a:pt x="1828" y="803"/>
                  </a:cubicBezTo>
                  <a:cubicBezTo>
                    <a:pt x="1837" y="879"/>
                    <a:pt x="1865" y="968"/>
                    <a:pt x="1856" y="1058"/>
                  </a:cubicBezTo>
                  <a:cubicBezTo>
                    <a:pt x="1847" y="1148"/>
                    <a:pt x="1804" y="1261"/>
                    <a:pt x="1771" y="1341"/>
                  </a:cubicBezTo>
                  <a:cubicBezTo>
                    <a:pt x="1738" y="1421"/>
                    <a:pt x="1705" y="1483"/>
                    <a:pt x="1658" y="1540"/>
                  </a:cubicBezTo>
                  <a:cubicBezTo>
                    <a:pt x="1611" y="1597"/>
                    <a:pt x="1540" y="1644"/>
                    <a:pt x="1488" y="1682"/>
                  </a:cubicBezTo>
                  <a:cubicBezTo>
                    <a:pt x="1436" y="1720"/>
                    <a:pt x="1389" y="1739"/>
                    <a:pt x="1346" y="1767"/>
                  </a:cubicBezTo>
                  <a:cubicBezTo>
                    <a:pt x="1303" y="1795"/>
                    <a:pt x="1285" y="1833"/>
                    <a:pt x="1233" y="1852"/>
                  </a:cubicBezTo>
                  <a:cubicBezTo>
                    <a:pt x="1181" y="1871"/>
                    <a:pt x="1100" y="1875"/>
                    <a:pt x="1034" y="1880"/>
                  </a:cubicBezTo>
                  <a:cubicBezTo>
                    <a:pt x="968" y="1885"/>
                    <a:pt x="911" y="1894"/>
                    <a:pt x="836" y="1880"/>
                  </a:cubicBezTo>
                  <a:cubicBezTo>
                    <a:pt x="761" y="1866"/>
                    <a:pt x="642" y="1819"/>
                    <a:pt x="581" y="1795"/>
                  </a:cubicBezTo>
                  <a:cubicBezTo>
                    <a:pt x="520" y="1771"/>
                    <a:pt x="514" y="1766"/>
                    <a:pt x="467" y="1738"/>
                  </a:cubicBezTo>
                  <a:cubicBezTo>
                    <a:pt x="420" y="1710"/>
                    <a:pt x="349" y="1672"/>
                    <a:pt x="297" y="1625"/>
                  </a:cubicBezTo>
                  <a:cubicBezTo>
                    <a:pt x="245" y="1578"/>
                    <a:pt x="188" y="1507"/>
                    <a:pt x="155" y="1455"/>
                  </a:cubicBezTo>
                  <a:cubicBezTo>
                    <a:pt x="122" y="1403"/>
                    <a:pt x="122" y="1374"/>
                    <a:pt x="99" y="1313"/>
                  </a:cubicBezTo>
                  <a:cubicBezTo>
                    <a:pt x="76" y="1252"/>
                    <a:pt x="28" y="1171"/>
                    <a:pt x="14" y="1086"/>
                  </a:cubicBezTo>
                  <a:cubicBezTo>
                    <a:pt x="0" y="1001"/>
                    <a:pt x="5" y="883"/>
                    <a:pt x="14" y="803"/>
                  </a:cubicBezTo>
                  <a:cubicBezTo>
                    <a:pt x="23" y="723"/>
                    <a:pt x="42" y="670"/>
                    <a:pt x="70" y="604"/>
                  </a:cubicBezTo>
                  <a:cubicBezTo>
                    <a:pt x="98" y="538"/>
                    <a:pt x="142" y="467"/>
                    <a:pt x="184" y="406"/>
                  </a:cubicBezTo>
                  <a:cubicBezTo>
                    <a:pt x="226" y="345"/>
                    <a:pt x="273" y="283"/>
                    <a:pt x="325" y="236"/>
                  </a:cubicBezTo>
                  <a:cubicBezTo>
                    <a:pt x="377" y="189"/>
                    <a:pt x="439" y="150"/>
                    <a:pt x="496" y="122"/>
                  </a:cubicBezTo>
                  <a:cubicBezTo>
                    <a:pt x="553" y="94"/>
                    <a:pt x="605" y="85"/>
                    <a:pt x="666" y="66"/>
                  </a:cubicBezTo>
                  <a:cubicBezTo>
                    <a:pt x="727" y="47"/>
                    <a:pt x="812" y="18"/>
                    <a:pt x="864" y="9"/>
                  </a:cubicBezTo>
                  <a:cubicBezTo>
                    <a:pt x="916" y="0"/>
                    <a:pt x="964" y="9"/>
                    <a:pt x="978" y="9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132000" y="3429000"/>
              <a:ext cx="270000" cy="27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572000" y="3608280"/>
              <a:ext cx="270000" cy="27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41640" y="3564000"/>
              <a:ext cx="270000" cy="2696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716280" y="4959360"/>
              <a:ext cx="270000" cy="27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716280" y="2573280"/>
              <a:ext cx="720720" cy="717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4346640" y="4194000"/>
              <a:ext cx="720720" cy="7178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2862360" y="4059360"/>
              <a:ext cx="720720" cy="717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537000" y="3968640"/>
              <a:ext cx="720720" cy="7178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bfd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382360" y="21258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hr orbit of D 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 flipH="1">
              <a:off x="5516640" y="2484360"/>
              <a:ext cx="63000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650400" y="1585800"/>
              <a:ext cx="34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 center; &lt;e&gt;=(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 + e↓)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H="1">
              <a:off x="4122360" y="1898640"/>
              <a:ext cx="8892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5832360" y="329580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 flipV="1">
              <a:off x="4886280" y="3608280"/>
              <a:ext cx="112572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F4C-CF52-45D0-B4CE-DE4B709DE83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"/>
          <p:cNvSpPr/>
          <p:nvPr/>
        </p:nvSpPr>
        <p:spPr>
          <a:xfrm>
            <a:off x="2520" y="33386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6" name=""/>
          <p:cNvGrpSpPr/>
          <p:nvPr/>
        </p:nvGrpSpPr>
        <p:grpSpPr>
          <a:xfrm>
            <a:off x="341280" y="3564000"/>
            <a:ext cx="2472480" cy="2921040"/>
            <a:chOff x="341280" y="3564000"/>
            <a:chExt cx="2472480" cy="2921040"/>
          </a:xfrm>
        </p:grpSpPr>
        <p:sp>
          <p:nvSpPr>
            <p:cNvPr id="4507" name=""/>
            <p:cNvSpPr/>
            <p:nvPr/>
          </p:nvSpPr>
          <p:spPr>
            <a:xfrm>
              <a:off x="1600200" y="4427640"/>
              <a:ext cx="608040" cy="618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41280" y="4427640"/>
              <a:ext cx="608040" cy="618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1457280" y="4498920"/>
              <a:ext cx="43200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1595520" y="3693960"/>
              <a:ext cx="63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431640" y="611676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92000" y="61167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736560" y="4498920"/>
              <a:ext cx="43200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1096920" y="4140360"/>
              <a:ext cx="432000" cy="433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1096920" y="4859280"/>
              <a:ext cx="43200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1528920" y="4498920"/>
              <a:ext cx="3092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809640" y="4643280"/>
              <a:ext cx="309600" cy="314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1528920" y="464328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809640" y="449892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168560" y="414036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168560" y="5003640"/>
              <a:ext cx="28872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168560" y="4859280"/>
              <a:ext cx="3092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1168560" y="4282920"/>
              <a:ext cx="309240" cy="314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1384200" y="449892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1457280" y="435600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1096920" y="478800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1025640" y="4932360"/>
              <a:ext cx="21564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V="1">
              <a:off x="1384200" y="4787640"/>
              <a:ext cx="21744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 flipV="1">
              <a:off x="1384200" y="4571640"/>
              <a:ext cx="21600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H="1">
              <a:off x="1025640" y="4211640"/>
              <a:ext cx="28728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V="1">
              <a:off x="1312920" y="435564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1384200" y="4427640"/>
              <a:ext cx="0" cy="72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 flipH="1">
              <a:off x="1025280" y="4498920"/>
              <a:ext cx="21564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1025640" y="4643280"/>
              <a:ext cx="64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1025640" y="4788000"/>
              <a:ext cx="576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1025640" y="521964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025640" y="356400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H="1" flipV="1">
              <a:off x="746280" y="3595320"/>
              <a:ext cx="2253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1799280" y="562284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528920" y="5219640"/>
              <a:ext cx="647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1" name=""/>
          <p:cNvGrpSpPr/>
          <p:nvPr/>
        </p:nvGrpSpPr>
        <p:grpSpPr>
          <a:xfrm>
            <a:off x="3992040" y="4238640"/>
            <a:ext cx="3501000" cy="1316160"/>
            <a:chOff x="3992040" y="4238640"/>
            <a:chExt cx="3501000" cy="1316160"/>
          </a:xfrm>
        </p:grpSpPr>
        <p:sp>
          <p:nvSpPr>
            <p:cNvPr id="4542" name=""/>
            <p:cNvSpPr/>
            <p:nvPr/>
          </p:nvSpPr>
          <p:spPr>
            <a:xfrm>
              <a:off x="4437000" y="446400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076640" y="446400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7182000" y="441972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6821640" y="4419720"/>
              <a:ext cx="3092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7002360" y="4599000"/>
              <a:ext cx="3114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7002360" y="423864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270320" y="427680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270320" y="463248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697360" y="4599000"/>
              <a:ext cx="88920" cy="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832360" y="4643280"/>
              <a:ext cx="809640" cy="0"/>
            </a:xfrm>
            <a:prstGeom prst="line">
              <a:avLst/>
            </a:prstGeom>
            <a:ln w="28440">
              <a:solidFill>
                <a:srgbClr val="fa083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842000" y="4643280"/>
              <a:ext cx="809640" cy="0"/>
            </a:xfrm>
            <a:prstGeom prst="line">
              <a:avLst/>
            </a:prstGeom>
            <a:ln w="28440">
              <a:solidFill>
                <a:srgbClr val="fa083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3992040" y="5186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6737040" y="509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5" name=""/>
          <p:cNvGrpSpPr/>
          <p:nvPr/>
        </p:nvGrpSpPr>
        <p:grpSpPr>
          <a:xfrm>
            <a:off x="4707000" y="324000"/>
            <a:ext cx="2206440" cy="2151000"/>
            <a:chOff x="4707000" y="324000"/>
            <a:chExt cx="2206440" cy="2151000"/>
          </a:xfrm>
        </p:grpSpPr>
        <p:sp>
          <p:nvSpPr>
            <p:cNvPr id="4556" name=""/>
            <p:cNvSpPr/>
            <p:nvPr/>
          </p:nvSpPr>
          <p:spPr>
            <a:xfrm>
              <a:off x="5132160" y="1071720"/>
              <a:ext cx="588960" cy="6127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5789520" y="1085760"/>
              <a:ext cx="588960" cy="614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5288040" y="1228680"/>
              <a:ext cx="295200" cy="306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5927760" y="1233720"/>
              <a:ext cx="293400" cy="3078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5610240" y="898560"/>
              <a:ext cx="293400" cy="306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5610240" y="1549440"/>
              <a:ext cx="293400" cy="3081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5248080" y="2124000"/>
              <a:ext cx="11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5157720" y="2168640"/>
              <a:ext cx="117792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r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= 4x2.8 f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199200" y="746280"/>
              <a:ext cx="714240" cy="252360"/>
            </a:xfrm>
            <a:prstGeom prst="wedgeRectCallout">
              <a:avLst>
                <a:gd name="adj1" fmla="val -60444"/>
                <a:gd name="adj2" fmla="val 168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 or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707000" y="324000"/>
              <a:ext cx="857160" cy="314280"/>
            </a:xfrm>
            <a:prstGeom prst="wedgeRectCallout">
              <a:avLst>
                <a:gd name="adj1" fmla="val 51666"/>
                <a:gd name="adj2" fmla="val 11111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5472000" y="728640"/>
              <a:ext cx="588960" cy="6127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5629320" y="908280"/>
              <a:ext cx="293400" cy="3078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5468760" y="1403280"/>
              <a:ext cx="588960" cy="613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5607000" y="1538280"/>
              <a:ext cx="293760" cy="3081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0" name=""/>
          <p:cNvSpPr/>
          <p:nvPr/>
        </p:nvSpPr>
        <p:spPr>
          <a:xfrm>
            <a:off x="1420920" y="169380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2057400" y="264168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2057400" y="27860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484200" y="81108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3095640" y="541440"/>
            <a:ext cx="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542880" y="235908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542880" y="254160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2050920" y="1139760"/>
            <a:ext cx="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2050920" y="1319040"/>
            <a:ext cx="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1479600" y="2588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1479600" y="43956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1" name=""/>
          <p:cNvGrpSpPr/>
          <p:nvPr/>
        </p:nvGrpSpPr>
        <p:grpSpPr>
          <a:xfrm>
            <a:off x="341280" y="189000"/>
            <a:ext cx="3016080" cy="2779560"/>
            <a:chOff x="341280" y="189000"/>
            <a:chExt cx="3016080" cy="2779560"/>
          </a:xfrm>
        </p:grpSpPr>
        <p:sp>
          <p:nvSpPr>
            <p:cNvPr id="4582" name=""/>
            <p:cNvSpPr/>
            <p:nvPr/>
          </p:nvSpPr>
          <p:spPr>
            <a:xfrm>
              <a:off x="672840" y="2394000"/>
              <a:ext cx="110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3068280" y="24606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279440" y="1611360"/>
              <a:ext cx="403200" cy="40788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437480" y="173988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917360" y="2560680"/>
              <a:ext cx="403200" cy="40788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2077200" y="267192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41280" y="730080"/>
              <a:ext cx="403200" cy="40824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91400" y="84780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2954160" y="458640"/>
              <a:ext cx="403200" cy="408240"/>
            </a:xfrm>
            <a:prstGeom prst="ellipse">
              <a:avLst/>
            </a:prstGeom>
            <a:gradFill rotWithShape="0">
              <a:gsLst>
                <a:gs pos="0">
                  <a:srgbClr val="a5f9f9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112200" y="587520"/>
              <a:ext cx="22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Century"/>
                </a:rPr>
                <a:t>d</a:t>
              </a:r>
              <a:r>
                <a:rPr b="1" lang="en-US" sz="1800" spc="-1" strike="noStrike" baseline="30000">
                  <a:solidFill>
                    <a:srgbClr val="010000"/>
                  </a:solidFill>
                  <a:latin typeface="Century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09320" y="2290680"/>
              <a:ext cx="335160" cy="338400"/>
            </a:xfrm>
            <a:prstGeom prst="ellipse">
              <a:avLst/>
            </a:prstGeom>
            <a:gradFill rotWithShape="0">
              <a:gsLst>
                <a:gs pos="0">
                  <a:srgbClr val="fdf83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525600" y="234936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917360" y="1069920"/>
              <a:ext cx="336600" cy="339840"/>
            </a:xfrm>
            <a:prstGeom prst="ellipse">
              <a:avLst/>
            </a:prstGeom>
            <a:gradFill rotWithShape="0">
              <a:gsLst>
                <a:gs pos="0">
                  <a:srgbClr val="fdf83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2035440" y="113508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1346040" y="189000"/>
              <a:ext cx="336600" cy="339480"/>
            </a:xfrm>
            <a:prstGeom prst="ellipse">
              <a:avLst/>
            </a:prstGeom>
            <a:gradFill rotWithShape="0">
              <a:gsLst>
                <a:gs pos="0">
                  <a:srgbClr val="fdf83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478160" y="24444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2944800" y="2019240"/>
              <a:ext cx="336240" cy="339840"/>
            </a:xfrm>
            <a:prstGeom prst="ellipse">
              <a:avLst/>
            </a:prstGeom>
            <a:gradFill rotWithShape="0">
              <a:gsLst>
                <a:gs pos="0">
                  <a:srgbClr val="fdf83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3033360" y="208584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3059280" y="2073240"/>
              <a:ext cx="25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10000"/>
                  </a:solidFill>
                  <a:latin typeface="Century"/>
                </a:rPr>
                <a:t>e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3033360" y="227016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814400" y="1544760"/>
              <a:ext cx="13500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3" name=""/>
            <p:cNvGrpSpPr/>
            <p:nvPr/>
          </p:nvGrpSpPr>
          <p:grpSpPr>
            <a:xfrm>
              <a:off x="739440" y="1060560"/>
              <a:ext cx="1074960" cy="551880"/>
              <a:chOff x="739440" y="1060560"/>
              <a:chExt cx="1074960" cy="551880"/>
            </a:xfrm>
          </p:grpSpPr>
          <p:sp>
            <p:nvSpPr>
              <p:cNvPr id="4604" name=""/>
              <p:cNvSpPr/>
              <p:nvPr/>
            </p:nvSpPr>
            <p:spPr>
              <a:xfrm>
                <a:off x="739440" y="1060560"/>
                <a:ext cx="994680" cy="517680"/>
              </a:xfrm>
              <a:custGeom>
                <a:avLst/>
                <a:gdLst/>
                <a:ahLst/>
                <a:rect l="l" t="t" r="r" b="b"/>
                <a:pathLst>
                  <a:path w="1168" h="603">
                    <a:moveTo>
                      <a:pt x="10" y="0"/>
                    </a:moveTo>
                    <a:lnTo>
                      <a:pt x="0" y="23"/>
                    </a:lnTo>
                    <a:lnTo>
                      <a:pt x="1158" y="603"/>
                    </a:lnTo>
                    <a:lnTo>
                      <a:pt x="1168" y="58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707120" y="1522440"/>
                <a:ext cx="107280" cy="90000"/>
              </a:xfrm>
              <a:custGeom>
                <a:avLst/>
                <a:gdLst/>
                <a:ahLst/>
                <a:rect l="l" t="t" r="r" b="b"/>
                <a:pathLst>
                  <a:path w="126" h="105">
                    <a:moveTo>
                      <a:pt x="0" y="105"/>
                    </a:moveTo>
                    <a:lnTo>
                      <a:pt x="126" y="104"/>
                    </a:lnTo>
                    <a:lnTo>
                      <a:pt x="49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6" name=""/>
            <p:cNvGrpSpPr/>
            <p:nvPr/>
          </p:nvGrpSpPr>
          <p:grpSpPr>
            <a:xfrm>
              <a:off x="1611000" y="1663560"/>
              <a:ext cx="203400" cy="95400"/>
              <a:chOff x="1611000" y="1663560"/>
              <a:chExt cx="203400" cy="95400"/>
            </a:xfrm>
          </p:grpSpPr>
          <p:sp>
            <p:nvSpPr>
              <p:cNvPr id="4607" name=""/>
              <p:cNvSpPr/>
              <p:nvPr/>
            </p:nvSpPr>
            <p:spPr>
              <a:xfrm>
                <a:off x="1611000" y="1699920"/>
                <a:ext cx="117360" cy="58680"/>
              </a:xfrm>
              <a:custGeom>
                <a:avLst/>
                <a:gdLst/>
                <a:ahLst/>
                <a:rect l="l" t="t" r="r" b="b"/>
                <a:pathLst>
                  <a:path w="138" h="68">
                    <a:moveTo>
                      <a:pt x="0" y="43"/>
                    </a:moveTo>
                    <a:lnTo>
                      <a:pt x="7" y="68"/>
                    </a:lnTo>
                    <a:lnTo>
                      <a:pt x="138" y="26"/>
                    </a:lnTo>
                    <a:lnTo>
                      <a:pt x="131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1708920" y="1663560"/>
                <a:ext cx="105480" cy="954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35" y="110"/>
                    </a:moveTo>
                    <a:lnTo>
                      <a:pt x="124" y="18"/>
                    </a:lnTo>
                    <a:lnTo>
                      <a:pt x="0" y="0"/>
                    </a:lnTo>
                    <a:lnTo>
                      <a:pt x="35" y="11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9" name=""/>
            <p:cNvGrpSpPr/>
            <p:nvPr/>
          </p:nvGrpSpPr>
          <p:grpSpPr>
            <a:xfrm>
              <a:off x="1949400" y="790560"/>
              <a:ext cx="1077840" cy="820800"/>
              <a:chOff x="1949400" y="790560"/>
              <a:chExt cx="1077840" cy="820800"/>
            </a:xfrm>
          </p:grpSpPr>
          <p:sp>
            <p:nvSpPr>
              <p:cNvPr id="4610" name=""/>
              <p:cNvSpPr/>
              <p:nvPr/>
            </p:nvSpPr>
            <p:spPr>
              <a:xfrm>
                <a:off x="2019960" y="790560"/>
                <a:ext cx="1007280" cy="772560"/>
              </a:xfrm>
              <a:custGeom>
                <a:avLst/>
                <a:gdLst/>
                <a:ahLst/>
                <a:rect l="l" t="t" r="r" b="b"/>
                <a:pathLst>
                  <a:path w="1183" h="901">
                    <a:moveTo>
                      <a:pt x="1183" y="21"/>
                    </a:moveTo>
                    <a:lnTo>
                      <a:pt x="1168" y="0"/>
                    </a:lnTo>
                    <a:lnTo>
                      <a:pt x="0" y="881"/>
                    </a:lnTo>
                    <a:lnTo>
                      <a:pt x="14" y="901"/>
                    </a:lnTo>
                    <a:lnTo>
                      <a:pt x="1183" y="21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1949400" y="1512000"/>
                <a:ext cx="106200" cy="9936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58" y="0"/>
                    </a:moveTo>
                    <a:lnTo>
                      <a:pt x="0" y="116"/>
                    </a:lnTo>
                    <a:lnTo>
                      <a:pt x="125" y="9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2" name=""/>
            <p:cNvGrpSpPr/>
            <p:nvPr/>
          </p:nvGrpSpPr>
          <p:grpSpPr>
            <a:xfrm>
              <a:off x="1858680" y="1679400"/>
              <a:ext cx="235080" cy="884160"/>
              <a:chOff x="1858680" y="1679400"/>
              <a:chExt cx="235080" cy="884160"/>
            </a:xfrm>
          </p:grpSpPr>
          <p:sp>
            <p:nvSpPr>
              <p:cNvPr id="4613" name=""/>
              <p:cNvSpPr/>
              <p:nvPr/>
            </p:nvSpPr>
            <p:spPr>
              <a:xfrm>
                <a:off x="1895040" y="1772640"/>
                <a:ext cx="198720" cy="790920"/>
              </a:xfrm>
              <a:custGeom>
                <a:avLst/>
                <a:gdLst/>
                <a:ahLst/>
                <a:rect l="l" t="t" r="r" b="b"/>
                <a:pathLst>
                  <a:path w="234" h="921">
                    <a:moveTo>
                      <a:pt x="210" y="921"/>
                    </a:moveTo>
                    <a:lnTo>
                      <a:pt x="234" y="914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210" y="921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1858680" y="1679400"/>
                <a:ext cx="93960" cy="108720"/>
              </a:xfrm>
              <a:custGeom>
                <a:avLst/>
                <a:gdLst/>
                <a:ahLst/>
                <a:rect l="l" t="t" r="r" b="b"/>
                <a:pathLst>
                  <a:path w="111" h="127">
                    <a:moveTo>
                      <a:pt x="111" y="100"/>
                    </a:moveTo>
                    <a:lnTo>
                      <a:pt x="28" y="0"/>
                    </a:lnTo>
                    <a:lnTo>
                      <a:pt x="0" y="127"/>
                    </a:lnTo>
                    <a:lnTo>
                      <a:pt x="111" y="1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5" name=""/>
            <p:cNvGrpSpPr/>
            <p:nvPr/>
          </p:nvGrpSpPr>
          <p:grpSpPr>
            <a:xfrm>
              <a:off x="668160" y="1679400"/>
              <a:ext cx="1214280" cy="760320"/>
              <a:chOff x="668160" y="1679400"/>
              <a:chExt cx="1214280" cy="760320"/>
            </a:xfrm>
          </p:grpSpPr>
          <p:sp>
            <p:nvSpPr>
              <p:cNvPr id="4616" name=""/>
              <p:cNvSpPr/>
              <p:nvPr/>
            </p:nvSpPr>
            <p:spPr>
              <a:xfrm>
                <a:off x="668160" y="1729080"/>
                <a:ext cx="1118880" cy="710640"/>
              </a:xfrm>
              <a:custGeom>
                <a:avLst/>
                <a:gdLst/>
                <a:ahLst/>
                <a:rect l="l" t="t" r="r" b="b"/>
                <a:pathLst>
                  <a:path w="1313" h="827">
                    <a:moveTo>
                      <a:pt x="0" y="794"/>
                    </a:moveTo>
                    <a:lnTo>
                      <a:pt x="19" y="827"/>
                    </a:lnTo>
                    <a:lnTo>
                      <a:pt x="1313" y="33"/>
                    </a:lnTo>
                    <a:lnTo>
                      <a:pt x="1294" y="0"/>
                    </a:lnTo>
                    <a:lnTo>
                      <a:pt x="0" y="79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1745280" y="1679400"/>
                <a:ext cx="137160" cy="122040"/>
              </a:xfrm>
              <a:custGeom>
                <a:avLst/>
                <a:gdLst/>
                <a:ahLst/>
                <a:rect l="l" t="t" r="r" b="b"/>
                <a:pathLst>
                  <a:path w="161" h="142">
                    <a:moveTo>
                      <a:pt x="74" y="142"/>
                    </a:moveTo>
                    <a:lnTo>
                      <a:pt x="161" y="0"/>
                    </a:lnTo>
                    <a:lnTo>
                      <a:pt x="0" y="12"/>
                    </a:lnTo>
                    <a:lnTo>
                      <a:pt x="74" y="14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8" name=""/>
            <p:cNvGrpSpPr/>
            <p:nvPr/>
          </p:nvGrpSpPr>
          <p:grpSpPr>
            <a:xfrm>
              <a:off x="1949400" y="1400040"/>
              <a:ext cx="109440" cy="144720"/>
              <a:chOff x="1949400" y="1400040"/>
              <a:chExt cx="109440" cy="144720"/>
            </a:xfrm>
          </p:grpSpPr>
          <p:sp>
            <p:nvSpPr>
              <p:cNvPr id="4619" name=""/>
              <p:cNvSpPr/>
              <p:nvPr/>
            </p:nvSpPr>
            <p:spPr>
              <a:xfrm>
                <a:off x="1990440" y="140004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6" y="19"/>
                    </a:moveTo>
                    <a:lnTo>
                      <a:pt x="15" y="0"/>
                    </a:lnTo>
                    <a:lnTo>
                      <a:pt x="0" y="26"/>
                    </a:lnTo>
                    <a:lnTo>
                      <a:pt x="31" y="46"/>
                    </a:lnTo>
                    <a:lnTo>
                      <a:pt x="46" y="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1949400" y="1400040"/>
                <a:ext cx="109440" cy="144720"/>
              </a:xfrm>
              <a:custGeom>
                <a:avLst/>
                <a:gdLst/>
                <a:ahLst/>
                <a:rect l="l" t="t" r="r" b="b"/>
                <a:pathLst>
                  <a:path w="130" h="167">
                    <a:moveTo>
                      <a:pt x="2" y="0"/>
                    </a:moveTo>
                    <a:lnTo>
                      <a:pt x="0" y="167"/>
                    </a:lnTo>
                    <a:lnTo>
                      <a:pt x="130" y="6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1" name=""/>
            <p:cNvGrpSpPr/>
            <p:nvPr/>
          </p:nvGrpSpPr>
          <p:grpSpPr>
            <a:xfrm>
              <a:off x="1949400" y="1673280"/>
              <a:ext cx="1010880" cy="496440"/>
              <a:chOff x="1949400" y="1673280"/>
              <a:chExt cx="1010880" cy="496440"/>
            </a:xfrm>
          </p:grpSpPr>
          <p:sp>
            <p:nvSpPr>
              <p:cNvPr id="4622" name=""/>
              <p:cNvSpPr/>
              <p:nvPr/>
            </p:nvSpPr>
            <p:spPr>
              <a:xfrm>
                <a:off x="2053800" y="1716840"/>
                <a:ext cx="906480" cy="452880"/>
              </a:xfrm>
              <a:custGeom>
                <a:avLst/>
                <a:gdLst/>
                <a:ahLst/>
                <a:rect l="l" t="t" r="r" b="b"/>
                <a:pathLst>
                  <a:path w="1065" h="527">
                    <a:moveTo>
                      <a:pt x="1049" y="527"/>
                    </a:moveTo>
                    <a:lnTo>
                      <a:pt x="1065" y="491"/>
                    </a:lnTo>
                    <a:lnTo>
                      <a:pt x="15" y="0"/>
                    </a:lnTo>
                    <a:lnTo>
                      <a:pt x="0" y="36"/>
                    </a:lnTo>
                    <a:lnTo>
                      <a:pt x="1049" y="52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1949400" y="1673280"/>
                <a:ext cx="137520" cy="117720"/>
              </a:xfrm>
              <a:custGeom>
                <a:avLst/>
                <a:gdLst/>
                <a:ahLst/>
                <a:rect l="l" t="t" r="r" b="b"/>
                <a:pathLst>
                  <a:path w="162" h="137">
                    <a:moveTo>
                      <a:pt x="162" y="0"/>
                    </a:moveTo>
                    <a:lnTo>
                      <a:pt x="0" y="7"/>
                    </a:lnTo>
                    <a:lnTo>
                      <a:pt x="103" y="137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4" name=""/>
            <p:cNvGrpSpPr/>
            <p:nvPr/>
          </p:nvGrpSpPr>
          <p:grpSpPr>
            <a:xfrm>
              <a:off x="1531800" y="522360"/>
              <a:ext cx="309240" cy="1022040"/>
              <a:chOff x="1531800" y="522360"/>
              <a:chExt cx="309240" cy="1022040"/>
            </a:xfrm>
          </p:grpSpPr>
          <p:sp>
            <p:nvSpPr>
              <p:cNvPr id="4625" name=""/>
              <p:cNvSpPr/>
              <p:nvPr/>
            </p:nvSpPr>
            <p:spPr>
              <a:xfrm>
                <a:off x="1531800" y="522360"/>
                <a:ext cx="265320" cy="904680"/>
              </a:xfrm>
              <a:custGeom>
                <a:avLst/>
                <a:gdLst/>
                <a:ahLst/>
                <a:rect l="l" t="t" r="r" b="b"/>
                <a:pathLst>
                  <a:path w="312" h="1052">
                    <a:moveTo>
                      <a:pt x="36" y="0"/>
                    </a:moveTo>
                    <a:lnTo>
                      <a:pt x="0" y="11"/>
                    </a:lnTo>
                    <a:lnTo>
                      <a:pt x="276" y="1052"/>
                    </a:lnTo>
                    <a:lnTo>
                      <a:pt x="312" y="104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1722240" y="1403640"/>
                <a:ext cx="118800" cy="14076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0" y="39"/>
                    </a:moveTo>
                    <a:lnTo>
                      <a:pt x="108" y="164"/>
                    </a:lnTo>
                    <a:lnTo>
                      <a:pt x="14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7" name=""/>
            <p:cNvSpPr/>
            <p:nvPr/>
          </p:nvSpPr>
          <p:spPr>
            <a:xfrm flipV="1">
              <a:off x="742680" y="663120"/>
              <a:ext cx="221148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676080" y="1138320"/>
              <a:ext cx="1339920" cy="14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 flipH="1">
              <a:off x="2284200" y="866880"/>
              <a:ext cx="804960" cy="16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0" name=""/>
            <p:cNvGrpSpPr/>
            <p:nvPr/>
          </p:nvGrpSpPr>
          <p:grpSpPr>
            <a:xfrm>
              <a:off x="672840" y="1066680"/>
              <a:ext cx="676440" cy="615600"/>
              <a:chOff x="672840" y="1066680"/>
              <a:chExt cx="676440" cy="615600"/>
            </a:xfrm>
          </p:grpSpPr>
          <p:sp>
            <p:nvSpPr>
              <p:cNvPr id="4631" name=""/>
              <p:cNvSpPr/>
              <p:nvPr/>
            </p:nvSpPr>
            <p:spPr>
              <a:xfrm>
                <a:off x="672840" y="1066680"/>
                <a:ext cx="21240" cy="20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00920" y="1092240"/>
                <a:ext cx="21960" cy="194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29000" y="11178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58160" y="1144800"/>
                <a:ext cx="21240" cy="19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86960" y="116964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3"/>
                    </a:lnTo>
                    <a:lnTo>
                      <a:pt x="24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3" y="18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815400" y="1196280"/>
                <a:ext cx="21960" cy="194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4" y="18"/>
                    </a:lnTo>
                    <a:lnTo>
                      <a:pt x="23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843480" y="122112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5" y="2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1" y="23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872640" y="124776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900720" y="12733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928800" y="1299600"/>
                <a:ext cx="21240" cy="21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957960" y="132516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986400" y="13518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1014480" y="1377720"/>
                <a:ext cx="23040" cy="194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1043280" y="140328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1072440" y="1429920"/>
                <a:ext cx="21240" cy="19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1100520" y="14551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1128960" y="1481760"/>
                <a:ext cx="21240" cy="1944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1157760" y="150732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1185840" y="153324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1214280" y="1558800"/>
                <a:ext cx="23040" cy="2052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1243440" y="158544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1272240" y="1610640"/>
                <a:ext cx="21240" cy="205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3" y="19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1300320" y="163728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0" y="23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4" y="23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1328760" y="1662120"/>
                <a:ext cx="20520" cy="20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5" name=""/>
            <p:cNvGrpSpPr/>
            <p:nvPr/>
          </p:nvGrpSpPr>
          <p:grpSpPr>
            <a:xfrm>
              <a:off x="1611000" y="2016000"/>
              <a:ext cx="408240" cy="547560"/>
              <a:chOff x="1611000" y="2016000"/>
              <a:chExt cx="408240" cy="547560"/>
            </a:xfrm>
          </p:grpSpPr>
          <p:sp>
            <p:nvSpPr>
              <p:cNvPr id="4656" name=""/>
              <p:cNvSpPr/>
              <p:nvPr/>
            </p:nvSpPr>
            <p:spPr>
              <a:xfrm>
                <a:off x="1611000" y="201600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6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1633680" y="2046960"/>
                <a:ext cx="19440" cy="230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6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2" y="26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2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1657440" y="207792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5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1679760" y="210888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7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7" y="26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1703880" y="214056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5" y="26"/>
                    </a:lnTo>
                    <a:lnTo>
                      <a:pt x="16" y="27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2" y="25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1726920" y="217224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1749960" y="220320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1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1773000" y="223380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6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1796040" y="2264760"/>
                <a:ext cx="18720" cy="241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7" y="26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1819800" y="229608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5" y="27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1" y="2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1842840" y="232848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9" y="26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1865520" y="235944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1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1888560" y="2390400"/>
                <a:ext cx="18720" cy="230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7" y="25"/>
                    </a:lnTo>
                    <a:lnTo>
                      <a:pt x="18" y="26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2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1911600" y="242136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21" y="2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1935720" y="245232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5" y="3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5" y="27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1" y="2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1958760" y="2482920"/>
                <a:ext cx="18720" cy="241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5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7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7"/>
                    </a:lnTo>
                    <a:lnTo>
                      <a:pt x="22" y="26"/>
                    </a:lnTo>
                    <a:lnTo>
                      <a:pt x="22" y="25"/>
                    </a:lnTo>
                    <a:lnTo>
                      <a:pt x="21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1981800" y="2514960"/>
                <a:ext cx="17640" cy="230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6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2004840" y="254664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6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4" name=""/>
            <p:cNvSpPr/>
            <p:nvPr/>
          </p:nvSpPr>
          <p:spPr>
            <a:xfrm flipH="1">
              <a:off x="682560" y="527040"/>
              <a:ext cx="730080" cy="17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 flipV="1">
              <a:off x="752400" y="2290680"/>
              <a:ext cx="220176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680840" y="527040"/>
              <a:ext cx="1339920" cy="155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1614240" y="527040"/>
              <a:ext cx="3351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217600" y="1407960"/>
              <a:ext cx="803160" cy="7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 flipV="1">
              <a:off x="682560" y="1341360"/>
              <a:ext cx="13395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0" name=""/>
            <p:cNvGrpSpPr/>
            <p:nvPr/>
          </p:nvGrpSpPr>
          <p:grpSpPr>
            <a:xfrm>
              <a:off x="2280960" y="728640"/>
              <a:ext cx="676080" cy="479520"/>
              <a:chOff x="2280960" y="728640"/>
              <a:chExt cx="676080" cy="479520"/>
            </a:xfrm>
          </p:grpSpPr>
          <p:sp>
            <p:nvSpPr>
              <p:cNvPr id="4681" name=""/>
              <p:cNvSpPr/>
              <p:nvPr/>
            </p:nvSpPr>
            <p:spPr>
              <a:xfrm>
                <a:off x="2934360" y="72864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6"/>
                    </a:moveTo>
                    <a:lnTo>
                      <a:pt x="26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2902680" y="75060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6"/>
                    </a:moveTo>
                    <a:lnTo>
                      <a:pt x="27" y="5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2872080" y="77220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5" y="7"/>
                    </a:moveTo>
                    <a:lnTo>
                      <a:pt x="26" y="6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2840400" y="79524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5"/>
                    </a:moveTo>
                    <a:lnTo>
                      <a:pt x="26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2809080" y="81684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6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2777400" y="83916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5" y="6"/>
                    </a:moveTo>
                    <a:lnTo>
                      <a:pt x="26" y="5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2745720" y="86076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7" y="7"/>
                    </a:moveTo>
                    <a:lnTo>
                      <a:pt x="28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2714040" y="88380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7" y="5"/>
                    </a:move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2684520" y="90504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7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2652840" y="92736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6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2621160" y="94896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7"/>
                    </a:moveTo>
                    <a:lnTo>
                      <a:pt x="26" y="6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2589480" y="97200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5"/>
                    </a:move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2558160" y="99360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6" y="7"/>
                    </a:move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2527200" y="101592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5" y="6"/>
                    </a:moveTo>
                    <a:lnTo>
                      <a:pt x="26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2495880" y="103824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6" y="6"/>
                    </a:moveTo>
                    <a:lnTo>
                      <a:pt x="27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2464200" y="106056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6" y="5"/>
                    </a:moveTo>
                    <a:lnTo>
                      <a:pt x="27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2432520" y="108216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27" y="7"/>
                    </a:moveTo>
                    <a:lnTo>
                      <a:pt x="28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3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3" y="21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2401920" y="110412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6"/>
                    </a:move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2370960" y="112644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6"/>
                    </a:move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2339640" y="114912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5" y="5"/>
                    </a:moveTo>
                    <a:lnTo>
                      <a:pt x="26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2307960" y="117036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5" y="7"/>
                    </a:moveTo>
                    <a:lnTo>
                      <a:pt x="26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2280960" y="1192680"/>
                <a:ext cx="18720" cy="154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1" y="6"/>
                    </a:moveTo>
                    <a:lnTo>
                      <a:pt x="22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3" name=""/>
            <p:cNvGrpSpPr/>
            <p:nvPr/>
          </p:nvGrpSpPr>
          <p:grpSpPr>
            <a:xfrm>
              <a:off x="1611000" y="1407960"/>
              <a:ext cx="402840" cy="274320"/>
              <a:chOff x="1611000" y="1407960"/>
              <a:chExt cx="402840" cy="274320"/>
            </a:xfrm>
          </p:grpSpPr>
          <p:sp>
            <p:nvSpPr>
              <p:cNvPr id="4704" name=""/>
              <p:cNvSpPr/>
              <p:nvPr/>
            </p:nvSpPr>
            <p:spPr>
              <a:xfrm>
                <a:off x="1611000" y="166464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" y="15"/>
                    </a:move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1642320" y="1642320"/>
                <a:ext cx="2340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" y="16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1674720" y="162180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5"/>
                    </a:move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1706040" y="160056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4"/>
                    </a:move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1737720" y="157896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" y="15"/>
                    </a:moveTo>
                    <a:lnTo>
                      <a:pt x="1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1769760" y="155772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5"/>
                    </a:move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1800360" y="1537200"/>
                <a:ext cx="23760" cy="169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5" y="19"/>
                    </a:lnTo>
                    <a:lnTo>
                      <a:pt x="27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1832040" y="151488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" y="16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27" y="7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1864440" y="149328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" y="16"/>
                    </a:move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1895760" y="147276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1927440" y="1451520"/>
                <a:ext cx="22680" cy="176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" y="14"/>
                    </a:move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1959840" y="1430280"/>
                <a:ext cx="22680" cy="169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1" y="15"/>
                    </a:move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25" y="6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1991160" y="1407960"/>
                <a:ext cx="22680" cy="180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" y="16"/>
                    </a:move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7" name=""/>
            <p:cNvGrpSpPr/>
            <p:nvPr/>
          </p:nvGrpSpPr>
          <p:grpSpPr>
            <a:xfrm>
              <a:off x="1433160" y="257040"/>
              <a:ext cx="55800" cy="200880"/>
              <a:chOff x="1433160" y="257040"/>
              <a:chExt cx="55800" cy="200880"/>
            </a:xfrm>
          </p:grpSpPr>
          <p:sp>
            <p:nvSpPr>
              <p:cNvPr id="4718" name=""/>
              <p:cNvSpPr/>
              <p:nvPr/>
            </p:nvSpPr>
            <p:spPr>
              <a:xfrm flipV="1">
                <a:off x="1460160" y="312120"/>
                <a:ext cx="72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1433160" y="257040"/>
                <a:ext cx="55800" cy="5796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68"/>
                    </a:moveTo>
                    <a:lnTo>
                      <a:pt x="32" y="0"/>
                    </a:lnTo>
                    <a:lnTo>
                      <a:pt x="0" y="68"/>
                    </a:lnTo>
                    <a:lnTo>
                      <a:pt x="6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0" name=""/>
            <p:cNvGrpSpPr/>
            <p:nvPr/>
          </p:nvGrpSpPr>
          <p:grpSpPr>
            <a:xfrm>
              <a:off x="3017520" y="2085840"/>
              <a:ext cx="57240" cy="204480"/>
              <a:chOff x="3017520" y="2085840"/>
              <a:chExt cx="57240" cy="204480"/>
            </a:xfrm>
          </p:grpSpPr>
          <p:sp>
            <p:nvSpPr>
              <p:cNvPr id="4721" name=""/>
              <p:cNvSpPr/>
              <p:nvPr/>
            </p:nvSpPr>
            <p:spPr>
              <a:xfrm flipV="1">
                <a:off x="3045960" y="2142720"/>
                <a:ext cx="7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3017520" y="2085840"/>
                <a:ext cx="57240" cy="5868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3" name=""/>
            <p:cNvGrpSpPr/>
            <p:nvPr/>
          </p:nvGrpSpPr>
          <p:grpSpPr>
            <a:xfrm>
              <a:off x="1989000" y="1127160"/>
              <a:ext cx="57240" cy="203040"/>
              <a:chOff x="1989000" y="1127160"/>
              <a:chExt cx="57240" cy="203040"/>
            </a:xfrm>
          </p:grpSpPr>
          <p:sp>
            <p:nvSpPr>
              <p:cNvPr id="4724" name=""/>
              <p:cNvSpPr/>
              <p:nvPr/>
            </p:nvSpPr>
            <p:spPr>
              <a:xfrm>
                <a:off x="2017440" y="1127160"/>
                <a:ext cx="720" cy="14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1989000" y="1271880"/>
                <a:ext cx="57240" cy="5832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0"/>
                    </a:moveTo>
                    <a:lnTo>
                      <a:pt x="33" y="68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6" name=""/>
            <p:cNvGrpSpPr/>
            <p:nvPr/>
          </p:nvGrpSpPr>
          <p:grpSpPr>
            <a:xfrm>
              <a:off x="482400" y="2357280"/>
              <a:ext cx="55440" cy="203040"/>
              <a:chOff x="482400" y="2357280"/>
              <a:chExt cx="55440" cy="203040"/>
            </a:xfrm>
          </p:grpSpPr>
          <p:sp>
            <p:nvSpPr>
              <p:cNvPr id="4727" name=""/>
              <p:cNvSpPr/>
              <p:nvPr/>
            </p:nvSpPr>
            <p:spPr>
              <a:xfrm>
                <a:off x="510120" y="2357280"/>
                <a:ext cx="7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482400" y="2502000"/>
                <a:ext cx="55440" cy="5832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0"/>
                    </a:moveTo>
                    <a:lnTo>
                      <a:pt x="33" y="68"/>
                    </a:lnTo>
                    <a:lnTo>
                      <a:pt x="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9" name=""/>
            <p:cNvSpPr/>
            <p:nvPr/>
          </p:nvSpPr>
          <p:spPr>
            <a:xfrm>
              <a:off x="679320" y="452520"/>
              <a:ext cx="693720" cy="353880"/>
            </a:xfrm>
            <a:custGeom>
              <a:avLst/>
              <a:gdLst/>
              <a:ahLst/>
              <a:rect l="l" t="t" r="r" b="b"/>
              <a:pathLst>
                <a:path w="813" h="412">
                  <a:moveTo>
                    <a:pt x="0" y="394"/>
                  </a:moveTo>
                  <a:lnTo>
                    <a:pt x="8" y="412"/>
                  </a:lnTo>
                  <a:lnTo>
                    <a:pt x="813" y="17"/>
                  </a:lnTo>
                  <a:lnTo>
                    <a:pt x="804" y="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1711080" y="384120"/>
              <a:ext cx="1235160" cy="219240"/>
            </a:xfrm>
            <a:custGeom>
              <a:avLst/>
              <a:gdLst/>
              <a:ahLst/>
              <a:rect l="l" t="t" r="r" b="b"/>
              <a:pathLst>
                <a:path w="1450" h="255">
                  <a:moveTo>
                    <a:pt x="3" y="0"/>
                  </a:moveTo>
                  <a:lnTo>
                    <a:pt x="0" y="18"/>
                  </a:lnTo>
                  <a:lnTo>
                    <a:pt x="1447" y="255"/>
                  </a:lnTo>
                  <a:lnTo>
                    <a:pt x="1450" y="23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50600" y="993600"/>
              <a:ext cx="1168560" cy="220680"/>
            </a:xfrm>
            <a:custGeom>
              <a:avLst/>
              <a:gdLst/>
              <a:ahLst/>
              <a:rect l="l" t="t" r="r" b="b"/>
              <a:pathLst>
                <a:path w="1371" h="256">
                  <a:moveTo>
                    <a:pt x="4" y="0"/>
                  </a:moveTo>
                  <a:lnTo>
                    <a:pt x="0" y="19"/>
                  </a:lnTo>
                  <a:lnTo>
                    <a:pt x="1367" y="256"/>
                  </a:lnTo>
                  <a:lnTo>
                    <a:pt x="1371" y="23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2255760" y="790560"/>
              <a:ext cx="691920" cy="355680"/>
            </a:xfrm>
            <a:custGeom>
              <a:avLst/>
              <a:gdLst/>
              <a:ahLst/>
              <a:rect l="l" t="t" r="r" b="b"/>
              <a:pathLst>
                <a:path w="812" h="413">
                  <a:moveTo>
                    <a:pt x="0" y="395"/>
                  </a:moveTo>
                  <a:lnTo>
                    <a:pt x="8" y="413"/>
                  </a:lnTo>
                  <a:lnTo>
                    <a:pt x="812" y="18"/>
                  </a:lnTo>
                  <a:lnTo>
                    <a:pt x="804" y="0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750600" y="2486160"/>
              <a:ext cx="1168560" cy="218880"/>
            </a:xfrm>
            <a:custGeom>
              <a:avLst/>
              <a:gdLst/>
              <a:ahLst/>
              <a:rect l="l" t="t" r="r" b="b"/>
              <a:pathLst>
                <a:path w="1371" h="255">
                  <a:moveTo>
                    <a:pt x="4" y="0"/>
                  </a:moveTo>
                  <a:lnTo>
                    <a:pt x="0" y="18"/>
                  </a:lnTo>
                  <a:lnTo>
                    <a:pt x="1367" y="255"/>
                  </a:lnTo>
                  <a:lnTo>
                    <a:pt x="1371" y="2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2325600" y="2282760"/>
              <a:ext cx="623880" cy="420840"/>
            </a:xfrm>
            <a:custGeom>
              <a:avLst/>
              <a:gdLst/>
              <a:ahLst/>
              <a:rect l="l" t="t" r="r" b="b"/>
              <a:pathLst>
                <a:path w="732" h="490">
                  <a:moveTo>
                    <a:pt x="0" y="474"/>
                  </a:moveTo>
                  <a:lnTo>
                    <a:pt x="9" y="490"/>
                  </a:lnTo>
                  <a:lnTo>
                    <a:pt x="732" y="16"/>
                  </a:lnTo>
                  <a:lnTo>
                    <a:pt x="723" y="0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5" name=""/>
            <p:cNvGrpSpPr/>
            <p:nvPr/>
          </p:nvGrpSpPr>
          <p:grpSpPr>
            <a:xfrm>
              <a:off x="1643040" y="1874880"/>
              <a:ext cx="1285200" cy="284040"/>
              <a:chOff x="1643040" y="1874880"/>
              <a:chExt cx="1285200" cy="284040"/>
            </a:xfrm>
          </p:grpSpPr>
          <p:sp>
            <p:nvSpPr>
              <p:cNvPr id="4736" name=""/>
              <p:cNvSpPr/>
              <p:nvPr/>
            </p:nvSpPr>
            <p:spPr>
              <a:xfrm>
                <a:off x="1643040" y="1874880"/>
                <a:ext cx="6552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9"/>
                    </a:lnTo>
                    <a:lnTo>
                      <a:pt x="74" y="34"/>
                    </a:lnTo>
                    <a:lnTo>
                      <a:pt x="77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53560" y="189792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8"/>
                    </a:lnTo>
                    <a:lnTo>
                      <a:pt x="74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864440" y="1921320"/>
                <a:ext cx="6516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9"/>
                    </a:lnTo>
                    <a:lnTo>
                      <a:pt x="74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974960" y="194364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2086200" y="1967760"/>
                <a:ext cx="6552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8"/>
                    </a:lnTo>
                    <a:lnTo>
                      <a:pt x="73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2196360" y="199008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2307960" y="201348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2419560" y="2036520"/>
                <a:ext cx="6516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8"/>
                    </a:lnTo>
                    <a:lnTo>
                      <a:pt x="73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2529360" y="2059920"/>
                <a:ext cx="6588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640600" y="2084040"/>
                <a:ext cx="65520" cy="2916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3" y="0"/>
                    </a:moveTo>
                    <a:lnTo>
                      <a:pt x="0" y="18"/>
                    </a:lnTo>
                    <a:lnTo>
                      <a:pt x="74" y="34"/>
                    </a:lnTo>
                    <a:lnTo>
                      <a:pt x="77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2751480" y="210636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8"/>
                    </a:lnTo>
                    <a:lnTo>
                      <a:pt x="74" y="34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2862000" y="2129760"/>
                <a:ext cx="66240" cy="29160"/>
              </a:xfrm>
              <a:custGeom>
                <a:avLst/>
                <a:gdLst/>
                <a:ahLst/>
                <a:rect l="l" t="t" r="r" b="b"/>
                <a:pathLst>
                  <a:path w="78" h="34">
                    <a:moveTo>
                      <a:pt x="3" y="0"/>
                    </a:moveTo>
                    <a:lnTo>
                      <a:pt x="0" y="19"/>
                    </a:lnTo>
                    <a:lnTo>
                      <a:pt x="75" y="34"/>
                    </a:lnTo>
                    <a:lnTo>
                      <a:pt x="7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8" name=""/>
            <p:cNvGrpSpPr/>
            <p:nvPr/>
          </p:nvGrpSpPr>
          <p:grpSpPr>
            <a:xfrm>
              <a:off x="679320" y="1944720"/>
              <a:ext cx="625320" cy="420120"/>
              <a:chOff x="679320" y="1944720"/>
              <a:chExt cx="625320" cy="420120"/>
            </a:xfrm>
          </p:grpSpPr>
          <p:sp>
            <p:nvSpPr>
              <p:cNvPr id="4749" name=""/>
              <p:cNvSpPr/>
              <p:nvPr/>
            </p:nvSpPr>
            <p:spPr>
              <a:xfrm>
                <a:off x="679320" y="2314440"/>
                <a:ext cx="61920" cy="50400"/>
              </a:xfrm>
              <a:custGeom>
                <a:avLst/>
                <a:gdLst/>
                <a:ahLst/>
                <a:rect l="l" t="t" r="r" b="b"/>
                <a:pathLst>
                  <a:path w="73" h="59">
                    <a:moveTo>
                      <a:pt x="0" y="43"/>
                    </a:moveTo>
                    <a:lnTo>
                      <a:pt x="10" y="59"/>
                    </a:lnTo>
                    <a:lnTo>
                      <a:pt x="73" y="17"/>
                    </a:lnTo>
                    <a:lnTo>
                      <a:pt x="63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74720" y="2251800"/>
                <a:ext cx="62640" cy="4932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1"/>
                    </a:moveTo>
                    <a:lnTo>
                      <a:pt x="9" y="58"/>
                    </a:lnTo>
                    <a:lnTo>
                      <a:pt x="74" y="16"/>
                    </a:lnTo>
                    <a:lnTo>
                      <a:pt x="64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870840" y="2188080"/>
                <a:ext cx="61920" cy="49680"/>
              </a:xfrm>
              <a:custGeom>
                <a:avLst/>
                <a:gdLst/>
                <a:ahLst/>
                <a:rect l="l" t="t" r="r" b="b"/>
                <a:pathLst>
                  <a:path w="73" h="58">
                    <a:moveTo>
                      <a:pt x="0" y="42"/>
                    </a:moveTo>
                    <a:lnTo>
                      <a:pt x="9" y="58"/>
                    </a:lnTo>
                    <a:lnTo>
                      <a:pt x="73" y="17"/>
                    </a:lnTo>
                    <a:lnTo>
                      <a:pt x="6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965520" y="212544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1"/>
                    </a:moveTo>
                    <a:lnTo>
                      <a:pt x="10" y="58"/>
                    </a:lnTo>
                    <a:lnTo>
                      <a:pt x="74" y="16"/>
                    </a:lnTo>
                    <a:lnTo>
                      <a:pt x="65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061640" y="2062080"/>
                <a:ext cx="62640" cy="4968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2"/>
                    </a:moveTo>
                    <a:lnTo>
                      <a:pt x="10" y="58"/>
                    </a:lnTo>
                    <a:lnTo>
                      <a:pt x="74" y="17"/>
                    </a:lnTo>
                    <a:lnTo>
                      <a:pt x="6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158120" y="1999440"/>
                <a:ext cx="63000" cy="49680"/>
              </a:xfrm>
              <a:custGeom>
                <a:avLst/>
                <a:gdLst/>
                <a:ahLst/>
                <a:rect l="l" t="t" r="r" b="b"/>
                <a:pathLst>
                  <a:path w="74" h="58">
                    <a:moveTo>
                      <a:pt x="0" y="42"/>
                    </a:moveTo>
                    <a:lnTo>
                      <a:pt x="9" y="58"/>
                    </a:lnTo>
                    <a:lnTo>
                      <a:pt x="74" y="16"/>
                    </a:lnTo>
                    <a:lnTo>
                      <a:pt x="6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253520" y="1944720"/>
                <a:ext cx="51120" cy="4176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0" y="32"/>
                    </a:moveTo>
                    <a:lnTo>
                      <a:pt x="9" y="49"/>
                    </a:lnTo>
                    <a:lnTo>
                      <a:pt x="60" y="17"/>
                    </a:lnTo>
                    <a:lnTo>
                      <a:pt x="5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6" name=""/>
            <p:cNvSpPr/>
            <p:nvPr/>
          </p:nvSpPr>
          <p:spPr>
            <a:xfrm>
              <a:off x="539640" y="1138320"/>
              <a:ext cx="15840" cy="11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2114280" y="1407960"/>
              <a:ext cx="15840" cy="115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3143160" y="866880"/>
              <a:ext cx="15840" cy="11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9" name=""/>
            <p:cNvGrpSpPr/>
            <p:nvPr/>
          </p:nvGrpSpPr>
          <p:grpSpPr>
            <a:xfrm>
              <a:off x="1498320" y="527040"/>
              <a:ext cx="15840" cy="1083960"/>
              <a:chOff x="1498320" y="527040"/>
              <a:chExt cx="15840" cy="1083960"/>
            </a:xfrm>
          </p:grpSpPr>
          <p:sp>
            <p:nvSpPr>
              <p:cNvPr id="4760" name=""/>
              <p:cNvSpPr/>
              <p:nvPr/>
            </p:nvSpPr>
            <p:spPr>
              <a:xfrm>
                <a:off x="1498320" y="52704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498320" y="64512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498320" y="76464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498320" y="88308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498320" y="100188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498320" y="112032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498320" y="123876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498320" y="135720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498320" y="1475640"/>
                <a:ext cx="15840" cy="6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498320" y="1595160"/>
                <a:ext cx="15840" cy="15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0" name=""/>
          <p:cNvSpPr/>
          <p:nvPr/>
        </p:nvSpPr>
        <p:spPr>
          <a:xfrm>
            <a:off x="3762360" y="1314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2637000" y="437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 flipH="1" rot="19377000">
            <a:off x="2905560" y="2798280"/>
            <a:ext cx="1935360" cy="540000"/>
          </a:xfrm>
          <a:prstGeom prst="rightArrow">
            <a:avLst>
              <a:gd name="adj1" fmla="val 50000"/>
              <a:gd name="adj2" fmla="val 896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212400" y="63104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*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4978800" y="61293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Brea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4795200" y="27115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Minimum T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250920" y="28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TSC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FB5-559D-44C5-BA7C-9E2775CD43A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um-Size State of T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392720" cy="452592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2.8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classical e</a:t>
            </a:r>
            <a:r>
              <a:rPr b="0" lang="ja-JP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d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2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5.6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= 1.44/5.6 = 0.257M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1.2A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9" name=""/>
          <p:cNvGrpSpPr/>
          <p:nvPr/>
        </p:nvGrpSpPr>
        <p:grpSpPr>
          <a:xfrm>
            <a:off x="684360" y="1773360"/>
            <a:ext cx="3382920" cy="4464000"/>
            <a:chOff x="684360" y="1773360"/>
            <a:chExt cx="3382920" cy="4464000"/>
          </a:xfrm>
        </p:grpSpPr>
        <p:sp>
          <p:nvSpPr>
            <p:cNvPr id="4780" name=""/>
            <p:cNvSpPr/>
            <p:nvPr/>
          </p:nvSpPr>
          <p:spPr>
            <a:xfrm>
              <a:off x="900000" y="3176640"/>
              <a:ext cx="1152720" cy="11523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2185920" y="3203640"/>
              <a:ext cx="1152720" cy="1154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1203480" y="3473280"/>
              <a:ext cx="577800" cy="576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2457360" y="3483000"/>
              <a:ext cx="574920" cy="57636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1835280" y="2852640"/>
              <a:ext cx="576000" cy="576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1835280" y="4076640"/>
              <a:ext cx="576000" cy="576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971640" y="5589720"/>
              <a:ext cx="22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971640" y="5661000"/>
              <a:ext cx="23050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x2.8 f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2987640" y="2565360"/>
              <a:ext cx="1079640" cy="393840"/>
            </a:xfrm>
            <a:prstGeom prst="wedgeRectCallout">
              <a:avLst>
                <a:gd name="adj1" fmla="val -63675"/>
                <a:gd name="adj2" fmla="val 213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 or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684360" y="1773360"/>
              <a:ext cx="1058760" cy="393480"/>
            </a:xfrm>
            <a:prstGeom prst="wedgeRectCallout">
              <a:avLst>
                <a:gd name="adj1" fmla="val 52550"/>
                <a:gd name="adj2" fmla="val 1915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0" name=""/>
          <p:cNvSpPr/>
          <p:nvPr/>
        </p:nvSpPr>
        <p:spPr>
          <a:xfrm>
            <a:off x="1547640" y="2565360"/>
            <a:ext cx="1152720" cy="1152720"/>
          </a:xfrm>
          <a:prstGeom prst="ellips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1547640" y="3789360"/>
            <a:ext cx="1152720" cy="1152360"/>
          </a:xfrm>
          <a:prstGeom prst="ellips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 flipV="1">
            <a:off x="2340000" y="278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5F0-81D0-4D94-8ABF-AAF0EF2871C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D Fusion-Rat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Minimum-State TS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exp(-0.218n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d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-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257 MeV, 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d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5.6 f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2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5 f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2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91, 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4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83, 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2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4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0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ff3300"/>
                </a:solidFill>
                <a:latin typeface="Arial"/>
                <a:ea typeface="Arial"/>
              </a:rPr>
              <a:t>λ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  <a:ea typeface="Arial"/>
              </a:rPr>
              <a:t>4d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= (3E-4)P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  <a:ea typeface="Arial"/>
              </a:rPr>
              <a:t>4d</a:t>
            </a: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= 2.3E-4 (f/s/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46 MW/cc, for N</a:t>
            </a:r>
            <a:r>
              <a:rPr b="1" lang="ja-JP" sz="2000" spc="-1" strike="noStrike">
                <a:solidFill>
                  <a:srgbClr val="ff3300"/>
                </a:solidFill>
                <a:latin typeface="Arial"/>
                <a:ea typeface="Arial"/>
              </a:rPr>
              <a:t>tsc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= 2E22 cm</a:t>
            </a:r>
            <a:r>
              <a:rPr b="1" lang="ja-JP" sz="2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                          </a:t>
            </a:r>
            <a:r>
              <a:rPr b="1" lang="ja-JP" sz="2800" spc="-1" strike="noStrike">
                <a:solidFill>
                  <a:srgbClr val="ff3300"/>
                </a:solidFill>
                <a:latin typeface="Arial"/>
                <a:ea typeface="Arial"/>
              </a:rPr>
              <a:t>: 23keV /Pd-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9900cc"/>
                </a:solidFill>
                <a:latin typeface="Arial"/>
                <a:ea typeface="Arial"/>
              </a:rPr>
              <a:t>El-Boher Exp.: 24.8 keV/Pd-atom (ICCF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E70-52D8-45BD-ABCC-107C834BF10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4f6a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3382920"/>
          </a:xfrm>
          <a:prstGeom prst="rect">
            <a:avLst/>
          </a:prstGeom>
          <a:solidFill>
            <a:srgbClr val="f4f6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4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,t) = 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t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(1,1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,t) + 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t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(2,2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,t) + 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t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(4,4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,t)   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&lt;r(t)&gt; = &lt;r(0)&gt; - &lt;v&gt;t                                                        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&lt;r(t)&gt; = 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4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,t)IrI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4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(r,t)&gt;                                          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6C0-791F-41F9-B6DF-8F9E7C10D1A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7" name=""/>
          <p:cNvGrpSpPr/>
          <p:nvPr/>
        </p:nvGrpSpPr>
        <p:grpSpPr>
          <a:xfrm>
            <a:off x="1044360" y="404640"/>
            <a:ext cx="6912360" cy="5954040"/>
            <a:chOff x="1044360" y="404640"/>
            <a:chExt cx="6912360" cy="5954040"/>
          </a:xfrm>
        </p:grpSpPr>
        <p:graphicFrame>
          <p:nvGraphicFramePr>
            <p:cNvPr id="4798" name=""/>
            <p:cNvGraphicFramePr/>
            <p:nvPr/>
          </p:nvGraphicFramePr>
          <p:xfrm>
            <a:off x="1116000" y="1139760"/>
            <a:ext cx="6840720" cy="4753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139760"/>
                      <a:ext cx="6840720" cy="475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0" name=""/>
            <p:cNvSpPr/>
            <p:nvPr/>
          </p:nvSpPr>
          <p:spPr>
            <a:xfrm>
              <a:off x="1930320" y="404640"/>
              <a:ext cx="5065560" cy="642600"/>
            </a:xfrm>
            <a:prstGeom prst="rect">
              <a:avLst/>
            </a:prstGeom>
            <a:solidFill>
              <a:srgbClr val="f4f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Time-Dependent EQPET Calculation for T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: Comparison of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d(1,1)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t),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2d(2,2)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(t) and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4d(4,4)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H="1">
              <a:off x="2195280" y="5877000"/>
              <a:ext cx="43210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1044360" y="5661000"/>
              <a:ext cx="1082880" cy="368280"/>
            </a:xfrm>
            <a:prstGeom prst="rect">
              <a:avLst/>
            </a:prstGeom>
            <a:solidFill>
              <a:srgbClr val="f4f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Time (f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5508720" y="5877000"/>
              <a:ext cx="0" cy="144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5294160" y="6021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427640" y="5877000"/>
              <a:ext cx="0" cy="144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13080" y="6021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6516720" y="5877000"/>
              <a:ext cx="0" cy="144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6373800" y="602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3203640" y="5877000"/>
              <a:ext cx="0" cy="144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2918160" y="6021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7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2411280" y="5877000"/>
              <a:ext cx="0" cy="144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2052720" y="602136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72.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555-9405-47FE-8D69-D8762D5ECE0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6429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: “Q”-Value - Energ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25560" y="1843200"/>
          <a:ext cx="8217000" cy="501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843200"/>
                    <a:ext cx="82170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68360" y="0"/>
            <a:ext cx="777708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M. McKubre, ICCF11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9AF-53DF-4AD0-BDDE-F4EC7266FF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DEQPET Cal. For EQPET 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*(m, Z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/s/cl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/s/cl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/s/cl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/s/cl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 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E-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E-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E-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E-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 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9E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E-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E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E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,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1E-17)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.5E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5E-22)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E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5" name=""/>
          <p:cNvSpPr/>
          <p:nvPr/>
        </p:nvSpPr>
        <p:spPr>
          <a:xfrm>
            <a:off x="1313280" y="6256440"/>
            <a:ext cx="1957680" cy="368280"/>
          </a:xfrm>
          <a:prstGeom prst="rect">
            <a:avLst/>
          </a:prstGeom>
          <a:solidFill>
            <a:srgbClr val="f4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)* : virtu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570-D296-47E3-B47B-E03B9710257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7" name=""/>
          <p:cNvGraphicFramePr/>
          <p:nvPr/>
        </p:nvGraphicFramePr>
        <p:xfrm>
          <a:off x="457200" y="1600200"/>
          <a:ext cx="8229600" cy="4896000"/>
        </p:xfrm>
        <a:graphic>
          <a:graphicData uri="http://schemas.openxmlformats.org/drawingml/2006/table">
            <a:tbl>
              <a:tblPr/>
              <a:tblGrid>
                <a:gridCol w="2000160"/>
                <a:gridCol w="2384640"/>
                <a:gridCol w="3844800"/>
              </a:tblGrid>
              <a:tr h="17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PET C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DEQPET C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ime-averag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Fusion-time&gt;=0.04 f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/s/cl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9E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/s/cl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E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5E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D8C-D231-4EDF-8C46-2A4E2FE06D0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C-Induced Nuclear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333399"/>
                </a:solidFill>
                <a:latin typeface="Arial"/>
              </a:rPr>
              <a:t>Multi-Body Deuteron (d-p mixed) Fusion within TSC</a:t>
            </a: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d, dp, 3d, ddp, 4d, dddp, dp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ja-JP" sz="3200" spc="-1" strike="noStrike">
                <a:solidFill>
                  <a:srgbClr val="cc00cc"/>
                </a:solidFill>
                <a:latin typeface="Arial"/>
              </a:rPr>
              <a:t>EQPET Model Alan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9999"/>
                </a:solidFill>
                <a:latin typeface="Arial"/>
              </a:rPr>
              <a:t>TSC+Host-Metal Reactions</a:t>
            </a:r>
            <a:r>
              <a:rPr b="0" lang="ja-JP" sz="3200" spc="-1" strike="noStrike">
                <a:solidFill>
                  <a:srgbClr val="0099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udden Tall Thin Barrier 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cc00cc"/>
                </a:solidFill>
                <a:latin typeface="Arial"/>
              </a:rPr>
              <a:t>STT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694-54A0-47D3-A32E-BFBCEC637F5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0" name=""/>
          <p:cNvGrpSpPr/>
          <p:nvPr/>
        </p:nvGrpSpPr>
        <p:grpSpPr>
          <a:xfrm>
            <a:off x="1042920" y="549360"/>
            <a:ext cx="7777080" cy="6048360"/>
            <a:chOff x="1042920" y="549360"/>
            <a:chExt cx="7777080" cy="6048360"/>
          </a:xfrm>
        </p:grpSpPr>
        <p:sp>
          <p:nvSpPr>
            <p:cNvPr id="4821" name=""/>
            <p:cNvSpPr/>
            <p:nvPr/>
          </p:nvSpPr>
          <p:spPr>
            <a:xfrm>
              <a:off x="1042920" y="1773360"/>
              <a:ext cx="3745080" cy="38876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2916360" y="3645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2843280" y="35733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2916360" y="3645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227640" y="3573360"/>
              <a:ext cx="216000" cy="217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3059280" y="3573360"/>
              <a:ext cx="215640" cy="217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 flipH="1">
              <a:off x="3348000" y="3716280"/>
              <a:ext cx="2736720" cy="0"/>
            </a:xfrm>
            <a:prstGeom prst="line">
              <a:avLst/>
            </a:prstGeom>
            <a:ln w="38160">
              <a:solidFill>
                <a:srgbClr val="1910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042920" y="549360"/>
              <a:ext cx="38163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arget Atom Outer Electr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oud (ca. 100 p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 flipH="1" flipV="1">
              <a:off x="3492000" y="1557000"/>
              <a:ext cx="287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867280" y="4076640"/>
              <a:ext cx="144144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SC, &lt; 1 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Tahoma"/>
                </a:rPr>
                <a:t>(4P+4e): neut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6372360" y="386064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 flipV="1">
              <a:off x="3059280" y="1989000"/>
              <a:ext cx="194436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148360" y="1341360"/>
              <a:ext cx="172872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-Shell e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nd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547640" y="5943600"/>
              <a:ext cx="7201080" cy="65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w deep can TSC penetrate through e-clou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877080" y="2349360"/>
              <a:ext cx="1942920" cy="897120"/>
            </a:xfrm>
            <a:prstGeom prst="wedgeRoundRectCallout">
              <a:avLst>
                <a:gd name="adj1" fmla="val -68953"/>
                <a:gd name="adj2" fmla="val 8964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Neu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Pseudo-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007-7DAE-496C-9AD1-734A89EAE80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+ TS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Interaction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pological condition for Pion-Exchange (P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ion of pick-up number of protons (+ neutrons for 4d/TSC) from 4p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 + (1-4)p(or d) captur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250920" y="1413000"/>
            <a:ext cx="86421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9" name=""/>
          <p:cNvGrpSpPr/>
          <p:nvPr/>
        </p:nvGrpSpPr>
        <p:grpSpPr>
          <a:xfrm>
            <a:off x="178920" y="2637000"/>
            <a:ext cx="4197240" cy="3325680"/>
            <a:chOff x="178920" y="2637000"/>
            <a:chExt cx="4197240" cy="3325680"/>
          </a:xfrm>
        </p:grpSpPr>
        <p:grpSp>
          <p:nvGrpSpPr>
            <p:cNvPr id="4840" name=""/>
            <p:cNvGrpSpPr/>
            <p:nvPr/>
          </p:nvGrpSpPr>
          <p:grpSpPr>
            <a:xfrm>
              <a:off x="178920" y="2637000"/>
              <a:ext cx="4197240" cy="3325680"/>
              <a:chOff x="178920" y="2637000"/>
              <a:chExt cx="4197240" cy="3325680"/>
            </a:xfrm>
          </p:grpSpPr>
          <p:grpSp>
            <p:nvGrpSpPr>
              <p:cNvPr id="4841" name=""/>
              <p:cNvGrpSpPr/>
              <p:nvPr/>
            </p:nvGrpSpPr>
            <p:grpSpPr>
              <a:xfrm>
                <a:off x="313920" y="2637000"/>
                <a:ext cx="4062240" cy="3325680"/>
                <a:chOff x="313920" y="2637000"/>
                <a:chExt cx="4062240" cy="3325680"/>
              </a:xfrm>
            </p:grpSpPr>
            <p:grpSp>
              <p:nvGrpSpPr>
                <p:cNvPr id="4842" name=""/>
                <p:cNvGrpSpPr/>
                <p:nvPr/>
              </p:nvGrpSpPr>
              <p:grpSpPr>
                <a:xfrm>
                  <a:off x="344520" y="2637000"/>
                  <a:ext cx="4031640" cy="3325680"/>
                  <a:chOff x="344520" y="2637000"/>
                  <a:chExt cx="4031640" cy="3325680"/>
                </a:xfrm>
              </p:grpSpPr>
              <p:grpSp>
                <p:nvGrpSpPr>
                  <p:cNvPr id="4843" name=""/>
                  <p:cNvGrpSpPr/>
                  <p:nvPr/>
                </p:nvGrpSpPr>
                <p:grpSpPr>
                  <a:xfrm>
                    <a:off x="344520" y="2637000"/>
                    <a:ext cx="4031640" cy="2520720"/>
                    <a:chOff x="344520" y="2637000"/>
                    <a:chExt cx="4031640" cy="2520720"/>
                  </a:xfrm>
                </p:grpSpPr>
                <p:sp>
                  <p:nvSpPr>
                    <p:cNvPr id="4844" name=""/>
                    <p:cNvSpPr/>
                    <p:nvPr/>
                  </p:nvSpPr>
                  <p:spPr>
                    <a:xfrm>
                      <a:off x="654480" y="3267360"/>
                      <a:ext cx="608400" cy="61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5" name=""/>
                    <p:cNvSpPr/>
                    <p:nvPr/>
                  </p:nvSpPr>
                  <p:spPr>
                    <a:xfrm>
                      <a:off x="654480" y="3936600"/>
                      <a:ext cx="608400" cy="61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6" name=""/>
                    <p:cNvSpPr/>
                    <p:nvPr/>
                  </p:nvSpPr>
                  <p:spPr>
                    <a:xfrm>
                      <a:off x="809280" y="3424320"/>
                      <a:ext cx="309960" cy="315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7" name=""/>
                    <p:cNvSpPr/>
                    <p:nvPr/>
                  </p:nvSpPr>
                  <p:spPr>
                    <a:xfrm>
                      <a:off x="809280" y="4093920"/>
                      <a:ext cx="309960" cy="315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8" name=""/>
                    <p:cNvSpPr/>
                    <p:nvPr/>
                  </p:nvSpPr>
                  <p:spPr>
                    <a:xfrm>
                      <a:off x="1003320" y="3621600"/>
                      <a:ext cx="608040" cy="61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9" name=""/>
                    <p:cNvSpPr/>
                    <p:nvPr/>
                  </p:nvSpPr>
                  <p:spPr>
                    <a:xfrm>
                      <a:off x="344520" y="3621600"/>
                      <a:ext cx="608040" cy="61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0" name=""/>
                    <p:cNvSpPr/>
                    <p:nvPr/>
                  </p:nvSpPr>
                  <p:spPr>
                    <a:xfrm>
                      <a:off x="49896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1" name=""/>
                    <p:cNvSpPr/>
                    <p:nvPr/>
                  </p:nvSpPr>
                  <p:spPr>
                    <a:xfrm>
                      <a:off x="115884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2" name=""/>
                    <p:cNvSpPr/>
                    <p:nvPr/>
                  </p:nvSpPr>
                  <p:spPr>
                    <a:xfrm>
                      <a:off x="1933920" y="2637000"/>
                      <a:ext cx="2442240" cy="252072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3" name=""/>
                    <p:cNvSpPr/>
                    <p:nvPr/>
                  </p:nvSpPr>
                  <p:spPr>
                    <a:xfrm>
                      <a:off x="2360160" y="29120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4" name=""/>
                    <p:cNvSpPr/>
                    <p:nvPr/>
                  </p:nvSpPr>
                  <p:spPr>
                    <a:xfrm>
                      <a:off x="2127960" y="314892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5" name=""/>
                    <p:cNvSpPr/>
                    <p:nvPr/>
                  </p:nvSpPr>
                  <p:spPr>
                    <a:xfrm>
                      <a:off x="2010960" y="3463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6" name=""/>
                    <p:cNvSpPr/>
                    <p:nvPr/>
                  </p:nvSpPr>
                  <p:spPr>
                    <a:xfrm>
                      <a:off x="193392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7" name=""/>
                    <p:cNvSpPr/>
                    <p:nvPr/>
                  </p:nvSpPr>
                  <p:spPr>
                    <a:xfrm>
                      <a:off x="2010960" y="41338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8" name=""/>
                    <p:cNvSpPr/>
                    <p:nvPr/>
                  </p:nvSpPr>
                  <p:spPr>
                    <a:xfrm>
                      <a:off x="2166480" y="44092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9" name=""/>
                    <p:cNvSpPr/>
                    <p:nvPr/>
                  </p:nvSpPr>
                  <p:spPr>
                    <a:xfrm>
                      <a:off x="2399040" y="46062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0" name=""/>
                    <p:cNvSpPr/>
                    <p:nvPr/>
                  </p:nvSpPr>
                  <p:spPr>
                    <a:xfrm>
                      <a:off x="2670480" y="48034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1" name=""/>
                    <p:cNvSpPr/>
                    <p:nvPr/>
                  </p:nvSpPr>
                  <p:spPr>
                    <a:xfrm>
                      <a:off x="2592720" y="27158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2" name=""/>
                    <p:cNvSpPr/>
                    <p:nvPr/>
                  </p:nvSpPr>
                  <p:spPr>
                    <a:xfrm>
                      <a:off x="2320920" y="31489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3" name=""/>
                    <p:cNvSpPr/>
                    <p:nvPr/>
                  </p:nvSpPr>
                  <p:spPr>
                    <a:xfrm>
                      <a:off x="2360160" y="350352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4" name=""/>
                    <p:cNvSpPr/>
                    <p:nvPr/>
                  </p:nvSpPr>
                  <p:spPr>
                    <a:xfrm>
                      <a:off x="2941560" y="26758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5" name=""/>
                    <p:cNvSpPr/>
                    <p:nvPr/>
                  </p:nvSpPr>
                  <p:spPr>
                    <a:xfrm>
                      <a:off x="3290040" y="27158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6" name=""/>
                    <p:cNvSpPr/>
                    <p:nvPr/>
                  </p:nvSpPr>
                  <p:spPr>
                    <a:xfrm>
                      <a:off x="3600360" y="2872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7" name=""/>
                    <p:cNvSpPr/>
                    <p:nvPr/>
                  </p:nvSpPr>
                  <p:spPr>
                    <a:xfrm>
                      <a:off x="3832920" y="314892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8" name=""/>
                    <p:cNvSpPr/>
                    <p:nvPr/>
                  </p:nvSpPr>
                  <p:spPr>
                    <a:xfrm>
                      <a:off x="4026960" y="34243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9" name=""/>
                    <p:cNvSpPr/>
                    <p:nvPr/>
                  </p:nvSpPr>
                  <p:spPr>
                    <a:xfrm>
                      <a:off x="406620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0" name=""/>
                    <p:cNvSpPr/>
                    <p:nvPr/>
                  </p:nvSpPr>
                  <p:spPr>
                    <a:xfrm>
                      <a:off x="3988440" y="41338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1" name=""/>
                    <p:cNvSpPr/>
                    <p:nvPr/>
                  </p:nvSpPr>
                  <p:spPr>
                    <a:xfrm>
                      <a:off x="2980080" y="48034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2" name=""/>
                    <p:cNvSpPr/>
                    <p:nvPr/>
                  </p:nvSpPr>
                  <p:spPr>
                    <a:xfrm>
                      <a:off x="3329640" y="47635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3" name=""/>
                    <p:cNvSpPr/>
                    <p:nvPr/>
                  </p:nvSpPr>
                  <p:spPr>
                    <a:xfrm>
                      <a:off x="3600360" y="46062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4" name=""/>
                    <p:cNvSpPr/>
                    <p:nvPr/>
                  </p:nvSpPr>
                  <p:spPr>
                    <a:xfrm>
                      <a:off x="3832920" y="44092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5" name=""/>
                    <p:cNvSpPr/>
                    <p:nvPr/>
                  </p:nvSpPr>
                  <p:spPr>
                    <a:xfrm>
                      <a:off x="2320920" y="38966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6" name=""/>
                    <p:cNvSpPr/>
                    <p:nvPr/>
                  </p:nvSpPr>
                  <p:spPr>
                    <a:xfrm>
                      <a:off x="2437200" y="42120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7" name=""/>
                    <p:cNvSpPr/>
                    <p:nvPr/>
                  </p:nvSpPr>
                  <p:spPr>
                    <a:xfrm>
                      <a:off x="2786760" y="30700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8" name=""/>
                    <p:cNvSpPr/>
                    <p:nvPr/>
                  </p:nvSpPr>
                  <p:spPr>
                    <a:xfrm>
                      <a:off x="3213360" y="30312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767676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9" name=""/>
                    <p:cNvSpPr/>
                    <p:nvPr/>
                  </p:nvSpPr>
                  <p:spPr>
                    <a:xfrm>
                      <a:off x="2747520" y="35035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0" name=""/>
                    <p:cNvSpPr/>
                    <p:nvPr/>
                  </p:nvSpPr>
                  <p:spPr>
                    <a:xfrm>
                      <a:off x="2670480" y="38577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1" name=""/>
                    <p:cNvSpPr/>
                    <p:nvPr/>
                  </p:nvSpPr>
                  <p:spPr>
                    <a:xfrm>
                      <a:off x="3097080" y="33454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2" name=""/>
                    <p:cNvSpPr/>
                    <p:nvPr/>
                  </p:nvSpPr>
                  <p:spPr>
                    <a:xfrm>
                      <a:off x="3561840" y="33454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3" name=""/>
                    <p:cNvSpPr/>
                    <p:nvPr/>
                  </p:nvSpPr>
                  <p:spPr>
                    <a:xfrm>
                      <a:off x="3755880" y="3700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4" name=""/>
                    <p:cNvSpPr/>
                    <p:nvPr/>
                  </p:nvSpPr>
                  <p:spPr>
                    <a:xfrm>
                      <a:off x="2863800" y="425196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5" name=""/>
                    <p:cNvSpPr/>
                    <p:nvPr/>
                  </p:nvSpPr>
                  <p:spPr>
                    <a:xfrm>
                      <a:off x="2670480" y="44881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6" name=""/>
                    <p:cNvSpPr/>
                    <p:nvPr/>
                  </p:nvSpPr>
                  <p:spPr>
                    <a:xfrm>
                      <a:off x="2554200" y="326736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7" name=""/>
                    <p:cNvSpPr/>
                    <p:nvPr/>
                  </p:nvSpPr>
                  <p:spPr>
                    <a:xfrm>
                      <a:off x="2205000" y="3700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8" name=""/>
                    <p:cNvSpPr/>
                    <p:nvPr/>
                  </p:nvSpPr>
                  <p:spPr>
                    <a:xfrm>
                      <a:off x="2554200" y="36216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9" name=""/>
                    <p:cNvSpPr/>
                    <p:nvPr/>
                  </p:nvSpPr>
                  <p:spPr>
                    <a:xfrm>
                      <a:off x="2980080" y="29120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0" name=""/>
                    <p:cNvSpPr/>
                    <p:nvPr/>
                  </p:nvSpPr>
                  <p:spPr>
                    <a:xfrm>
                      <a:off x="2631240" y="29520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1" name=""/>
                    <p:cNvSpPr/>
                    <p:nvPr/>
                  </p:nvSpPr>
                  <p:spPr>
                    <a:xfrm>
                      <a:off x="2903040" y="32673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2" name=""/>
                    <p:cNvSpPr/>
                    <p:nvPr/>
                  </p:nvSpPr>
                  <p:spPr>
                    <a:xfrm>
                      <a:off x="2670480" y="41338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3" name=""/>
                    <p:cNvSpPr/>
                    <p:nvPr/>
                  </p:nvSpPr>
                  <p:spPr>
                    <a:xfrm>
                      <a:off x="2244240" y="41338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4" name=""/>
                    <p:cNvSpPr/>
                    <p:nvPr/>
                  </p:nvSpPr>
                  <p:spPr>
                    <a:xfrm>
                      <a:off x="3445920" y="30312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5" name=""/>
                    <p:cNvSpPr/>
                    <p:nvPr/>
                  </p:nvSpPr>
                  <p:spPr>
                    <a:xfrm>
                      <a:off x="3367800" y="32270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6" name=""/>
                    <p:cNvSpPr/>
                    <p:nvPr/>
                  </p:nvSpPr>
                  <p:spPr>
                    <a:xfrm>
                      <a:off x="3019320" y="36216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7" name=""/>
                    <p:cNvSpPr/>
                    <p:nvPr/>
                  </p:nvSpPr>
                  <p:spPr>
                    <a:xfrm>
                      <a:off x="2941560" y="38966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8" name=""/>
                    <p:cNvSpPr/>
                    <p:nvPr/>
                  </p:nvSpPr>
                  <p:spPr>
                    <a:xfrm>
                      <a:off x="2980080" y="452736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9" name=""/>
                    <p:cNvSpPr/>
                    <p:nvPr/>
                  </p:nvSpPr>
                  <p:spPr>
                    <a:xfrm>
                      <a:off x="3367800" y="35424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0" name=""/>
                    <p:cNvSpPr/>
                    <p:nvPr/>
                  </p:nvSpPr>
                  <p:spPr>
                    <a:xfrm>
                      <a:off x="3755880" y="34243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1" name=""/>
                    <p:cNvSpPr/>
                    <p:nvPr/>
                  </p:nvSpPr>
                  <p:spPr>
                    <a:xfrm>
                      <a:off x="3251880" y="389664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2" name=""/>
                    <p:cNvSpPr/>
                    <p:nvPr/>
                  </p:nvSpPr>
                  <p:spPr>
                    <a:xfrm>
                      <a:off x="3173760" y="42120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3" name=""/>
                    <p:cNvSpPr/>
                    <p:nvPr/>
                  </p:nvSpPr>
                  <p:spPr>
                    <a:xfrm>
                      <a:off x="3251880" y="44881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4" name=""/>
                    <p:cNvSpPr/>
                    <p:nvPr/>
                  </p:nvSpPr>
                  <p:spPr>
                    <a:xfrm>
                      <a:off x="3561840" y="3700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5" name=""/>
                    <p:cNvSpPr/>
                    <p:nvPr/>
                  </p:nvSpPr>
                  <p:spPr>
                    <a:xfrm>
                      <a:off x="3484080" y="39366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6" name=""/>
                    <p:cNvSpPr/>
                    <p:nvPr/>
                  </p:nvSpPr>
                  <p:spPr>
                    <a:xfrm>
                      <a:off x="3251880" y="37008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7" name=""/>
                    <p:cNvSpPr/>
                    <p:nvPr/>
                  </p:nvSpPr>
                  <p:spPr>
                    <a:xfrm>
                      <a:off x="2980080" y="41338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8" name=""/>
                    <p:cNvSpPr/>
                    <p:nvPr/>
                  </p:nvSpPr>
                  <p:spPr>
                    <a:xfrm>
                      <a:off x="3406320" y="42120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5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9" name=""/>
                    <p:cNvSpPr/>
                    <p:nvPr/>
                  </p:nvSpPr>
                  <p:spPr>
                    <a:xfrm>
                      <a:off x="3484080" y="44092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0" name=""/>
                    <p:cNvSpPr/>
                    <p:nvPr/>
                  </p:nvSpPr>
                  <p:spPr>
                    <a:xfrm>
                      <a:off x="3678120" y="42519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1" name=""/>
                    <p:cNvSpPr/>
                    <p:nvPr/>
                  </p:nvSpPr>
                  <p:spPr>
                    <a:xfrm>
                      <a:off x="3755880" y="39366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2" name=""/>
                    <p:cNvSpPr/>
                    <p:nvPr/>
                  </p:nvSpPr>
                  <p:spPr>
                    <a:xfrm>
                      <a:off x="3949200" y="36604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3" name=""/>
                    <p:cNvSpPr/>
                    <p:nvPr/>
                  </p:nvSpPr>
                  <p:spPr>
                    <a:xfrm>
                      <a:off x="3949200" y="4015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4" name=""/>
                    <p:cNvSpPr/>
                    <p:nvPr/>
                  </p:nvSpPr>
                  <p:spPr>
                    <a:xfrm>
                      <a:off x="2205000" y="33854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5" name=""/>
                    <p:cNvSpPr/>
                    <p:nvPr/>
                  </p:nvSpPr>
                  <p:spPr>
                    <a:xfrm>
                      <a:off x="2476440" y="39758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6" name=""/>
                    <p:cNvSpPr/>
                    <p:nvPr/>
                  </p:nvSpPr>
                  <p:spPr>
                    <a:xfrm>
                      <a:off x="2825280" y="370080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7" name=""/>
                    <p:cNvSpPr/>
                    <p:nvPr/>
                  </p:nvSpPr>
                  <p:spPr>
                    <a:xfrm>
                      <a:off x="2825280" y="40158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8" name=""/>
                    <p:cNvSpPr/>
                    <p:nvPr/>
                  </p:nvSpPr>
                  <p:spPr>
                    <a:xfrm>
                      <a:off x="3097080" y="38577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9" name=""/>
                    <p:cNvSpPr/>
                    <p:nvPr/>
                  </p:nvSpPr>
                  <p:spPr>
                    <a:xfrm>
                      <a:off x="3019320" y="31489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0" name=""/>
                    <p:cNvSpPr/>
                    <p:nvPr/>
                  </p:nvSpPr>
                  <p:spPr>
                    <a:xfrm>
                      <a:off x="2980080" y="35035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1" name=""/>
                    <p:cNvSpPr/>
                    <p:nvPr/>
                  </p:nvSpPr>
                  <p:spPr>
                    <a:xfrm>
                      <a:off x="3290040" y="346356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2" name=""/>
                    <p:cNvSpPr/>
                    <p:nvPr/>
                  </p:nvSpPr>
                  <p:spPr>
                    <a:xfrm>
                      <a:off x="2399040" y="440928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3" name=""/>
                    <p:cNvSpPr/>
                    <p:nvPr/>
                  </p:nvSpPr>
                  <p:spPr>
                    <a:xfrm>
                      <a:off x="2631240" y="429120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4" name=""/>
                    <p:cNvSpPr/>
                    <p:nvPr/>
                  </p:nvSpPr>
                  <p:spPr>
                    <a:xfrm>
                      <a:off x="3173760" y="409392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5" name=""/>
                    <p:cNvSpPr/>
                    <p:nvPr/>
                  </p:nvSpPr>
                  <p:spPr>
                    <a:xfrm>
                      <a:off x="2786760" y="46454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6" name=""/>
                    <p:cNvSpPr/>
                    <p:nvPr/>
                  </p:nvSpPr>
                  <p:spPr>
                    <a:xfrm>
                      <a:off x="2437200" y="377856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7" name=""/>
                    <p:cNvSpPr/>
                    <p:nvPr/>
                  </p:nvSpPr>
                  <p:spPr>
                    <a:xfrm>
                      <a:off x="3561840" y="40939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8" name=""/>
                    <p:cNvSpPr/>
                    <p:nvPr/>
                  </p:nvSpPr>
                  <p:spPr>
                    <a:xfrm>
                      <a:off x="3019320" y="440928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9" name=""/>
                    <p:cNvSpPr/>
                    <p:nvPr/>
                  </p:nvSpPr>
                  <p:spPr>
                    <a:xfrm>
                      <a:off x="2050200" y="3975840"/>
                      <a:ext cx="309960" cy="3150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0" name=""/>
                    <p:cNvSpPr/>
                    <p:nvPr/>
                  </p:nvSpPr>
                  <p:spPr>
                    <a:xfrm>
                      <a:off x="3639960" y="3109320"/>
                      <a:ext cx="309960" cy="315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1" name=""/>
                    <p:cNvSpPr/>
                    <p:nvPr/>
                  </p:nvSpPr>
                  <p:spPr>
                    <a:xfrm>
                      <a:off x="1429560" y="3975840"/>
                      <a:ext cx="698040" cy="158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2" name=""/>
                    <p:cNvSpPr/>
                    <p:nvPr/>
                  </p:nvSpPr>
                  <p:spPr>
                    <a:xfrm flipV="1">
                      <a:off x="1429560" y="3582000"/>
                      <a:ext cx="814320" cy="235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3" name=""/>
                    <p:cNvSpPr/>
                    <p:nvPr/>
                  </p:nvSpPr>
                  <p:spPr>
                    <a:xfrm flipV="1">
                      <a:off x="1119240" y="4291200"/>
                      <a:ext cx="891360" cy="3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4" name=""/>
                    <p:cNvSpPr/>
                    <p:nvPr/>
                  </p:nvSpPr>
                  <p:spPr>
                    <a:xfrm flipV="1">
                      <a:off x="1119240" y="3305880"/>
                      <a:ext cx="1046880" cy="235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5" name=""/>
                    <p:cNvSpPr/>
                    <p:nvPr/>
                  </p:nvSpPr>
                  <p:spPr>
                    <a:xfrm>
                      <a:off x="1274400" y="2911320"/>
                      <a:ext cx="63036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6" name=""/>
                    <p:cNvSpPr/>
                    <p:nvPr/>
                  </p:nvSpPr>
                  <p:spPr>
                    <a:xfrm>
                      <a:off x="1352880" y="2911320"/>
                      <a:ext cx="4356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7" name=""/>
                    <p:cNvSpPr/>
                    <p:nvPr/>
                  </p:nvSpPr>
                  <p:spPr>
                    <a:xfrm flipH="1" flipV="1">
                      <a:off x="1545480" y="3070080"/>
                      <a:ext cx="77400" cy="35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8" name=""/>
                  <p:cNvSpPr/>
                  <p:nvPr/>
                </p:nvSpPr>
                <p:spPr>
                  <a:xfrm>
                    <a:off x="344520" y="5516640"/>
                    <a:ext cx="1800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9" name=""/>
                  <p:cNvSpPr/>
                  <p:nvPr/>
                </p:nvSpPr>
                <p:spPr>
                  <a:xfrm>
                    <a:off x="704880" y="5594400"/>
                    <a:ext cx="1079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5 f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40" name=""/>
                <p:cNvSpPr/>
                <p:nvPr/>
              </p:nvSpPr>
              <p:spPr>
                <a:xfrm>
                  <a:off x="313920" y="2851200"/>
                  <a:ext cx="835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lectr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1" name=""/>
                <p:cNvSpPr/>
                <p:nvPr/>
              </p:nvSpPr>
              <p:spPr>
                <a:xfrm flipH="1" flipV="1">
                  <a:off x="721800" y="3068280"/>
                  <a:ext cx="9036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2" name=""/>
              <p:cNvSpPr/>
              <p:nvPr/>
            </p:nvSpPr>
            <p:spPr>
              <a:xfrm>
                <a:off x="178920" y="4471920"/>
                <a:ext cx="68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t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H="1">
                <a:off x="406440" y="4014720"/>
                <a:ext cx="18072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4" name=""/>
            <p:cNvSpPr/>
            <p:nvPr/>
          </p:nvSpPr>
          <p:spPr>
            <a:xfrm flipH="1">
              <a:off x="539640" y="429264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387-3B1F-4455-A2DE-96B60A70E41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dden Tall Thin Barrier Approx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 (or d) gets into the strong force range, electrons separate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(or d) feel Coulomb repulsion to the M-nucleus charge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6" name=""/>
          <p:cNvGraphicFramePr/>
          <p:nvPr/>
        </p:nvGraphicFramePr>
        <p:xfrm>
          <a:off x="463680" y="1596960"/>
          <a:ext cx="3747960" cy="45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596960"/>
                    <a:ext cx="374796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8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85316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1.2A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 = 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=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2 f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E) = exp(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 = 0.436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(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b-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(b -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eaction 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E)v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(E)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/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exp(-0.218n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: Plural p (or d) existence probability in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r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for n &gt; 1. 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= 1, for n =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"/>
          <p:cNvSpPr/>
          <p:nvPr/>
        </p:nvSpPr>
        <p:spPr>
          <a:xfrm>
            <a:off x="826920" y="2060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"/>
          <p:cNvSpPr/>
          <p:nvPr/>
        </p:nvSpPr>
        <p:spPr>
          <a:xfrm>
            <a:off x="611280" y="4437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1187280" y="2133720"/>
            <a:ext cx="0" cy="38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"/>
          <p:cNvSpPr/>
          <p:nvPr/>
        </p:nvSpPr>
        <p:spPr>
          <a:xfrm>
            <a:off x="1619280" y="256536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"/>
          <p:cNvSpPr/>
          <p:nvPr/>
        </p:nvSpPr>
        <p:spPr>
          <a:xfrm>
            <a:off x="1187280" y="2133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"/>
          <p:cNvSpPr/>
          <p:nvPr/>
        </p:nvSpPr>
        <p:spPr>
          <a:xfrm>
            <a:off x="1619280" y="422100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"/>
          <p:cNvSpPr/>
          <p:nvPr/>
        </p:nvSpPr>
        <p:spPr>
          <a:xfrm>
            <a:off x="2771640" y="4076640"/>
            <a:ext cx="9144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 or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"/>
          <p:cNvSpPr/>
          <p:nvPr/>
        </p:nvSpPr>
        <p:spPr>
          <a:xfrm>
            <a:off x="1763640" y="1628640"/>
            <a:ext cx="1079640" cy="432000"/>
          </a:xfrm>
          <a:prstGeom prst="wedgeRoundRectCallout">
            <a:avLst>
              <a:gd name="adj1" fmla="val -79851"/>
              <a:gd name="adj2" fmla="val 107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"/>
          <p:cNvSpPr/>
          <p:nvPr/>
        </p:nvSpPr>
        <p:spPr>
          <a:xfrm>
            <a:off x="1476360" y="4508640"/>
            <a:ext cx="289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"/>
          <p:cNvSpPr/>
          <p:nvPr/>
        </p:nvSpPr>
        <p:spPr>
          <a:xfrm>
            <a:off x="1116000" y="4508640"/>
            <a:ext cx="3603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"/>
          <p:cNvSpPr/>
          <p:nvPr/>
        </p:nvSpPr>
        <p:spPr>
          <a:xfrm>
            <a:off x="3780000" y="4221000"/>
            <a:ext cx="21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D95-AB83-4889-A1E8-F69377A8403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by STTBA calculation; M = 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E) = 9.2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E) = 3.5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action R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= 3.7E-8 (f/s/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M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= 2.1E-7 (f/s/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M4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= 1.0E-8 (f/s/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M4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= 3.4E-9 (f/s/p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&lt;Macroscopic Reaction Rate&gt;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x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+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T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With 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  <a:ea typeface="Arial"/>
              </a:rPr>
              <a:t>M+t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 = 1.0E+16 in 10nm area, Rate = 1E+8 f/s/cm2 and Y = 1E+14 in 1E+6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"/>
          <p:cNvSpPr/>
          <p:nvPr/>
        </p:nvSpPr>
        <p:spPr>
          <a:xfrm>
            <a:off x="4788000" y="1844640"/>
            <a:ext cx="345600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1.44/6 = 0.24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0.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0.4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0) = 1.0E+8 kev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0) = 1.0E+9 keV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cc"/>
                </a:solidFill>
                <a:latin typeface="Arial"/>
                <a:ea typeface="Arial"/>
              </a:rPr>
              <a:t>λ</a:t>
            </a:r>
            <a:r>
              <a:rPr b="0" lang="ja-JP" sz="1600" spc="-1" strike="noStrike">
                <a:solidFill>
                  <a:srgbClr val="ff33cc"/>
                </a:solidFill>
                <a:latin typeface="Arial"/>
                <a:ea typeface="Arial"/>
              </a:rPr>
              <a:t>4d</a:t>
            </a:r>
            <a:r>
              <a:rPr b="0" lang="ja-JP" sz="2400" spc="-1" strike="noStrike">
                <a:solidFill>
                  <a:srgbClr val="ff33cc"/>
                </a:solidFill>
                <a:latin typeface="Arial"/>
                <a:ea typeface="Arial"/>
              </a:rPr>
              <a:t> = 4.9E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10E-5B72-40D5-9E0A-8AAFE510CC7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 by Ni + p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492800"/>
          </a:xfrm>
          <a:prstGeom prst="rect">
            <a:avLst/>
          </a:prstGeom>
          <a:solidFill>
            <a:srgbClr val="d9fe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+p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*(1.36m, EC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*(7E4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p 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*(3.3h, EC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*(9.7m, EC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p → </a:t>
            </a:r>
            <a:r>
              <a:rPr b="0" lang="en-US" sz="2400" spc="-1" strike="noStrike" baseline="30000">
                <a:solidFill>
                  <a:srgbClr val="009999"/>
                </a:solidFill>
                <a:latin typeface="Arial"/>
              </a:rPr>
              <a:t>63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.12MeV);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Eg=669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p → </a:t>
            </a:r>
            <a:r>
              <a:rPr b="0" lang="en-US" sz="2400" spc="-1" strike="noStrike" baseline="30000">
                <a:solidFill>
                  <a:srgbClr val="009999"/>
                </a:solidFill>
                <a:latin typeface="Arial"/>
              </a:rPr>
              <a:t>65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.45M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303"/>
              </a:buClr>
              <a:buSzPct val="8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303"/>
                </a:solidFill>
                <a:latin typeface="Arial"/>
              </a:rPr>
              <a:t>Prompt Gamma-Rays e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303"/>
              </a:buClr>
              <a:buSzPct val="5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303"/>
                </a:solidFill>
                <a:latin typeface="Arial"/>
              </a:rPr>
              <a:t>Ni-H gas system exp. By Piantelli (ASTI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303"/>
                </a:solidFill>
                <a:latin typeface="Arial"/>
              </a:rPr>
              <a:t>  </a:t>
            </a:r>
            <a:r>
              <a:rPr b="0" lang="ja-JP" sz="2800" spc="-1" strike="noStrike">
                <a:solidFill>
                  <a:srgbClr val="ff0303"/>
                </a:solidFill>
                <a:latin typeface="Arial"/>
              </a:rPr>
              <a:t>; 660 keV peak by NaI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60 MJ Excess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"/>
          <p:cNvSpPr/>
          <p:nvPr/>
        </p:nvSpPr>
        <p:spPr>
          <a:xfrm>
            <a:off x="179280" y="1413000"/>
            <a:ext cx="87138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09E-C487-4113-B10B-A42AE12F275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3152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sion by M + TSC is possib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solidFill>
            <a:srgbClr val="d9fe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4p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(11MeV) →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+ 4d 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(54MeV) →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+ 4p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(23MeV) →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+4d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(52MeV) →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+4d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(52MeV) →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303"/>
              </a:buClr>
              <a:buSzPct val="5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Many foreign elements were detec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Piantelli, Karabut, Yamada, Ohmor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　　  </a:t>
            </a: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Mizuno, Mile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30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303"/>
                </a:solidFill>
                <a:latin typeface="Arial"/>
              </a:rPr>
              <a:t>Fission can be induced by TSC cap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"/>
          <p:cNvSpPr/>
          <p:nvPr/>
        </p:nvSpPr>
        <p:spPr>
          <a:xfrm>
            <a:off x="395280" y="1484280"/>
            <a:ext cx="84978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032-8DC4-4D77-8F22-8E59C37C6EF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1" name=""/>
          <p:cNvGraphicFramePr/>
          <p:nvPr/>
        </p:nvGraphicFramePr>
        <p:xfrm>
          <a:off x="838080" y="990720"/>
          <a:ext cx="7391520" cy="45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9152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BCB-7982-4EEA-90D8-6B9109F7D3B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" y="214200"/>
            <a:ext cx="8069400" cy="595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572-C0FE-4322-8AAB-759EFEE45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315200" cy="100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200" spc="-1" strike="noStrike">
                <a:solidFill>
                  <a:srgbClr val="1910c6"/>
                </a:solidFill>
                <a:latin typeface="Arial"/>
              </a:rPr>
              <a:t>Selective Channel Fissio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 Channel Dependent Fission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 Rotating Liquid Dro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 Selective Channel Sc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1" lang="en-US" sz="2800" spc="-1" strike="noStrike">
                <a:solidFill>
                  <a:srgbClr val="1910c6"/>
                </a:solidFill>
                <a:latin typeface="Arial"/>
              </a:rPr>
              <a:t>Test by U-235 + n F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</a:t>
            </a:r>
            <a:r>
              <a:rPr b="1" lang="en-US" sz="2800" spc="-1" strike="noStrike">
                <a:solidFill>
                  <a:srgbClr val="c442c1"/>
                </a:solidFill>
                <a:latin typeface="Arial"/>
              </a:rPr>
              <a:t>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W,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7 </a:t>
            </a:r>
            <a:r>
              <a:rPr b="1" lang="en-US" sz="2800" spc="-1" strike="noStrike">
                <a:solidFill>
                  <a:srgbClr val="1910c6"/>
                </a:solidFill>
                <a:latin typeface="Arial"/>
              </a:rPr>
              <a:t>A-Distribution, Z-Distribution, Isotopes and Radio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1042920" y="1484280"/>
            <a:ext cx="7391520" cy="0"/>
          </a:xfrm>
          <a:prstGeom prst="line">
            <a:avLst/>
          </a:prstGeom>
          <a:ln w="57240">
            <a:solidFill>
              <a:srgbClr val="c44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B41-3572-4FA7-A7F2-1B5D1408147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38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0c6"/>
                </a:solidFill>
                <a:latin typeface="Arial"/>
              </a:rPr>
              <a:t>Fission Barrier by Rotating Liquid Drop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7" name="" descr=""/>
          <p:cNvPicPr/>
          <p:nvPr/>
        </p:nvPicPr>
        <p:blipFill>
          <a:blip r:embed="rId1"/>
          <a:stretch/>
        </p:blipFill>
        <p:spPr>
          <a:xfrm>
            <a:off x="914400" y="880920"/>
            <a:ext cx="7543800" cy="52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85A-8060-4869-AFEB-6639519802E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FP Elements by SCS vs. Miley Ex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9" name=""/>
          <p:cNvGraphicFramePr/>
          <p:nvPr/>
        </p:nvGraphicFramePr>
        <p:xfrm>
          <a:off x="4356000" y="1989000"/>
          <a:ext cx="4788000" cy="432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89000"/>
                    <a:ext cx="478800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1" name=""/>
          <p:cNvGraphicFramePr/>
          <p:nvPr/>
        </p:nvGraphicFramePr>
        <p:xfrm>
          <a:off x="395280" y="2276640"/>
          <a:ext cx="3754440" cy="2436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276640"/>
                    <a:ext cx="3754440" cy="24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3" name=""/>
          <p:cNvSpPr/>
          <p:nvPr/>
        </p:nvSpPr>
        <p:spPr>
          <a:xfrm>
            <a:off x="611280" y="5084640"/>
            <a:ext cx="3456000" cy="1419480"/>
          </a:xfrm>
          <a:prstGeom prst="rect">
            <a:avLst/>
          </a:prstGeom>
          <a:solidFill>
            <a:srgbClr val="d9f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 + 4p/TSC to f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ve Channel Fi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"/>
          <p:cNvSpPr/>
          <p:nvPr/>
        </p:nvSpPr>
        <p:spPr>
          <a:xfrm>
            <a:off x="4716360" y="1197000"/>
            <a:ext cx="4103640" cy="647640"/>
          </a:xfrm>
          <a:prstGeom prst="rect">
            <a:avLst/>
          </a:prstGeom>
          <a:solidFill>
            <a:srgbClr val="d9f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. Miley and J. Patt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J. New Energy, 1996, 1, p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404-BAEE-4096-BF1E-8EDF6B60DBC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Fission Channels from Ni + 4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07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i(68%) + 4p →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e(Ex=11.2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.8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n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.8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r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(2)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Ni(26.2%) + 4p →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e(Ex=19.1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.4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n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.6MeV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.0MeV +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n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2MeV +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.5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M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.4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.7MeV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.5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(EC)Al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PlaceHolder 3"/>
          <p:cNvSpPr>
            <a:spLocks noGrp="1"/>
          </p:cNvSpPr>
          <p:nvPr>
            <p:ph/>
          </p:nvPr>
        </p:nvSpPr>
        <p:spPr>
          <a:xfrm>
            <a:off x="4643280" y="1125000"/>
            <a:ext cx="4316400" cy="26924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3)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6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i(1.1%) + 4p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 65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e(Ex=21.3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8.9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n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.9MeV +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n(3.7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1.0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5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4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r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0MeV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→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5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"/>
          <p:cNvSpPr/>
          <p:nvPr/>
        </p:nvSpPr>
        <p:spPr>
          <a:xfrm>
            <a:off x="4643280" y="4149720"/>
            <a:ext cx="424980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9999"/>
                </a:solidFill>
                <a:latin typeface="Arial"/>
              </a:rPr>
              <a:t>Green shows stable isotop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5050"/>
                </a:solidFill>
                <a:latin typeface="Arial"/>
              </a:rPr>
              <a:t>Average Kinetic Energ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ff5050"/>
                </a:solidFill>
                <a:latin typeface="Arial"/>
              </a:rPr>
              <a:t>Fission Product = 9.7 MeV for Ni-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5D5-A779-44EA-A90F-AEBF0211769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9fba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Fission Channels from Ni + 4p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3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2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  <a:ea typeface="Arial"/>
              </a:rPr>
              <a:t>Ni(3.6%) + 4p → </a:t>
            </a:r>
            <a:r>
              <a:rPr b="0" lang="ja-JP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6</a:t>
            </a:r>
            <a:r>
              <a:rPr b="0" lang="ja-JP" sz="1600" spc="-1" strike="noStrike">
                <a:solidFill>
                  <a:srgbClr val="333399"/>
                </a:solidFill>
                <a:latin typeface="Arial"/>
                <a:ea typeface="Arial"/>
              </a:rPr>
              <a:t>Ge(Ex=24.0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1.0MeV + </a:t>
            </a:r>
            <a:r>
              <a:rPr b="0" lang="ja-JP" sz="1600" spc="-1" strike="noStrike">
                <a:solidFill>
                  <a:srgbClr val="ff5050"/>
                </a:solidFill>
                <a:latin typeface="Arial"/>
                <a:ea typeface="Arial"/>
              </a:rPr>
              <a:t>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Ge(EC)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Ga(EC)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21.4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Zn(EC)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1.5MeV +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8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Be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8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8.9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0.5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Mn(EC)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8.2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6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0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3.9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0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N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6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5.2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M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3.7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7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ja-JP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9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8.9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S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8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18.6MeV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ja-JP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4</a:t>
            </a:r>
            <a:r>
              <a:rPr b="0" lang="ja-JP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5050"/>
                </a:solidFill>
                <a:latin typeface="Arial"/>
                <a:ea typeface="Arial"/>
              </a:rPr>
              <a:t>Neutron emission channel may op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Arial"/>
                <a:ea typeface="Arial"/>
              </a:rPr>
              <a:t>S-values for higher mass Ni may be larger than Ni-58 and Ni-60, due to more p-n PEF inter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256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6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i(0.93%) + 4P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68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e(Ex=29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.7MeV + </a:t>
            </a: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.6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.0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L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61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.2MeV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(EC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.9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9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9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.9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.7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.8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n(EC)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7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5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6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7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5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5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M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4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.8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7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1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8.7MeV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8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40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8.7MeV +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36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D8E-EBB8-40B6-B76E-85E8D2D1787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+ 4d/TS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Interaction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ver-minimum s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4d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xture of 4d/TSC to form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+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* captur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trong force exchange (PE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M and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"/>
          <p:cNvSpPr/>
          <p:nvPr/>
        </p:nvSpPr>
        <p:spPr>
          <a:xfrm>
            <a:off x="250920" y="1413000"/>
            <a:ext cx="86421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5" name=""/>
          <p:cNvGrpSpPr/>
          <p:nvPr/>
        </p:nvGrpSpPr>
        <p:grpSpPr>
          <a:xfrm>
            <a:off x="0" y="1778040"/>
            <a:ext cx="4356000" cy="4184640"/>
            <a:chOff x="0" y="1778040"/>
            <a:chExt cx="4356000" cy="4184640"/>
          </a:xfrm>
        </p:grpSpPr>
        <p:sp>
          <p:nvSpPr>
            <p:cNvPr id="4996" name=""/>
            <p:cNvSpPr/>
            <p:nvPr/>
          </p:nvSpPr>
          <p:spPr>
            <a:xfrm>
              <a:off x="1258920" y="364500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0" y="364500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1116000" y="3716280"/>
              <a:ext cx="43164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1913040" y="2637000"/>
              <a:ext cx="2442960" cy="25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340000" y="291132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108160" y="314964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1990800" y="34639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1913040" y="377820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1990800" y="413388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146320" y="440856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378160" y="460692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2649600" y="480384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571840" y="271620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2300400" y="314964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340000" y="350352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2921040" y="267660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3270240" y="271620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3579840" y="287352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3813120" y="314964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4006800" y="342432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4046400" y="377820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3968640" y="413388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959200" y="480384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3309840" y="476424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3579840" y="460692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3813120" y="440856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300400" y="389736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416320" y="421164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766960" y="307008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3192480" y="303048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2727360" y="35035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2649600" y="385776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3076560" y="334476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3541680" y="334476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3735360" y="370044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2843280" y="4251240"/>
              <a:ext cx="31104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2649600" y="448776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2533680" y="3267000"/>
              <a:ext cx="31104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2184480" y="37004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2533680" y="362124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2959200" y="2911320"/>
              <a:ext cx="31104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2611440" y="29527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2882880" y="326700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2649600" y="413388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2224080" y="413388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425760" y="303048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3348000" y="322740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2998800" y="362124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2921040" y="389736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2959200" y="452772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3348000" y="354348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3735360" y="342432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232080" y="389736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154320" y="42116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232080" y="448776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3541680" y="37004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3463920" y="393696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3232080" y="370044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2959200" y="413388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3386160" y="42116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3463920" y="440856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3657600" y="425124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735360" y="393696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3929040" y="366084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3929040" y="40165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184480" y="338616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455920" y="3976560"/>
              <a:ext cx="31104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805120" y="3700440"/>
              <a:ext cx="309600" cy="3160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805120" y="401652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3076560" y="3857760"/>
              <a:ext cx="3096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998800" y="314964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959200" y="3503520"/>
              <a:ext cx="31104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270240" y="346392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2378160" y="4408560"/>
              <a:ext cx="31104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2611440" y="4290840"/>
              <a:ext cx="3096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154320" y="409428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766960" y="4645080"/>
              <a:ext cx="309600" cy="315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2416320" y="377820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541680" y="409428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2998800" y="4408560"/>
              <a:ext cx="31104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2030400" y="397656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619440" y="3110040"/>
              <a:ext cx="309600" cy="3142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1254240" y="2911320"/>
              <a:ext cx="63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116000" y="2492280"/>
              <a:ext cx="57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 flipH="1" flipV="1">
              <a:off x="1403280" y="2708280"/>
              <a:ext cx="216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24000" y="551664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684360" y="55944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95280" y="3716280"/>
              <a:ext cx="43164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55640" y="3357720"/>
              <a:ext cx="431640" cy="433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755640" y="4076640"/>
              <a:ext cx="431640" cy="433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1187280" y="371628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468360" y="3860640"/>
              <a:ext cx="309600" cy="314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246400" y="419256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1187280" y="3860640"/>
              <a:ext cx="31140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468360" y="3716280"/>
              <a:ext cx="31104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826920" y="3357720"/>
              <a:ext cx="311400" cy="315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826920" y="4221000"/>
              <a:ext cx="289080" cy="31608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826920" y="4076640"/>
              <a:ext cx="309600" cy="3142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826920" y="3500280"/>
              <a:ext cx="309600" cy="314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042920" y="371628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116000" y="357336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755640" y="4005360"/>
              <a:ext cx="21600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684360" y="4149720"/>
              <a:ext cx="21564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 flipV="1">
              <a:off x="1042920" y="4005000"/>
              <a:ext cx="21744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 flipV="1">
              <a:off x="1042920" y="3789000"/>
              <a:ext cx="21600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 flipH="1">
              <a:off x="684360" y="3429000"/>
              <a:ext cx="28728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 flipV="1">
              <a:off x="971640" y="357300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042920" y="3645000"/>
              <a:ext cx="0" cy="72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 flipH="1">
              <a:off x="684000" y="3716280"/>
              <a:ext cx="215640" cy="21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684360" y="3860640"/>
              <a:ext cx="64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684360" y="4005360"/>
              <a:ext cx="576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684360" y="443700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684360" y="2781360"/>
              <a:ext cx="608040" cy="619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 flipV="1">
              <a:off x="1116000" y="3357720"/>
              <a:ext cx="1008000" cy="142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 flipV="1">
              <a:off x="1116000" y="4292280"/>
              <a:ext cx="934920" cy="73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 flipV="1">
              <a:off x="1403280" y="3644640"/>
              <a:ext cx="647640" cy="142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403280" y="4005360"/>
              <a:ext cx="647640" cy="73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403280" y="3860640"/>
              <a:ext cx="647640" cy="73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V="1">
              <a:off x="1042920" y="3573000"/>
              <a:ext cx="1079640" cy="7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116000" y="4292640"/>
              <a:ext cx="107964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376200" y="1778040"/>
              <a:ext cx="110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234360" y="17924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 flipH="1" flipV="1">
              <a:off x="684000" y="2133360"/>
              <a:ext cx="215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2771640" y="1844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2466720" y="193680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-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 flipH="1" flipV="1">
              <a:off x="3132000" y="2276280"/>
              <a:ext cx="144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458000" y="484020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187280" y="4437000"/>
              <a:ext cx="648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4" name=""/>
          <p:cNvSpPr/>
          <p:nvPr/>
        </p:nvSpPr>
        <p:spPr>
          <a:xfrm>
            <a:off x="971640" y="5084640"/>
            <a:ext cx="0" cy="289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"/>
          <p:cNvSpPr/>
          <p:nvPr/>
        </p:nvSpPr>
        <p:spPr>
          <a:xfrm>
            <a:off x="971640" y="2421000"/>
            <a:ext cx="0" cy="28872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13B-FE18-4D19-8A63-4CE397F836B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3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 + TSC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13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s + d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Ba(Ex=12.91MeV) → 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35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Ba(stable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s(12.91Me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s + 2d 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La(Ex=25.32MeV) → 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La(6E+4 y) + ga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s + 3d → 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e(Ex=38.29MeV) → 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0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39</a:t>
            </a:r>
            <a:r>
              <a:rPr b="0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La(stable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3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Cs + 4d → </a:t>
            </a:r>
            <a:r>
              <a:rPr b="1" lang="ja-JP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1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Pr(Ex=50.49MeV) → 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or </a:t>
            </a:r>
            <a:r>
              <a:rPr b="1" lang="ja-JP" sz="28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141</a:t>
            </a:r>
            <a:r>
              <a:rPr b="1" lang="ja-JP" sz="2800" spc="-1" strike="noStrike">
                <a:solidFill>
                  <a:srgbClr val="009999"/>
                </a:solidFill>
                <a:latin typeface="Arial"/>
                <a:ea typeface="Arial"/>
              </a:rPr>
              <a:t>Pr(stable)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+ ga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Note: (1) + 2d is equivalent to </a:t>
            </a:r>
            <a:r>
              <a:rPr b="0" lang="ja-JP" sz="28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4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He + 23.8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　　　　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(2) We need to detect 50.49 MeV gamma?</a:t>
            </a:r>
            <a:r>
              <a:rPr b="0" lang="ja-JP" sz="2800" spc="-1" strike="noStrike">
                <a:solidFill>
                  <a:srgbClr val="cc00cc"/>
                </a:solidFill>
                <a:latin typeface="Arial"/>
                <a:ea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"/>
          <p:cNvSpPr/>
          <p:nvPr/>
        </p:nvSpPr>
        <p:spPr>
          <a:xfrm>
            <a:off x="539640" y="1197000"/>
            <a:ext cx="8136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047-00BA-4A3B-9457-760714CAD22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fb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TBA Prediction for Cs-to-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p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= 1E+8 ke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1E+9 ke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8.4E-10 f/s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4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2.3E-10 f/s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2.8E-8 f/s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M4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 = 7.6E-9 f/s/t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Arial"/>
              </a:rPr>
              <a:t>Where combination probability of anti-parallel spin was used for 4p/TS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PlaceHolder 3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solidFill>
            <a:srgbClr val="fcffbb"/>
          </a:solidFill>
          <a:ln w="9360">
            <a:solidFill>
              <a:srgbClr val="cc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uppose 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+tsc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 1E+17 in 10 nm layer of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cro Yield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s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= 7.6E-9 x 1E+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= 7.6E+8 (f/s/cm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Cs-to-Pr rat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4.6E+14 (</a:t>
            </a:r>
            <a:r>
              <a:rPr b="0" lang="ja-JP" sz="1800" spc="-1" strike="noStrike">
                <a:solidFill>
                  <a:srgbClr val="cc00cc"/>
                </a:solidFill>
                <a:latin typeface="Arial"/>
              </a:rPr>
              <a:t>atoms per week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cc00cc"/>
                </a:solidFill>
                <a:latin typeface="Arial"/>
              </a:rPr>
              <a:t>per cm</a:t>
            </a:r>
            <a:r>
              <a:rPr b="0" lang="ja-JP" sz="2400" spc="-1" strike="noStrike" baseline="30000">
                <a:solidFill>
                  <a:srgbClr val="cc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We see good agreement with Iwamura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573-A92D-4F20-977E-03ECAA0D235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2" name=""/>
          <p:cNvGrpSpPr/>
          <p:nvPr/>
        </p:nvGrpSpPr>
        <p:grpSpPr>
          <a:xfrm>
            <a:off x="1062000" y="1224000"/>
            <a:ext cx="3375000" cy="4284360"/>
            <a:chOff x="1062000" y="1224000"/>
            <a:chExt cx="3375000" cy="4284360"/>
          </a:xfrm>
        </p:grpSpPr>
        <p:sp>
          <p:nvSpPr>
            <p:cNvPr id="5133" name=""/>
            <p:cNvSpPr/>
            <p:nvPr/>
          </p:nvSpPr>
          <p:spPr>
            <a:xfrm>
              <a:off x="1287720" y="2393640"/>
              <a:ext cx="0" cy="22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3583080" y="2393640"/>
              <a:ext cx="0" cy="22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287720" y="2393640"/>
              <a:ext cx="22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287720" y="4689000"/>
              <a:ext cx="22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917720" y="2077920"/>
              <a:ext cx="0" cy="22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4213440" y="2077920"/>
              <a:ext cx="0" cy="22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917720" y="4373280"/>
              <a:ext cx="229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917720" y="2077920"/>
              <a:ext cx="229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 flipV="1">
              <a:off x="1287720" y="2077920"/>
              <a:ext cx="63000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 flipV="1">
              <a:off x="1287720" y="4373280"/>
              <a:ext cx="67464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 flipV="1">
              <a:off x="3583080" y="4373280"/>
              <a:ext cx="63036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 flipV="1">
              <a:off x="3583080" y="2077920"/>
              <a:ext cx="63036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2637000" y="216828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2683080" y="441936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827360" y="198900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1197000" y="230328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1197000" y="459864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3492720" y="459864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3492720" y="230328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1827360" y="428436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4122720" y="4284360"/>
              <a:ext cx="17964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4122720" y="1989000"/>
              <a:ext cx="17964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1513080" y="3293640"/>
              <a:ext cx="179280" cy="179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3808440" y="3293640"/>
              <a:ext cx="179280" cy="179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2322720" y="3473280"/>
              <a:ext cx="17928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2952720" y="3114360"/>
              <a:ext cx="179640" cy="178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 flipH="1">
              <a:off x="1692360" y="2303280"/>
              <a:ext cx="990720" cy="1034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1692360" y="3428640"/>
              <a:ext cx="1035000" cy="1034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2773440" y="2303280"/>
              <a:ext cx="1079640" cy="1034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H="1">
              <a:off x="2862360" y="3428640"/>
              <a:ext cx="99072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1648080" y="3384360"/>
              <a:ext cx="718920" cy="178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2413080" y="3654000"/>
              <a:ext cx="360360" cy="76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 flipV="1">
              <a:off x="1692360" y="3203280"/>
              <a:ext cx="1305000" cy="180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3087720" y="3203280"/>
              <a:ext cx="809640" cy="180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H="1">
              <a:off x="2412720" y="2303280"/>
              <a:ext cx="314280" cy="1215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2727360" y="2303280"/>
              <a:ext cx="316080" cy="855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H="1">
              <a:off x="2818080" y="3293640"/>
              <a:ext cx="225360" cy="1125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062000" y="3249360"/>
              <a:ext cx="40500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2278080" y="4508280"/>
              <a:ext cx="40500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422360" y="4328640"/>
              <a:ext cx="40500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422360" y="2033280"/>
              <a:ext cx="40500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2862360" y="189828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2187720" y="221436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3357720" y="329364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3718080" y="432864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032360" y="302400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908440" y="414936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737000" y="302400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3672000" y="2033280"/>
              <a:ext cx="404640" cy="40608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7374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2548080" y="3159000"/>
              <a:ext cx="404640" cy="405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 flipV="1">
              <a:off x="1692360" y="3024000"/>
              <a:ext cx="316080" cy="31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 flipV="1">
              <a:off x="2818080" y="4103280"/>
              <a:ext cx="360360" cy="36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 flipV="1">
              <a:off x="1692360" y="3293280"/>
              <a:ext cx="585720" cy="903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 flipV="1">
              <a:off x="2502000" y="3473280"/>
              <a:ext cx="855720" cy="9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 flipV="1">
              <a:off x="3087720" y="1537560"/>
              <a:ext cx="13500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 flipV="1">
              <a:off x="1917720" y="1628640"/>
              <a:ext cx="44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515960" y="1314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2912040" y="1224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llad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 flipH="1">
              <a:off x="1602000" y="3428640"/>
              <a:ext cx="107928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1153440" y="514008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3" name=""/>
          <p:cNvSpPr/>
          <p:nvPr/>
        </p:nvSpPr>
        <p:spPr>
          <a:xfrm>
            <a:off x="1245240" y="458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dD Lattice with v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"/>
          <p:cNvSpPr/>
          <p:nvPr/>
        </p:nvSpPr>
        <p:spPr>
          <a:xfrm>
            <a:off x="1015920" y="5904000"/>
            <a:ext cx="3286080" cy="45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6d/O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"/>
          <p:cNvSpPr/>
          <p:nvPr/>
        </p:nvSpPr>
        <p:spPr>
          <a:xfrm>
            <a:off x="5021280" y="1719360"/>
            <a:ext cx="3600360" cy="292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oid formation inPdD lat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ormation of 6d/OSC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oid a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queezing motion to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2BE-0FF1-4178-9A20-96BBD0861DC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6" name=""/>
          <p:cNvGrpSpPr/>
          <p:nvPr/>
        </p:nvGrpSpPr>
        <p:grpSpPr>
          <a:xfrm>
            <a:off x="1547640" y="1989000"/>
            <a:ext cx="3097440" cy="3671640"/>
            <a:chOff x="1547640" y="1989000"/>
            <a:chExt cx="3097440" cy="3671640"/>
          </a:xfrm>
        </p:grpSpPr>
        <p:sp>
          <p:nvSpPr>
            <p:cNvPr id="5197" name=""/>
            <p:cNvSpPr/>
            <p:nvPr/>
          </p:nvSpPr>
          <p:spPr>
            <a:xfrm flipH="1">
              <a:off x="2700360" y="3697200"/>
              <a:ext cx="169920" cy="59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2700360" y="4290840"/>
              <a:ext cx="16992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 flipV="1">
              <a:off x="2700360" y="4074840"/>
              <a:ext cx="1800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1692000" y="4074840"/>
              <a:ext cx="1008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3132000" y="2635200"/>
              <a:ext cx="432000" cy="1223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V="1">
              <a:off x="1692000" y="3858840"/>
              <a:ext cx="1872000" cy="21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3564000" y="3858840"/>
              <a:ext cx="936360" cy="21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 flipH="1">
              <a:off x="3132000" y="3858840"/>
              <a:ext cx="432000" cy="165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151000" y="5047920"/>
              <a:ext cx="674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124000" y="3066840"/>
              <a:ext cx="52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4086000" y="4282920"/>
              <a:ext cx="0" cy="718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 flipV="1">
              <a:off x="2106360" y="3066480"/>
              <a:ext cx="0" cy="53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124000" y="3066840"/>
              <a:ext cx="863640" cy="1440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2987640" y="4506840"/>
              <a:ext cx="108108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 flipV="1">
              <a:off x="2124000" y="4506840"/>
              <a:ext cx="86364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2987640" y="3066840"/>
              <a:ext cx="1081080" cy="1440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2124000" y="3066840"/>
              <a:ext cx="107964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3681360" y="4371840"/>
              <a:ext cx="387360" cy="63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 flipV="1">
              <a:off x="3203640" y="3066840"/>
              <a:ext cx="86508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2124000" y="4552200"/>
              <a:ext cx="341280" cy="45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987640" y="24904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1547640" y="393192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987640" y="53719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4356000" y="393192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3419280" y="37144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016000" y="491328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016000" y="297792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3095640" y="342720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3951360" y="297792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2870280" y="437184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3951360" y="495756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H="1" flipV="1">
              <a:off x="3499920" y="4057200"/>
              <a:ext cx="181080" cy="314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3230640" y="3606480"/>
              <a:ext cx="269640" cy="45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2106360" y="3562200"/>
              <a:ext cx="0" cy="900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106360" y="4462200"/>
              <a:ext cx="0" cy="45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2646360" y="3066840"/>
              <a:ext cx="853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3500280" y="3066840"/>
              <a:ext cx="451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 flipV="1">
              <a:off x="4086000" y="3652200"/>
              <a:ext cx="0" cy="6303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 flipV="1">
              <a:off x="4086000" y="3201840"/>
              <a:ext cx="0" cy="45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H="1" flipV="1">
              <a:off x="2960280" y="5001480"/>
              <a:ext cx="1350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 flipH="1" flipV="1">
              <a:off x="2869920" y="4776480"/>
              <a:ext cx="90360" cy="225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V="1">
              <a:off x="2465280" y="4012560"/>
              <a:ext cx="405000" cy="539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 flipV="1">
              <a:off x="2870280" y="3606120"/>
              <a:ext cx="315720" cy="406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555640" y="414792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825640" y="5047920"/>
              <a:ext cx="405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3230640" y="5047920"/>
              <a:ext cx="765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V="1">
              <a:off x="1746000" y="3471480"/>
              <a:ext cx="49536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 flipV="1">
              <a:off x="2600280" y="2706480"/>
              <a:ext cx="406440" cy="40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V="1">
              <a:off x="2241360" y="3112920"/>
              <a:ext cx="358920" cy="358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230640" y="2752560"/>
              <a:ext cx="404640" cy="40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H="1" flipV="1">
              <a:off x="3951000" y="3471480"/>
              <a:ext cx="44892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3635280" y="3157200"/>
              <a:ext cx="316080" cy="314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V="1">
              <a:off x="3230640" y="5047560"/>
              <a:ext cx="36036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H="1">
              <a:off x="4130280" y="4192200"/>
              <a:ext cx="269640" cy="31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H="1">
              <a:off x="3590640" y="4506840"/>
              <a:ext cx="539640" cy="541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 flipH="1" flipV="1">
              <a:off x="2599920" y="5047560"/>
              <a:ext cx="4064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1746000" y="419220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106360" y="4552560"/>
              <a:ext cx="493920" cy="495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H="1">
              <a:off x="3006360" y="2796840"/>
              <a:ext cx="8892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 flipH="1">
              <a:off x="2869920" y="3201840"/>
              <a:ext cx="136440" cy="495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2692080" y="1989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H="1" flipV="1">
              <a:off x="3006360" y="2257200"/>
              <a:ext cx="8892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1610640" y="243828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H="1" flipV="1">
              <a:off x="2015640" y="2706480"/>
              <a:ext cx="9036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1" name=""/>
          <p:cNvSpPr/>
          <p:nvPr/>
        </p:nvSpPr>
        <p:spPr>
          <a:xfrm>
            <a:off x="1467360" y="927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d/O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"/>
          <p:cNvSpPr/>
          <p:nvPr/>
        </p:nvSpPr>
        <p:spPr>
          <a:xfrm>
            <a:off x="755640" y="189000"/>
            <a:ext cx="6985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ahedral Symmetric Condensate; 6d/O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"/>
          <p:cNvSpPr/>
          <p:nvPr/>
        </p:nvSpPr>
        <p:spPr>
          <a:xfrm>
            <a:off x="5435640" y="1844640"/>
            <a:ext cx="331308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 deuterons sit on hea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octahed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 electrons sit on hea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octahed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octahedrons cou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go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(A, Z) + 6D (</a:t>
            </a:r>
            <a:r>
              <a:rPr b="0" lang="en-US" sz="1800" spc="-1" strike="noStrike" baseline="30000">
                <a:solidFill>
                  <a:srgbClr val="009999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* ) cap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rocess to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(A+12, Z+6) transm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37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 to 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149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m by Iwamura Ex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1B9-66A3-4574-A722-92EAD1EF8C8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-Beam Energy Dependence of [3D]/[2D]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[3D]/[2D] Yield Ratios by Experiment are in the order of 1E-4 to 1E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reasing trend in lower energy region  than 100 keV may result in indirect 3D re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bbe0e3"/>
                </a:solidFill>
                <a:latin typeface="Arial"/>
              </a:rPr>
              <a:t>Theoretical values by the conventional Random Nuclear Reaction Theory has given [3D]/[2D] ratio to be in the order of 1E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cc"/>
                </a:solidFill>
                <a:latin typeface="Arial"/>
              </a:rPr>
              <a:t>Experiment shows 1E+26 anomalous enha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43400" cy="563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42920" y="0"/>
            <a:ext cx="691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Takahashi, et al., ICCF10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950080"/>
            <a:ext cx="568800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0c6"/>
                </a:solidFill>
                <a:latin typeface="Tahoma"/>
              </a:rPr>
              <a:t>Anomalous enhancement of DDD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0c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1910c6"/>
                </a:solidFill>
                <a:latin typeface="Tahoma"/>
              </a:rPr>
              <a:t>was confi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0A9-87AF-4AC6-8CE5-CF200C027C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4" name=""/>
          <p:cNvSpPr/>
          <p:nvPr/>
        </p:nvSpPr>
        <p:spPr>
          <a:xfrm>
            <a:off x="2546280" y="21240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bfda1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"/>
          <p:cNvSpPr/>
          <p:nvPr/>
        </p:nvSpPr>
        <p:spPr>
          <a:xfrm flipH="1">
            <a:off x="1692360" y="2394000"/>
            <a:ext cx="900000" cy="944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"/>
          <p:cNvSpPr/>
          <p:nvPr/>
        </p:nvSpPr>
        <p:spPr>
          <a:xfrm>
            <a:off x="1692360" y="3429000"/>
            <a:ext cx="1035000" cy="1035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"/>
          <p:cNvSpPr/>
          <p:nvPr/>
        </p:nvSpPr>
        <p:spPr>
          <a:xfrm>
            <a:off x="2862360" y="2394000"/>
            <a:ext cx="990360" cy="944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"/>
          <p:cNvSpPr/>
          <p:nvPr/>
        </p:nvSpPr>
        <p:spPr>
          <a:xfrm flipH="1">
            <a:off x="2862000" y="3429000"/>
            <a:ext cx="990360" cy="99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"/>
          <p:cNvSpPr/>
          <p:nvPr/>
        </p:nvSpPr>
        <p:spPr>
          <a:xfrm>
            <a:off x="1647720" y="3384720"/>
            <a:ext cx="719280" cy="179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"/>
          <p:cNvSpPr/>
          <p:nvPr/>
        </p:nvSpPr>
        <p:spPr>
          <a:xfrm>
            <a:off x="2413080" y="3654360"/>
            <a:ext cx="360360" cy="765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1692360" y="3203280"/>
            <a:ext cx="1305000" cy="181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"/>
          <p:cNvSpPr/>
          <p:nvPr/>
        </p:nvSpPr>
        <p:spPr>
          <a:xfrm>
            <a:off x="3087720" y="3203640"/>
            <a:ext cx="809640" cy="181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"/>
          <p:cNvSpPr/>
          <p:nvPr/>
        </p:nvSpPr>
        <p:spPr>
          <a:xfrm flipH="1">
            <a:off x="2412720" y="2484360"/>
            <a:ext cx="268200" cy="1035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4" name=""/>
          <p:cNvSpPr/>
          <p:nvPr/>
        </p:nvSpPr>
        <p:spPr>
          <a:xfrm>
            <a:off x="2816280" y="2484360"/>
            <a:ext cx="226800" cy="674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"/>
          <p:cNvSpPr/>
          <p:nvPr/>
        </p:nvSpPr>
        <p:spPr>
          <a:xfrm flipH="1">
            <a:off x="2817720" y="3294000"/>
            <a:ext cx="225360" cy="1125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"/>
          <p:cNvSpPr/>
          <p:nvPr/>
        </p:nvSpPr>
        <p:spPr>
          <a:xfrm>
            <a:off x="2548080" y="3159000"/>
            <a:ext cx="404640" cy="406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"/>
          <p:cNvSpPr/>
          <p:nvPr/>
        </p:nvSpPr>
        <p:spPr>
          <a:xfrm flipV="1">
            <a:off x="1692360" y="3024000"/>
            <a:ext cx="315720" cy="314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"/>
          <p:cNvSpPr/>
          <p:nvPr/>
        </p:nvSpPr>
        <p:spPr>
          <a:xfrm flipV="1">
            <a:off x="2817720" y="4103280"/>
            <a:ext cx="36036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"/>
          <p:cNvSpPr/>
          <p:nvPr/>
        </p:nvSpPr>
        <p:spPr>
          <a:xfrm flipV="1">
            <a:off x="1692360" y="3294000"/>
            <a:ext cx="585720" cy="9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"/>
          <p:cNvSpPr/>
          <p:nvPr/>
        </p:nvSpPr>
        <p:spPr>
          <a:xfrm flipV="1">
            <a:off x="2502000" y="3428640"/>
            <a:ext cx="1170000" cy="135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"/>
          <p:cNvSpPr/>
          <p:nvPr/>
        </p:nvSpPr>
        <p:spPr>
          <a:xfrm flipH="1">
            <a:off x="1601280" y="3608280"/>
            <a:ext cx="1079640" cy="16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"/>
          <p:cNvSpPr/>
          <p:nvPr/>
        </p:nvSpPr>
        <p:spPr>
          <a:xfrm>
            <a:off x="1153440" y="51404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"/>
          <p:cNvSpPr/>
          <p:nvPr/>
        </p:nvSpPr>
        <p:spPr>
          <a:xfrm>
            <a:off x="1241280" y="5904000"/>
            <a:ext cx="3286440" cy="45072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e*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"/>
          <p:cNvSpPr/>
          <p:nvPr/>
        </p:nvSpPr>
        <p:spPr>
          <a:xfrm>
            <a:off x="1511280" y="3203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fbfda1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"/>
          <p:cNvSpPr/>
          <p:nvPr/>
        </p:nvSpPr>
        <p:spPr>
          <a:xfrm>
            <a:off x="2906640" y="3024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bfda1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"/>
          <p:cNvSpPr/>
          <p:nvPr/>
        </p:nvSpPr>
        <p:spPr>
          <a:xfrm>
            <a:off x="3672000" y="3203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fbfda1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"/>
          <p:cNvSpPr/>
          <p:nvPr/>
        </p:nvSpPr>
        <p:spPr>
          <a:xfrm>
            <a:off x="2232000" y="3384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bfda1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"/>
          <p:cNvSpPr/>
          <p:nvPr/>
        </p:nvSpPr>
        <p:spPr>
          <a:xfrm>
            <a:off x="2592360" y="4284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bfda1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"/>
          <p:cNvSpPr/>
          <p:nvPr/>
        </p:nvSpPr>
        <p:spPr>
          <a:xfrm>
            <a:off x="2727360" y="2438280"/>
            <a:ext cx="44280" cy="18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"/>
          <p:cNvSpPr/>
          <p:nvPr/>
        </p:nvSpPr>
        <p:spPr>
          <a:xfrm>
            <a:off x="1871640" y="3384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"/>
          <p:cNvSpPr/>
          <p:nvPr/>
        </p:nvSpPr>
        <p:spPr>
          <a:xfrm flipV="1">
            <a:off x="2592360" y="3294000"/>
            <a:ext cx="35892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"/>
          <p:cNvSpPr/>
          <p:nvPr/>
        </p:nvSpPr>
        <p:spPr>
          <a:xfrm>
            <a:off x="2727360" y="2484360"/>
            <a:ext cx="0" cy="9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"/>
          <p:cNvSpPr/>
          <p:nvPr/>
        </p:nvSpPr>
        <p:spPr>
          <a:xfrm flipH="1" flipV="1">
            <a:off x="2727000" y="3384720"/>
            <a:ext cx="44280" cy="90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"/>
          <p:cNvSpPr/>
          <p:nvPr/>
        </p:nvSpPr>
        <p:spPr>
          <a:xfrm>
            <a:off x="1871640" y="3384720"/>
            <a:ext cx="85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"/>
          <p:cNvSpPr/>
          <p:nvPr/>
        </p:nvSpPr>
        <p:spPr>
          <a:xfrm flipH="1">
            <a:off x="2771280" y="3384720"/>
            <a:ext cx="90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"/>
          <p:cNvSpPr/>
          <p:nvPr/>
        </p:nvSpPr>
        <p:spPr>
          <a:xfrm flipV="1">
            <a:off x="2546280" y="3428640"/>
            <a:ext cx="181080" cy="4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"/>
          <p:cNvSpPr/>
          <p:nvPr/>
        </p:nvSpPr>
        <p:spPr>
          <a:xfrm flipH="1">
            <a:off x="2771280" y="3294000"/>
            <a:ext cx="179640" cy="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 flipV="1">
            <a:off x="2727360" y="2168280"/>
            <a:ext cx="0" cy="269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"/>
          <p:cNvSpPr/>
          <p:nvPr/>
        </p:nvSpPr>
        <p:spPr>
          <a:xfrm>
            <a:off x="2771640" y="4329000"/>
            <a:ext cx="0" cy="270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/>
          <p:nvPr/>
        </p:nvSpPr>
        <p:spPr>
          <a:xfrm>
            <a:off x="1692360" y="3203640"/>
            <a:ext cx="0" cy="315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"/>
          <p:cNvSpPr/>
          <p:nvPr/>
        </p:nvSpPr>
        <p:spPr>
          <a:xfrm flipV="1">
            <a:off x="3851280" y="320328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"/>
          <p:cNvSpPr/>
          <p:nvPr/>
        </p:nvSpPr>
        <p:spPr>
          <a:xfrm flipV="1">
            <a:off x="2411280" y="3428640"/>
            <a:ext cx="0" cy="314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"/>
          <p:cNvSpPr/>
          <p:nvPr/>
        </p:nvSpPr>
        <p:spPr>
          <a:xfrm>
            <a:off x="3086280" y="3068640"/>
            <a:ext cx="0" cy="270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"/>
          <p:cNvSpPr/>
          <p:nvPr/>
        </p:nvSpPr>
        <p:spPr>
          <a:xfrm>
            <a:off x="3134880" y="44197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"/>
          <p:cNvSpPr/>
          <p:nvPr/>
        </p:nvSpPr>
        <p:spPr>
          <a:xfrm>
            <a:off x="2997360" y="4464000"/>
            <a:ext cx="27144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"/>
          <p:cNvSpPr/>
          <p:nvPr/>
        </p:nvSpPr>
        <p:spPr>
          <a:xfrm>
            <a:off x="2996280" y="19461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"/>
          <p:cNvSpPr/>
          <p:nvPr/>
        </p:nvSpPr>
        <p:spPr>
          <a:xfrm flipV="1">
            <a:off x="2771640" y="2168280"/>
            <a:ext cx="2700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"/>
          <p:cNvSpPr/>
          <p:nvPr/>
        </p:nvSpPr>
        <p:spPr>
          <a:xfrm>
            <a:off x="4976640" y="1224000"/>
            <a:ext cx="3600720" cy="45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OSC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d + 6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parallel spin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-part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oper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d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squeez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with s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ies  for 12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DC6-D02A-4B52-91F5-C0470CB6311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9" name=""/>
          <p:cNvGrpSpPr/>
          <p:nvPr/>
        </p:nvGrpSpPr>
        <p:grpSpPr>
          <a:xfrm>
            <a:off x="792000" y="1989000"/>
            <a:ext cx="3097440" cy="3671640"/>
            <a:chOff x="792000" y="1989000"/>
            <a:chExt cx="3097440" cy="3671640"/>
          </a:xfrm>
        </p:grpSpPr>
        <p:sp>
          <p:nvSpPr>
            <p:cNvPr id="5310" name=""/>
            <p:cNvSpPr/>
            <p:nvPr/>
          </p:nvSpPr>
          <p:spPr>
            <a:xfrm flipH="1">
              <a:off x="1944720" y="3697200"/>
              <a:ext cx="169920" cy="59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1944720" y="4290840"/>
              <a:ext cx="16992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1944720" y="4074840"/>
              <a:ext cx="180000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936360" y="4074840"/>
              <a:ext cx="1008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376360" y="2635200"/>
              <a:ext cx="432000" cy="1223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V="1">
              <a:off x="936360" y="3858840"/>
              <a:ext cx="1872000" cy="21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808360" y="3858840"/>
              <a:ext cx="936360" cy="21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 flipH="1">
              <a:off x="2376360" y="3858840"/>
              <a:ext cx="432000" cy="1656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1395360" y="5047920"/>
              <a:ext cx="674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1368360" y="3066840"/>
              <a:ext cx="52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330360" y="4282920"/>
              <a:ext cx="0" cy="718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 flipV="1">
              <a:off x="1350720" y="3066480"/>
              <a:ext cx="0" cy="53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1368360" y="3066840"/>
              <a:ext cx="863640" cy="1440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232000" y="4506840"/>
              <a:ext cx="108108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V="1">
              <a:off x="1368360" y="4506840"/>
              <a:ext cx="863640" cy="504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V="1">
              <a:off x="2232000" y="3066840"/>
              <a:ext cx="1081080" cy="1440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1368360" y="3066840"/>
              <a:ext cx="107964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925720" y="4371840"/>
              <a:ext cx="387360" cy="63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 flipV="1">
              <a:off x="2448000" y="3066840"/>
              <a:ext cx="86508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V="1">
              <a:off x="1368360" y="4552200"/>
              <a:ext cx="341280" cy="45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232000" y="24904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92000" y="393192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232000" y="53719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3600360" y="393192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663640" y="37144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1260360" y="491328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1260360" y="297792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340000" y="342720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195720" y="297792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114640" y="437184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195720" y="495756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 flipH="1" flipV="1">
              <a:off x="2744280" y="4057200"/>
              <a:ext cx="181080" cy="314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475000" y="3606480"/>
              <a:ext cx="269640" cy="45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1350720" y="3562200"/>
              <a:ext cx="0" cy="900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1350720" y="4462200"/>
              <a:ext cx="0" cy="45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1890720" y="3066840"/>
              <a:ext cx="853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744640" y="3066840"/>
              <a:ext cx="451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V="1">
              <a:off x="3330360" y="3652200"/>
              <a:ext cx="0" cy="6303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3330360" y="3201840"/>
              <a:ext cx="0" cy="45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 flipH="1" flipV="1">
              <a:off x="2204640" y="5001480"/>
              <a:ext cx="1350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 flipH="1" flipV="1">
              <a:off x="2114280" y="4776480"/>
              <a:ext cx="90360" cy="225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 flipV="1">
              <a:off x="1709640" y="4012560"/>
              <a:ext cx="405000" cy="539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 flipV="1">
              <a:off x="2114640" y="3606120"/>
              <a:ext cx="315720" cy="406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1800000" y="414792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070000" y="5047920"/>
              <a:ext cx="405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475000" y="5047920"/>
              <a:ext cx="765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990360" y="3471480"/>
              <a:ext cx="49536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V="1">
              <a:off x="1844640" y="2706480"/>
              <a:ext cx="406440" cy="40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 flipV="1">
              <a:off x="1485720" y="3112920"/>
              <a:ext cx="358920" cy="358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475000" y="2752560"/>
              <a:ext cx="404640" cy="40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 flipH="1" flipV="1">
              <a:off x="3195360" y="3471480"/>
              <a:ext cx="44892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879640" y="3157200"/>
              <a:ext cx="316080" cy="314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2475000" y="5047560"/>
              <a:ext cx="36036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 flipH="1">
              <a:off x="3374640" y="4192200"/>
              <a:ext cx="269640" cy="31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 flipH="1">
              <a:off x="2835000" y="4506840"/>
              <a:ext cx="539640" cy="541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 flipH="1" flipV="1">
              <a:off x="1844280" y="5047560"/>
              <a:ext cx="4064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990360" y="4192200"/>
              <a:ext cx="36036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1350720" y="4552560"/>
              <a:ext cx="493920" cy="495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 flipH="1">
              <a:off x="2250720" y="2796840"/>
              <a:ext cx="8892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 flipH="1">
              <a:off x="2114280" y="3201840"/>
              <a:ext cx="136440" cy="495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936440" y="1989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H="1" flipV="1">
              <a:off x="2250720" y="2257200"/>
              <a:ext cx="8892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855000" y="243828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 flipH="1" flipV="1">
              <a:off x="1260000" y="2706480"/>
              <a:ext cx="9036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4" name=""/>
          <p:cNvSpPr/>
          <p:nvPr/>
        </p:nvSpPr>
        <p:spPr>
          <a:xfrm>
            <a:off x="1829160" y="12240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d/O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"/>
          <p:cNvSpPr/>
          <p:nvPr/>
        </p:nvSpPr>
        <p:spPr>
          <a:xfrm>
            <a:off x="5428440" y="14940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F = 30 for 6d-O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"/>
          <p:cNvSpPr/>
          <p:nvPr/>
        </p:nvSpPr>
        <p:spPr>
          <a:xfrm>
            <a:off x="4257720" y="3743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"/>
          <p:cNvSpPr/>
          <p:nvPr/>
        </p:nvSpPr>
        <p:spPr>
          <a:xfrm>
            <a:off x="836640" y="5904000"/>
            <a:ext cx="297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"/>
          <p:cNvSpPr/>
          <p:nvPr/>
        </p:nvSpPr>
        <p:spPr>
          <a:xfrm>
            <a:off x="1016280" y="59515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"/>
          <p:cNvSpPr/>
          <p:nvPr/>
        </p:nvSpPr>
        <p:spPr>
          <a:xfrm>
            <a:off x="745920" y="62215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6d/OSC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0" name=""/>
          <p:cNvGrpSpPr/>
          <p:nvPr/>
        </p:nvGrpSpPr>
        <p:grpSpPr>
          <a:xfrm>
            <a:off x="5474880" y="2033640"/>
            <a:ext cx="2742120" cy="4375080"/>
            <a:chOff x="5474880" y="2033640"/>
            <a:chExt cx="2742120" cy="4375080"/>
          </a:xfrm>
        </p:grpSpPr>
        <p:sp>
          <p:nvSpPr>
            <p:cNvPr id="5381" name=""/>
            <p:cNvSpPr/>
            <p:nvPr/>
          </p:nvSpPr>
          <p:spPr>
            <a:xfrm flipH="1">
              <a:off x="6584760" y="3646440"/>
              <a:ext cx="12996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585120" y="4097160"/>
              <a:ext cx="12996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916680" y="2840040"/>
              <a:ext cx="333360" cy="930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5808600" y="3770280"/>
              <a:ext cx="1441440" cy="16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250040" y="3770280"/>
              <a:ext cx="720720" cy="16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 flipH="1">
              <a:off x="7002360" y="3924360"/>
              <a:ext cx="225360" cy="853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162840" y="4673520"/>
              <a:ext cx="51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140520" y="3168720"/>
              <a:ext cx="403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7651800" y="4092480"/>
              <a:ext cx="0" cy="54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6127920" y="3168720"/>
              <a:ext cx="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6140520" y="3168720"/>
              <a:ext cx="664920" cy="1093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805440" y="4262400"/>
              <a:ext cx="833760" cy="38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V="1">
              <a:off x="6140520" y="4262040"/>
              <a:ext cx="664920" cy="38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6805440" y="3168720"/>
              <a:ext cx="833760" cy="1093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140520" y="3168720"/>
              <a:ext cx="83196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 flipV="1">
              <a:off x="6972480" y="3168360"/>
              <a:ext cx="66672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6140520" y="4297320"/>
              <a:ext cx="263520" cy="3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5516640" y="3608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7139160" y="3660840"/>
              <a:ext cx="222120" cy="218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5832360" y="2798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7548480" y="4603680"/>
              <a:ext cx="165240" cy="1652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H="1" flipV="1">
              <a:off x="7201080" y="3920760"/>
              <a:ext cx="139680" cy="237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6993000" y="3578400"/>
              <a:ext cx="20808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6127920" y="3544920"/>
              <a:ext cx="0" cy="682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6127920" y="4227480"/>
              <a:ext cx="0" cy="34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543720" y="3168720"/>
              <a:ext cx="657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7201080" y="3168720"/>
              <a:ext cx="347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 flipV="1">
              <a:off x="7651800" y="3612960"/>
              <a:ext cx="0" cy="479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 flipV="1">
              <a:off x="7651800" y="3269880"/>
              <a:ext cx="0" cy="34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 flipH="1" flipV="1">
              <a:off x="6784560" y="4638600"/>
              <a:ext cx="1047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H="1" flipV="1">
              <a:off x="6715080" y="4467240"/>
              <a:ext cx="69840" cy="171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 flipV="1">
              <a:off x="6404040" y="3887640"/>
              <a:ext cx="311040" cy="409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6715080" y="3578040"/>
              <a:ext cx="243000" cy="30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681960" y="4673520"/>
              <a:ext cx="311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993000" y="4673520"/>
              <a:ext cx="588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V="1">
              <a:off x="5921280" y="3474720"/>
              <a:ext cx="30960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6507000" y="2893680"/>
              <a:ext cx="3146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V="1">
              <a:off x="6230880" y="3203640"/>
              <a:ext cx="276120" cy="27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993000" y="2928960"/>
              <a:ext cx="3110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H="1" flipV="1">
              <a:off x="7548120" y="3474720"/>
              <a:ext cx="34452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7304040" y="3236760"/>
              <a:ext cx="244440" cy="23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 flipV="1">
              <a:off x="6993000" y="4673520"/>
              <a:ext cx="27792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 flipH="1">
              <a:off x="7686360" y="4022640"/>
              <a:ext cx="20628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H="1">
              <a:off x="7270560" y="4262400"/>
              <a:ext cx="415800" cy="411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H="1" flipV="1">
              <a:off x="6507000" y="4673520"/>
              <a:ext cx="31464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5921280" y="4059360"/>
              <a:ext cx="20664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127920" y="4297320"/>
              <a:ext cx="379080" cy="37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H="1">
              <a:off x="6776640" y="2963880"/>
              <a:ext cx="11268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H="1">
              <a:off x="6715080" y="3270240"/>
              <a:ext cx="106560" cy="37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509880" y="20336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H="1" flipV="1">
              <a:off x="6957720" y="2349000"/>
              <a:ext cx="6804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474880" y="23036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 flipH="1" flipV="1">
              <a:off x="5877000" y="2572920"/>
              <a:ext cx="698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6642000" y="2573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597720" y="4643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586640" y="3608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958080" y="3473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5786280" y="428472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7316640" y="2798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7316640" y="432900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597720" y="3203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462720" y="392436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281640" y="3743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5607000" y="5815080"/>
              <a:ext cx="252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329160" y="57690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652360" y="604044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) Minimum 6d/O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 flipV="1">
              <a:off x="6777000" y="3968640"/>
              <a:ext cx="94464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5967360" y="3968640"/>
              <a:ext cx="49536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642000" y="4238640"/>
              <a:ext cx="225360" cy="5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H="1" flipV="1">
              <a:off x="7137000" y="3833640"/>
              <a:ext cx="360360" cy="586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C0C-89D7-4848-ADD7-D221871CB37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1" name=""/>
          <p:cNvGrpSpPr/>
          <p:nvPr/>
        </p:nvGrpSpPr>
        <p:grpSpPr>
          <a:xfrm>
            <a:off x="704520" y="1628640"/>
            <a:ext cx="2742120" cy="4375080"/>
            <a:chOff x="704520" y="1628640"/>
            <a:chExt cx="2742120" cy="4375080"/>
          </a:xfrm>
        </p:grpSpPr>
        <p:sp>
          <p:nvSpPr>
            <p:cNvPr id="5452" name=""/>
            <p:cNvSpPr/>
            <p:nvPr/>
          </p:nvSpPr>
          <p:spPr>
            <a:xfrm flipH="1">
              <a:off x="1814400" y="3241440"/>
              <a:ext cx="12996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1814760" y="3692160"/>
              <a:ext cx="129960" cy="37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146320" y="2435040"/>
              <a:ext cx="333360" cy="930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 flipV="1">
              <a:off x="1038240" y="3365280"/>
              <a:ext cx="1441440" cy="16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479680" y="3365280"/>
              <a:ext cx="720720" cy="16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 flipH="1">
              <a:off x="2232000" y="3519360"/>
              <a:ext cx="225360" cy="853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1392480" y="4268520"/>
              <a:ext cx="51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1370160" y="2763720"/>
              <a:ext cx="403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881440" y="3687480"/>
              <a:ext cx="0" cy="54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 flipV="1">
              <a:off x="1357560" y="2763720"/>
              <a:ext cx="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1370160" y="2763720"/>
              <a:ext cx="664920" cy="1093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035080" y="3857400"/>
              <a:ext cx="833760" cy="38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V="1">
              <a:off x="1370160" y="3857040"/>
              <a:ext cx="664920" cy="38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 flipV="1">
              <a:off x="2035080" y="2763720"/>
              <a:ext cx="833760" cy="1093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1370160" y="2763720"/>
              <a:ext cx="83196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V="1">
              <a:off x="2202120" y="2763360"/>
              <a:ext cx="66672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1370160" y="3892320"/>
              <a:ext cx="263520" cy="3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746280" y="3203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2368800" y="3255840"/>
              <a:ext cx="222120" cy="218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1062000" y="2393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2778120" y="4198680"/>
              <a:ext cx="165240" cy="16524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 flipH="1" flipV="1">
              <a:off x="2430720" y="3515760"/>
              <a:ext cx="139680" cy="237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2222640" y="3173400"/>
              <a:ext cx="20808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1357560" y="3139920"/>
              <a:ext cx="0" cy="682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1357560" y="3822480"/>
              <a:ext cx="0" cy="34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1773360" y="2763720"/>
              <a:ext cx="657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2430720" y="2763720"/>
              <a:ext cx="347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 flipV="1">
              <a:off x="2881440" y="3207960"/>
              <a:ext cx="0" cy="479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2881440" y="2864880"/>
              <a:ext cx="0" cy="34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 flipH="1" flipV="1">
              <a:off x="2014200" y="4233600"/>
              <a:ext cx="1047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H="1" flipV="1">
              <a:off x="1944720" y="4062240"/>
              <a:ext cx="69840" cy="171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 flipV="1">
              <a:off x="1633680" y="3482640"/>
              <a:ext cx="311040" cy="409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1944720" y="3173040"/>
              <a:ext cx="243000" cy="30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1911600" y="4268520"/>
              <a:ext cx="311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2222640" y="4268520"/>
              <a:ext cx="588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1150920" y="3069720"/>
              <a:ext cx="30960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1736640" y="2488680"/>
              <a:ext cx="3146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 flipV="1">
              <a:off x="1460520" y="2798640"/>
              <a:ext cx="276120" cy="27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2222640" y="2523960"/>
              <a:ext cx="31104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 flipH="1" flipV="1">
              <a:off x="2777760" y="3069720"/>
              <a:ext cx="34452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2533680" y="2831760"/>
              <a:ext cx="244440" cy="238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 flipV="1">
              <a:off x="2222640" y="4268520"/>
              <a:ext cx="27792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H="1">
              <a:off x="2916000" y="3617640"/>
              <a:ext cx="20628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 flipH="1">
              <a:off x="2500200" y="3857400"/>
              <a:ext cx="415800" cy="411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H="1" flipV="1">
              <a:off x="1736640" y="4268520"/>
              <a:ext cx="31464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1150920" y="3654360"/>
              <a:ext cx="20664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1357560" y="3892320"/>
              <a:ext cx="379080" cy="37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 flipH="1">
              <a:off x="2006280" y="2558880"/>
              <a:ext cx="11268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H="1">
              <a:off x="1944720" y="2865240"/>
              <a:ext cx="106560" cy="376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1739520" y="16286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H="1" flipV="1">
              <a:off x="2187360" y="1944000"/>
              <a:ext cx="6804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704520" y="18986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H="1" flipV="1">
              <a:off x="1106640" y="2167920"/>
              <a:ext cx="698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1871640" y="2168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1827360" y="4238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816280" y="3203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2187720" y="306828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1015920" y="387972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2546280" y="2393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2546280" y="392400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1827360" y="2798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1692360" y="351936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1511280" y="3338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836640" y="5410080"/>
              <a:ext cx="252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1558800" y="53640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882000" y="563544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) Minimum 6d/O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 flipV="1">
              <a:off x="2006640" y="3563640"/>
              <a:ext cx="94464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1197000" y="3563640"/>
              <a:ext cx="495360" cy="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1871640" y="3833640"/>
              <a:ext cx="225360" cy="5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H="1" flipV="1">
              <a:off x="2366640" y="3428640"/>
              <a:ext cx="360360" cy="586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2" name=""/>
          <p:cNvSpPr/>
          <p:nvPr/>
        </p:nvSpPr>
        <p:spPr>
          <a:xfrm>
            <a:off x="3986280" y="3924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3" name=""/>
          <p:cNvGrpSpPr/>
          <p:nvPr/>
        </p:nvGrpSpPr>
        <p:grpSpPr>
          <a:xfrm>
            <a:off x="5337000" y="1403280"/>
            <a:ext cx="3108600" cy="4734000"/>
            <a:chOff x="5337000" y="1403280"/>
            <a:chExt cx="3108600" cy="4734000"/>
          </a:xfrm>
        </p:grpSpPr>
        <p:sp>
          <p:nvSpPr>
            <p:cNvPr id="5524" name=""/>
            <p:cNvSpPr/>
            <p:nvPr/>
          </p:nvSpPr>
          <p:spPr>
            <a:xfrm>
              <a:off x="5786280" y="3249720"/>
              <a:ext cx="630360" cy="63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381640" y="248436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 flipH="1" flipV="1">
              <a:off x="7110360" y="3516120"/>
              <a:ext cx="139680" cy="2379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H="1" flipV="1">
              <a:off x="6694200" y="4233960"/>
              <a:ext cx="1047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"/>
            <p:cNvSpPr/>
            <p:nvPr/>
          </p:nvSpPr>
          <p:spPr>
            <a:xfrm flipH="1" flipV="1">
              <a:off x="6624720" y="4061880"/>
              <a:ext cx="69840" cy="171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6591240" y="4268880"/>
              <a:ext cx="311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 flipH="1">
              <a:off x="6686280" y="2558880"/>
              <a:ext cx="11268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7365600" y="1989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V="1">
              <a:off x="7137360" y="2303280"/>
              <a:ext cx="44928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384160" y="189864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V="1">
              <a:off x="5786280" y="2168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507000" y="2573280"/>
              <a:ext cx="63036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507000" y="3924360"/>
              <a:ext cx="630360" cy="63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597720" y="315900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5337000" y="387828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7497720" y="257328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7542360" y="3924360"/>
              <a:ext cx="70776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462720" y="198900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462720" y="4373640"/>
              <a:ext cx="708120" cy="720720"/>
            </a:xfrm>
            <a:prstGeom prst="ellipse">
              <a:avLst/>
            </a:prstGeom>
            <a:gradFill rotWithShape="0">
              <a:gsLst>
                <a:gs pos="0">
                  <a:srgbClr val="fbfda1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327720" y="3338640"/>
              <a:ext cx="630360" cy="63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5516640" y="541008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238800" y="53640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5889600" y="576900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)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* fo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7182000" y="3294000"/>
              <a:ext cx="630000" cy="630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237360" y="3608280"/>
              <a:ext cx="179280" cy="46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237360" y="3743280"/>
              <a:ext cx="404640" cy="360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686640" y="3878280"/>
              <a:ext cx="46080" cy="136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 flipH="1">
              <a:off x="6237360" y="3024360"/>
              <a:ext cx="404640" cy="360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7002360" y="3024360"/>
              <a:ext cx="316080" cy="4032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 flipH="1">
              <a:off x="7002000" y="3789360"/>
              <a:ext cx="314280" cy="314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 flipH="1">
              <a:off x="6686280" y="3024360"/>
              <a:ext cx="90360" cy="404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V="1">
              <a:off x="6821640" y="3608280"/>
              <a:ext cx="495000" cy="46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 flipH="1">
              <a:off x="6867360" y="3789360"/>
              <a:ext cx="44640" cy="225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 flipH="1" flipV="1">
              <a:off x="7137000" y="3519360"/>
              <a:ext cx="90360" cy="44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867360" y="3114720"/>
              <a:ext cx="0" cy="179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7228800" y="1403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EF =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B67-BDE1-4D44-A532-7DC783D7B3B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d/OSC-Induced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1" name=""/>
          <p:cNvGrpSpPr/>
          <p:nvPr/>
        </p:nvGrpSpPr>
        <p:grpSpPr>
          <a:xfrm>
            <a:off x="826920" y="1268280"/>
            <a:ext cx="7263720" cy="3456000"/>
            <a:chOff x="826920" y="1268280"/>
            <a:chExt cx="7263720" cy="3456000"/>
          </a:xfrm>
        </p:grpSpPr>
        <p:sp>
          <p:nvSpPr>
            <p:cNvPr id="5562" name=""/>
            <p:cNvSpPr/>
            <p:nvPr/>
          </p:nvSpPr>
          <p:spPr>
            <a:xfrm>
              <a:off x="826920" y="1268280"/>
              <a:ext cx="57636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1476360" y="1413000"/>
              <a:ext cx="503280" cy="144360"/>
            </a:xfrm>
            <a:prstGeom prst="rightArrow">
              <a:avLst>
                <a:gd name="adj1" fmla="val 50000"/>
                <a:gd name="adj2" fmla="val 8715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050920" y="1268280"/>
              <a:ext cx="7207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843280" y="1413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3419640" y="1268280"/>
              <a:ext cx="316836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He + 71.4 M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806520" y="12682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6D Fu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826920" y="2492280"/>
              <a:ext cx="172908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(A, Z) +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771640" y="2708280"/>
              <a:ext cx="503280" cy="144360"/>
            </a:xfrm>
            <a:prstGeom prst="rightArrow">
              <a:avLst>
                <a:gd name="adj1" fmla="val 50000"/>
                <a:gd name="adj2" fmla="val 8715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3419640" y="2492280"/>
              <a:ext cx="194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(A+12, Z+6)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5508720" y="2708280"/>
              <a:ext cx="504720" cy="142920"/>
            </a:xfrm>
            <a:prstGeom prst="rightArrow">
              <a:avLst>
                <a:gd name="adj1" fmla="val 50000"/>
                <a:gd name="adj2" fmla="val 88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156360" y="2349360"/>
              <a:ext cx="1800360" cy="79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m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 F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826920" y="4149720"/>
              <a:ext cx="1729080" cy="57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3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 +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700360" y="4365720"/>
              <a:ext cx="576360" cy="142920"/>
            </a:xfrm>
            <a:prstGeom prst="rightArrow">
              <a:avLst>
                <a:gd name="adj1" fmla="val 50000"/>
                <a:gd name="adj2" fmla="val 1008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3492360" y="4149720"/>
              <a:ext cx="4032360" cy="57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 baseline="30000">
                  <a:solidFill>
                    <a:srgbClr val="000000"/>
                  </a:solidFill>
                  <a:latin typeface="Arial"/>
                </a:rPr>
                <a:t>149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Sm + gamma(68.23 M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F79-D2BE-49FD-A898-EA784AF5CF7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. 6D Fusion Rate by 6d/O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= (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v/E)exp(-6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OS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= 1E+14 keVbarn, for PEF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OS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≃ 0.523(b</a:t>
            </a:r>
            <a:r>
              <a:rPr b="0" lang="ja-JP" sz="3200" spc="-1" strike="noStrike" baseline="30000">
                <a:solidFill>
                  <a:srgbClr val="000000"/>
                </a:solidFill>
                <a:latin typeface="Century"/>
                <a:ea typeface="ＭＳ 明朝"/>
              </a:rPr>
              <a:t>1/2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 – r</a:t>
            </a:r>
            <a:r>
              <a:rPr b="0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0</a:t>
            </a:r>
            <a:r>
              <a:rPr b="0" lang="ja-JP" sz="3200" spc="-1" strike="noStrike" baseline="30000">
                <a:solidFill>
                  <a:srgbClr val="000000"/>
                </a:solidFill>
                <a:latin typeface="Century"/>
                <a:ea typeface="ＭＳ 明朝"/>
              </a:rPr>
              <a:t>1/2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) = 0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b = 8 fm, r</a:t>
            </a:r>
            <a:r>
              <a:rPr b="0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0</a:t>
            </a:r>
            <a:r>
              <a:rPr b="0" lang="ja-JP" sz="3200" spc="-1" strike="noStrike">
                <a:solidFill>
                  <a:srgbClr val="000000"/>
                </a:solidFill>
                <a:latin typeface="Century"/>
                <a:ea typeface="ＭＳ 明朝"/>
              </a:rPr>
              <a:t> = 5 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λ</a:t>
            </a:r>
            <a:r>
              <a:rPr b="0" lang="ja-JP" sz="1400" spc="-1" strike="noStrike">
                <a:solidFill>
                  <a:srgbClr val="ff33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ff3300"/>
                </a:solidFill>
                <a:latin typeface="Arial"/>
                <a:ea typeface="Arial"/>
              </a:rPr>
              <a:t>= 4.8E-2 (f/s/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If 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OS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= 1E+13 (&lt;0.1 ppm) in 10 nm range per cm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6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 = 4.8E+11 (f/s/cm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lang="ja-JP" sz="3200" spc="-1" strike="noStrike">
                <a:solidFill>
                  <a:srgbClr val="ff9900"/>
                </a:solidFill>
                <a:latin typeface="Arial"/>
                <a:ea typeface="Arial"/>
              </a:rPr>
              <a:t>4.8 W/cm</a:t>
            </a:r>
            <a:r>
              <a:rPr b="0" lang="ja-JP" sz="3200" spc="-1" strike="noStrike" baseline="30000">
                <a:solidFill>
                  <a:srgbClr val="ff99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DD9-E1BB-4546-8A0A-5399639A380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8" name=""/>
          <p:cNvGrpSpPr/>
          <p:nvPr/>
        </p:nvGrpSpPr>
        <p:grpSpPr>
          <a:xfrm>
            <a:off x="1830960" y="684360"/>
            <a:ext cx="5628960" cy="4230720"/>
            <a:chOff x="1830960" y="684360"/>
            <a:chExt cx="5628960" cy="4230720"/>
          </a:xfrm>
        </p:grpSpPr>
        <p:sp>
          <p:nvSpPr>
            <p:cNvPr id="5579" name=""/>
            <p:cNvSpPr/>
            <p:nvPr/>
          </p:nvSpPr>
          <p:spPr>
            <a:xfrm>
              <a:off x="1830960" y="684360"/>
              <a:ext cx="5618520" cy="520560"/>
            </a:xfrm>
            <a:prstGeom prst="rect">
              <a:avLst/>
            </a:prstGeom>
            <a:solidFill>
              <a:srgbClr val="fbf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d/OSC: Regular Octagonal Pri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0" name=""/>
            <p:cNvGrpSpPr/>
            <p:nvPr/>
          </p:nvGrpSpPr>
          <p:grpSpPr>
            <a:xfrm>
              <a:off x="2997360" y="2259000"/>
              <a:ext cx="2384280" cy="2656080"/>
              <a:chOff x="2997360" y="2259000"/>
              <a:chExt cx="2384280" cy="2656080"/>
            </a:xfrm>
          </p:grpSpPr>
          <p:sp>
            <p:nvSpPr>
              <p:cNvPr id="5581" name=""/>
              <p:cNvSpPr/>
              <p:nvPr/>
            </p:nvSpPr>
            <p:spPr>
              <a:xfrm>
                <a:off x="3086280" y="2933640"/>
                <a:ext cx="1036440" cy="6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4257720" y="2349360"/>
                <a:ext cx="1036440" cy="6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 flipV="1">
                <a:off x="3086280" y="3607920"/>
                <a:ext cx="117144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 flipV="1">
                <a:off x="4122720" y="2979360"/>
                <a:ext cx="117144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 flipV="1">
                <a:off x="4122720" y="4238280"/>
                <a:ext cx="117144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 flipV="1">
                <a:off x="3086280" y="2349000"/>
                <a:ext cx="117144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5292720" y="297972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4122720" y="356400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3086280" y="293364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3086280" y="4194000"/>
                <a:ext cx="1036440" cy="6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4257720" y="3608280"/>
                <a:ext cx="1036440" cy="63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4257720" y="2349360"/>
                <a:ext cx="0" cy="125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 flipH="1">
                <a:off x="3402000" y="2438280"/>
                <a:ext cx="225360" cy="900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3627360" y="2438280"/>
                <a:ext cx="1305000" cy="135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 flipH="1">
                <a:off x="4750920" y="2573280"/>
                <a:ext cx="181080" cy="94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3402000" y="3338640"/>
                <a:ext cx="1349280" cy="134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3402000" y="3338640"/>
                <a:ext cx="0" cy="1215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4751280" y="3473280"/>
                <a:ext cx="0" cy="117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3627360" y="2438280"/>
                <a:ext cx="0" cy="117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4932360" y="2573280"/>
                <a:ext cx="0" cy="117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3402000" y="4554360"/>
                <a:ext cx="1349280" cy="135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3627360" y="3608280"/>
                <a:ext cx="1305000" cy="1350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 flipH="1">
                <a:off x="4750920" y="3743280"/>
                <a:ext cx="181080" cy="946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 flipH="1">
                <a:off x="3402000" y="3654360"/>
                <a:ext cx="225360" cy="90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041640" y="284328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4167360" y="225900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5202360" y="2889360"/>
                <a:ext cx="179280" cy="180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4167360" y="351936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4032360" y="347328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5202360" y="414972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2997360" y="410364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4032360" y="4734000"/>
                <a:ext cx="179280" cy="1810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537000" y="2349360"/>
                <a:ext cx="225360" cy="22572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4797360" y="2438280"/>
                <a:ext cx="225360" cy="22572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311640" y="3203640"/>
                <a:ext cx="225360" cy="22536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4662360" y="3338640"/>
                <a:ext cx="225720" cy="22536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4662360" y="4554360"/>
                <a:ext cx="225720" cy="22572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4842000" y="3608280"/>
                <a:ext cx="225360" cy="22536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537000" y="3519360"/>
                <a:ext cx="225360" cy="22572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311640" y="4464000"/>
                <a:ext cx="225360" cy="225360"/>
              </a:xfrm>
              <a:prstGeom prst="ellipse">
                <a:avLst/>
              </a:prstGeom>
              <a:gradFill rotWithShape="0">
                <a:gsLst>
                  <a:gs pos="0">
                    <a:srgbClr val="fbfda1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1" name=""/>
            <p:cNvSpPr/>
            <p:nvPr/>
          </p:nvSpPr>
          <p:spPr>
            <a:xfrm>
              <a:off x="5000400" y="1584360"/>
              <a:ext cx="186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e&gt; =(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 flipV="1">
              <a:off x="5021280" y="2214360"/>
              <a:ext cx="3157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277720" y="22604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ute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 flipH="1" flipV="1">
              <a:off x="2862360" y="2573280"/>
              <a:ext cx="1792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5427360" y="3070080"/>
              <a:ext cx="203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Orbit of boson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Electron p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 flipV="1">
              <a:off x="4932360" y="3249360"/>
              <a:ext cx="58428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C03-89A8-4810-BE0E-A994AE6B07A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910c6"/>
                </a:solidFill>
                <a:latin typeface="Arial"/>
              </a:rPr>
              <a:t>FP Distribution for U-235 + n Fi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8" name=""/>
          <p:cNvGraphicFramePr/>
          <p:nvPr/>
        </p:nvGraphicFramePr>
        <p:xfrm>
          <a:off x="650880" y="1515960"/>
          <a:ext cx="7791480" cy="49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1515960"/>
                    <a:ext cx="779148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0" name=""/>
          <p:cNvSpPr/>
          <p:nvPr/>
        </p:nvSpPr>
        <p:spPr>
          <a:xfrm>
            <a:off x="990720" y="990720"/>
            <a:ext cx="7467480" cy="0"/>
          </a:xfrm>
          <a:prstGeom prst="line">
            <a:avLst/>
          </a:prstGeom>
          <a:ln w="57240">
            <a:solidFill>
              <a:srgbClr val="c44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248-7446-4E6D-9C03-9BD1764D4A6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910c6"/>
                </a:solidFill>
                <a:latin typeface="Arial"/>
              </a:rPr>
              <a:t>FP Element-Distribution for 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2" name="" descr=""/>
          <p:cNvPicPr/>
          <p:nvPr/>
        </p:nvPicPr>
        <p:blipFill>
          <a:blip r:embed="rId1"/>
          <a:stretch/>
        </p:blipFill>
        <p:spPr>
          <a:xfrm>
            <a:off x="1154160" y="1219320"/>
            <a:ext cx="7064280" cy="4724280"/>
          </a:xfrm>
          <a:prstGeom prst="rect">
            <a:avLst/>
          </a:prstGeom>
          <a:ln w="0">
            <a:noFill/>
          </a:ln>
        </p:spPr>
      </p:pic>
      <p:sp>
        <p:nvSpPr>
          <p:cNvPr id="5633" name=""/>
          <p:cNvSpPr/>
          <p:nvPr/>
        </p:nvSpPr>
        <p:spPr>
          <a:xfrm>
            <a:off x="1523880" y="5562720"/>
            <a:ext cx="6553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PF: Low Energy Photo-F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zuno Exp.: 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/Pd Electro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E68-81D9-4C44-B80E-C376ADBF224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910c6"/>
                </a:solidFill>
                <a:latin typeface="Arial"/>
              </a:rPr>
              <a:t>Anomaly of Isotopic Ratio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5" name=""/>
          <p:cNvGraphicFramePr/>
          <p:nvPr/>
        </p:nvGraphicFramePr>
        <p:xfrm>
          <a:off x="914400" y="1066680"/>
          <a:ext cx="75438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75438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7" name=""/>
          <p:cNvSpPr/>
          <p:nvPr/>
        </p:nvSpPr>
        <p:spPr>
          <a:xfrm>
            <a:off x="990720" y="990720"/>
            <a:ext cx="7391160" cy="0"/>
          </a:xfrm>
          <a:prstGeom prst="line">
            <a:avLst/>
          </a:prstGeom>
          <a:ln w="57240">
            <a:solidFill>
              <a:srgbClr val="c44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A01-8FE1-4AF9-9DE7-40CC4785F3B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PlaceHolder 1"/>
          <p:cNvSpPr>
            <a:spLocks noGrp="1"/>
          </p:cNvSpPr>
          <p:nvPr>
            <p:ph type="title"/>
          </p:nvPr>
        </p:nvSpPr>
        <p:spPr>
          <a:xfrm>
            <a:off x="476280" y="189000"/>
            <a:ext cx="8229600" cy="630000"/>
          </a:xfrm>
          <a:prstGeom prst="rect">
            <a:avLst/>
          </a:prstGeom>
          <a:solidFill>
            <a:srgbClr val="fdf83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Results: Experiments vs.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9" name=""/>
          <p:cNvGraphicFramePr/>
          <p:nvPr/>
        </p:nvGraphicFramePr>
        <p:xfrm>
          <a:off x="162000" y="998640"/>
          <a:ext cx="8982000" cy="5670360"/>
        </p:xfrm>
        <a:graphic>
          <a:graphicData uri="http://schemas.openxmlformats.org/drawingml/2006/table">
            <a:tbl>
              <a:tblPr/>
              <a:tblGrid>
                <a:gridCol w="2035080"/>
                <a:gridCol w="3952800"/>
                <a:gridCol w="299412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/  Method/ Resu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PET/T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9f9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d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83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agi/beam/310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ahashi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/1E+9 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dd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eV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de*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E+13)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τ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0.1m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Kubre/Electrolysi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+-13MeV/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8MeV/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2 +47.6M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a1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Boher/El./24.8keV/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keV/P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MeV/cc by 4d/T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amura/Perm./Cs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ey/NiH/Fission-like P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/TSC + M   4p/TSC + M re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2AF-995C-4363-9AC9-5FE26797E06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315200" cy="151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910c6"/>
                </a:solidFill>
                <a:latin typeface="Arial"/>
              </a:rPr>
              <a:t>Selective Transmutation by Iwamura et al. (MHI):</a:t>
            </a:r>
            <a:br>
              <a:rPr sz="3800"/>
            </a:br>
            <a:r>
              <a:rPr b="0" lang="en-US" sz="3800" spc="-1" strike="noStrike">
                <a:solidFill>
                  <a:srgbClr val="1910c6"/>
                </a:solidFill>
                <a:latin typeface="Arial"/>
              </a:rPr>
              <a:t>JJAP, 41(2002)46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1828800"/>
          <a:ext cx="369576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369576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24280" y="1828800"/>
          <a:ext cx="3695760" cy="256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828800"/>
                    <a:ext cx="369576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826920" y="1700280"/>
            <a:ext cx="7772400" cy="0"/>
          </a:xfrm>
          <a:prstGeom prst="line">
            <a:avLst/>
          </a:prstGeom>
          <a:ln w="57240">
            <a:solidFill>
              <a:srgbClr val="c44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572000"/>
            <a:ext cx="3657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42c1"/>
                </a:solidFill>
                <a:latin typeface="Tahoma"/>
              </a:rPr>
              <a:t>D perme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42c1"/>
                </a:solidFill>
                <a:latin typeface="Tahoma"/>
              </a:rPr>
              <a:t>through Pd compl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c442c1"/>
                </a:solidFill>
                <a:latin typeface="Tahoma"/>
              </a:rPr>
              <a:t>133</a:t>
            </a:r>
            <a:r>
              <a:rPr b="0" lang="en-US" sz="3000" spc="-1" strike="noStrike">
                <a:solidFill>
                  <a:srgbClr val="c442c1"/>
                </a:solidFill>
                <a:latin typeface="Tahoma"/>
              </a:rPr>
              <a:t>Cs to </a:t>
            </a:r>
            <a:r>
              <a:rPr b="0" lang="en-US" sz="3000" spc="-1" strike="noStrike" baseline="30000">
                <a:solidFill>
                  <a:srgbClr val="c442c1"/>
                </a:solidFill>
                <a:latin typeface="Tahoma"/>
              </a:rPr>
              <a:t>141</a:t>
            </a:r>
            <a:r>
              <a:rPr b="0" lang="en-US" sz="3000" spc="-1" strike="noStrike">
                <a:solidFill>
                  <a:srgbClr val="c442c1"/>
                </a:solidFill>
                <a:latin typeface="Tahoma"/>
              </a:rPr>
              <a:t>P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57200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910c6"/>
                </a:solidFill>
                <a:latin typeface="Tahoma"/>
              </a:rPr>
              <a:t>H perme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910c6"/>
                </a:solidFill>
                <a:latin typeface="Tahoma"/>
              </a:rPr>
              <a:t>through Pd compl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910c6"/>
                </a:solidFill>
                <a:latin typeface="Tahoma"/>
              </a:rPr>
              <a:t>NO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6381720"/>
            <a:ext cx="84247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produced at Osaka U., and many times at MH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60F-214D-4571-B368-AD6DF41A39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0" name=""/>
          <p:cNvSpPr/>
          <p:nvPr/>
        </p:nvSpPr>
        <p:spPr>
          <a:xfrm>
            <a:off x="1835280" y="260280"/>
            <a:ext cx="54007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hedral Symmetric Condensate (T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ahedral Symmetric Condensate (O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/>
          <p:nvPr/>
        </p:nvSpPr>
        <p:spPr>
          <a:xfrm>
            <a:off x="468360" y="1844640"/>
            <a:ext cx="2736720" cy="9144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D/TSC, 6D/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>
            <a:off x="5292720" y="1989000"/>
            <a:ext cx="3241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H/T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>
            <a:off x="324000" y="3789360"/>
            <a:ext cx="2519280" cy="158436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Fusion of 4d, 6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8 MeV/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;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]/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] ; 1E-3 to 1E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n]/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] ; &lt;1E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>
            <a:off x="3059280" y="3789360"/>
            <a:ext cx="3025440" cy="15112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d/TSC + M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8, Z+4) Transm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12, Z+6) Transm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Fission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6372360" y="3789360"/>
            <a:ext cx="2520720" cy="25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p/TSC + M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+ p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+ 2p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+ 3p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+ 4p rea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Fission,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1834920" y="1557360"/>
            <a:ext cx="936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>
            <a:off x="5508720" y="1557360"/>
            <a:ext cx="129528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"/>
          <p:cNvSpPr/>
          <p:nvPr/>
        </p:nvSpPr>
        <p:spPr>
          <a:xfrm>
            <a:off x="1619280" y="285264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"/>
          <p:cNvSpPr/>
          <p:nvPr/>
        </p:nvSpPr>
        <p:spPr>
          <a:xfrm>
            <a:off x="2340000" y="2852640"/>
            <a:ext cx="18003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"/>
          <p:cNvSpPr/>
          <p:nvPr/>
        </p:nvSpPr>
        <p:spPr>
          <a:xfrm>
            <a:off x="7308720" y="2997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663480" y="5897520"/>
            <a:ext cx="36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or d: deuteron, H or p: 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3BB-BE90-418F-9818-9B30B510C9C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PlaceHolder 2"/>
          <p:cNvSpPr>
            <a:spLocks noGrp="1"/>
          </p:cNvSpPr>
          <p:nvPr>
            <p:ph/>
          </p:nvPr>
        </p:nvSpPr>
        <p:spPr>
          <a:xfrm>
            <a:off x="826560" y="907920"/>
            <a:ext cx="7543800" cy="561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 results show the existence of </a:t>
            </a:r>
            <a:r>
              <a:rPr b="0" lang="en-US" sz="3200" spc="-1" strike="noStrike">
                <a:solidFill>
                  <a:srgbClr val="1910c6"/>
                </a:solidFill>
                <a:latin typeface="Arial"/>
              </a:rPr>
              <a:t>linked phenomena between nuclear physics and condensed matter phys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1910c6"/>
                </a:solidFill>
                <a:latin typeface="Arial"/>
              </a:rPr>
              <a:t>Cluster Fusion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elaborated to give numerical results, and revealed that anomalous experimental results were explained by </a:t>
            </a:r>
            <a:r>
              <a:rPr b="0" lang="en-US" sz="3200" spc="-1" strike="noStrike">
                <a:solidFill>
                  <a:srgbClr val="46a444"/>
                </a:solidFill>
                <a:latin typeface="Arial"/>
              </a:rPr>
              <a:t>Clean Fusion with </a:t>
            </a:r>
            <a:r>
              <a:rPr b="0" lang="en-US" sz="3200" spc="-1" strike="noStrike" baseline="30000">
                <a:solidFill>
                  <a:srgbClr val="46a444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46a444"/>
                </a:solidFill>
                <a:latin typeface="Arial"/>
              </a:rPr>
              <a:t>He Ash, TSC-induced Nuclear Re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6a444"/>
                </a:solidFill>
                <a:latin typeface="Arial"/>
              </a:rPr>
              <a:t>including Selective Transmutation and Cleaner F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512-A7BF-4D20-A551-48ED11E2C0A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lusions (2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PlaceHolder 2"/>
          <p:cNvSpPr>
            <a:spLocks noGrp="1"/>
          </p:cNvSpPr>
          <p:nvPr>
            <p:ph/>
          </p:nvPr>
        </p:nvSpPr>
        <p:spPr>
          <a:xfrm>
            <a:off x="701280" y="1358640"/>
            <a:ext cx="7605720" cy="5165640"/>
          </a:xfrm>
          <a:prstGeom prst="rect">
            <a:avLst/>
          </a:prstGeom>
          <a:solidFill>
            <a:srgbClr val="f7f7a7"/>
          </a:solidFill>
          <a:ln w="9360">
            <a:solidFill>
              <a:srgbClr val="1910c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en-US" sz="3200" spc="-1" strike="noStrike">
                <a:solidFill>
                  <a:srgbClr val="1910c6"/>
                </a:solidFill>
                <a:latin typeface="Arial"/>
              </a:rPr>
              <a:t>Tetrahedral Symmetric Condensate (TS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proposed as </a:t>
            </a:r>
            <a:r>
              <a:rPr b="0" lang="en-US" sz="3200" spc="-1" strike="noStrike">
                <a:solidFill>
                  <a:srgbClr val="1910c6"/>
                </a:solidFill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ndensed Matter Nuclear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Further studies on TSC-induced nuclear effects are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 When principles of Clean Fusion, Cleaner Fission and Transmutation will be established, </a:t>
            </a:r>
            <a:r>
              <a:rPr b="0" lang="en-US" sz="3200" spc="-1" strike="noStrike">
                <a:solidFill>
                  <a:srgbClr val="1910c6"/>
                </a:solidFill>
                <a:latin typeface="Arial"/>
              </a:rPr>
              <a:t>application to portable energy sources and radioactive waste incineration is hop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D4C-8B68-42D7-A791-7868FE635C7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6" name=""/>
          <p:cNvSpPr/>
          <p:nvPr/>
        </p:nvSpPr>
        <p:spPr>
          <a:xfrm>
            <a:off x="927000" y="98280"/>
            <a:ext cx="7315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"/>
          <p:cNvSpPr/>
          <p:nvPr/>
        </p:nvSpPr>
        <p:spPr>
          <a:xfrm>
            <a:off x="927000" y="458640"/>
            <a:ext cx="7785360" cy="625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: Tetrahedral and octahedral resonance fusion under transient condensation of deuterons at lattice focal points, Proc. ICCF9, Beijing, 19-24 May 2002, pp.343-3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: Drastic enhancement of deuteron cluster fusion by transient electronic quasi-particle screening, Proc. JCF4, 17-18 October 2002, Iwate U, Japan, pp.74-78, 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cf.elc.iwate-u.ac.jp/jcf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, Y. Iwamura, S. Kuribayashi: Mass-8-and-charge-4 increased transmutation by octahedral resonance fusion model, ibid., pp.79-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: Mechanism of deuteron cluster fusion by EQPET model, Proc. ICCF10, August 2003, Boston USA, 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enr-canr.org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: Deuteron cluster fusion and ash, Proc. ASTI-5, March 19-21, 2004, Asti, Italy, 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iscmns.org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: Clean fusion by tetrahedral and octahedral symmetric condensations, Proc. JCF5, 15-16 December 2003, Kobe, Japan, pp.74-78, 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cf.elc.iwate-u.ac.jp/jcf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, M. Ohta, T. Mizuno: Production of stable isotopes by selective channel photo-fission of Pd, Jpn. J. Appl. Phys., Vol.40(2001)7031-704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. Ohta, A. Takahashi: Analysis of nuclear transmutation as secondary reactions of multi-body fusion, Proc. JCF5, 15-16 December 2003, Kobe, Japan, pp.79-84, 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cf.elc.iwate-u.ac.jp/jcf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: 3He/4He production ratios by tetrahedral symmetric condensation, to be presented at ICCF11, Nov. 1-5, 2004, Marsei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: Deuteron cluster fusion and related nuclear reactions in metal-deuterium/hydrogen systems, Recent Development of Physics, Transworld Research Network, June 2005, pp.1-28, ISBN=81-7895-17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: A theoretical summary of condensed matter nuclear effects, Proc. Int. Workshop on Anomalies in Deuterium/Hydrogen Loaded Metals, Siena,May 13-16, 2005, 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iscmns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SzPct val="114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. Takahashi: TSC-induced nuclear reactions and cold transmutations, ib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4D9-154B-40A8-9173-A133655B0F3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4:10:52Z</dcterms:created>
  <dc:creator>高橋亮人</dc:creator>
  <dc:description/>
  <dc:language>en-US</dc:language>
  <cp:lastModifiedBy>William</cp:lastModifiedBy>
  <dcterms:modified xsi:type="dcterms:W3CDTF">2005-05-25T18:18:57Z</dcterms:modified>
  <cp:revision>153</cp:revision>
  <dc:subject/>
  <dc:title>Condensed Matter Nuclear Effects</dc:title>
</cp:coreProperties>
</file>